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AC2-F429-4847-94B4-19170B5C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CCD-C0E1-49A6-AB4F-C5B65C8C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5B8-EBE1-4AC0-9142-3353436D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877-A7E3-4598-921C-83B6A58F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DAF2-0138-495A-8572-0055B394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5901-52AC-4948-82E5-B8C4ABEF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E781-B78F-4134-8C64-9AE265BB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3D4E-5960-4063-A2FE-7D3DDE71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3528-495C-4562-BD33-B0E25269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60E2-1430-42B7-A8D0-59229B88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0B0D-3DBE-4950-B0B1-FC29A673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D08-EC8F-4464-A67E-F8DF87EB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79E9-2754-4B47-96E7-9499131C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D823-89B8-4D8D-A819-1063E8A6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DCF8-99E8-45BC-998D-D8848908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1869-A1B7-43D8-9C61-28147927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5B17-C5E4-4049-A721-5E1D5552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308-2730-4945-A99B-A0EE013E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7E7-9600-4B77-A972-219C8E6D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597-0CAE-4778-8B0F-016EE5B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997-FF82-490F-9FDE-E8125EF3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339-C395-4F96-99CE-9AB369E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818-7582-45A6-9102-AF71C26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857-359E-49E3-8F00-449BC3B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BD70-3B88-41B6-9721-7455E72EFD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B649-7506-4F39-AE8A-97BE7520EF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Write each number below i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panded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ponential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) 806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) 92,400 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) 174,925 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d8d8e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74880" y="2143080"/>
            <a:ext cx="876240" cy="250920"/>
          </a:xfrm>
          <a:custGeom>
            <a:avLst/>
            <a:gdLst/>
            <a:ahLst/>
            <a:rect l="l" t="t" r="r" b="b"/>
            <a:pathLst>
              <a:path w="2432" h="696">
                <a:moveTo>
                  <a:pt x="5631" y="6028"/>
                </a:moveTo>
                <a:cubicBezTo>
                  <a:pt x="5590" y="5884"/>
                  <a:pt x="5441" y="5966"/>
                  <a:pt x="5333" y="6028"/>
                </a:cubicBezTo>
                <a:cubicBezTo>
                  <a:pt x="5052" y="6188"/>
                  <a:pt x="5350" y="6274"/>
                  <a:pt x="5482" y="6375"/>
                </a:cubicBezTo>
                <a:cubicBezTo>
                  <a:pt x="5571" y="6464"/>
                  <a:pt x="5604" y="6484"/>
                  <a:pt x="5581" y="6573"/>
                </a:cubicBezTo>
                <a:cubicBezTo>
                  <a:pt x="5530" y="6624"/>
                  <a:pt x="5512" y="6640"/>
                  <a:pt x="5457" y="6623"/>
                </a:cubicBezTo>
                <a:cubicBezTo>
                  <a:pt x="5296" y="6461"/>
                  <a:pt x="5461" y="6374"/>
                  <a:pt x="5556" y="6201"/>
                </a:cubicBezTo>
                <a:cubicBezTo>
                  <a:pt x="5573" y="6160"/>
                  <a:pt x="5589" y="6118"/>
                  <a:pt x="5606" y="6077"/>
                </a:cubicBezTo>
              </a:path>
              <a:path w="2432" h="696">
                <a:moveTo>
                  <a:pt x="6077" y="5978"/>
                </a:moveTo>
                <a:cubicBezTo>
                  <a:pt x="5927" y="5978"/>
                  <a:pt x="5840" y="6116"/>
                  <a:pt x="5779" y="6251"/>
                </a:cubicBezTo>
                <a:cubicBezTo>
                  <a:pt x="5735" y="6407"/>
                  <a:pt x="5715" y="6447"/>
                  <a:pt x="5755" y="6548"/>
                </a:cubicBezTo>
                <a:cubicBezTo>
                  <a:pt x="5958" y="6620"/>
                  <a:pt x="6227" y="6595"/>
                  <a:pt x="6325" y="6325"/>
                </a:cubicBezTo>
                <a:cubicBezTo>
                  <a:pt x="6386" y="6157"/>
                  <a:pt x="6249" y="6016"/>
                  <a:pt x="6102" y="5978"/>
                </a:cubicBezTo>
                <a:cubicBezTo>
                  <a:pt x="6085" y="5978"/>
                  <a:pt x="6069" y="5978"/>
                  <a:pt x="6052" y="5978"/>
                </a:cubicBezTo>
              </a:path>
              <a:path w="2432" h="696">
                <a:moveTo>
                  <a:pt x="6747" y="6052"/>
                </a:moveTo>
                <a:cubicBezTo>
                  <a:pt x="6663" y="5997"/>
                  <a:pt x="6565" y="5964"/>
                  <a:pt x="6474" y="6052"/>
                </a:cubicBezTo>
                <a:cubicBezTo>
                  <a:pt x="6338" y="6184"/>
                  <a:pt x="6297" y="6380"/>
                  <a:pt x="6375" y="6548"/>
                </a:cubicBezTo>
                <a:cubicBezTo>
                  <a:pt x="6475" y="6764"/>
                  <a:pt x="6697" y="6599"/>
                  <a:pt x="6821" y="6499"/>
                </a:cubicBezTo>
                <a:cubicBezTo>
                  <a:pt x="6940" y="6403"/>
                  <a:pt x="6871" y="6251"/>
                  <a:pt x="6772" y="6152"/>
                </a:cubicBezTo>
                <a:cubicBezTo>
                  <a:pt x="6715" y="6095"/>
                  <a:pt x="6644" y="6068"/>
                  <a:pt x="6573" y="6052"/>
                </a:cubicBezTo>
              </a:path>
              <a:path w="2432" h="696">
                <a:moveTo>
                  <a:pt x="7367" y="6127"/>
                </a:moveTo>
                <a:cubicBezTo>
                  <a:pt x="7373" y="6261"/>
                  <a:pt x="7382" y="6370"/>
                  <a:pt x="7367" y="6499"/>
                </a:cubicBezTo>
              </a:path>
              <a:path w="2432" h="696">
                <a:moveTo>
                  <a:pt x="7144" y="6325"/>
                </a:moveTo>
                <a:cubicBezTo>
                  <a:pt x="7302" y="6298"/>
                  <a:pt x="7454" y="6300"/>
                  <a:pt x="7615" y="6300"/>
                </a:cubicBezTo>
                <a:cubicBezTo>
                  <a:pt x="7623" y="6300"/>
                  <a:pt x="7632" y="6300"/>
                  <a:pt x="7640" y="6300"/>
                </a:cubicBezTo>
              </a:path>
              <a:path w="2432" h="696">
                <a:moveTo>
                  <a:pt x="6028" y="6276"/>
                </a:moveTo>
                <a:lnTo>
                  <a:pt x="6028" y="6276"/>
                </a:lnTo>
              </a:path>
              <a:path w="2432" h="696">
                <a:moveTo>
                  <a:pt x="6648" y="6325"/>
                </a:moveTo>
                <a:lnTo>
                  <a:pt x="6648" y="63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4040" y="2098800"/>
            <a:ext cx="214200" cy="26820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8260" y="5829"/>
                </a:moveTo>
                <a:cubicBezTo>
                  <a:pt x="8163" y="5991"/>
                  <a:pt x="8064" y="6134"/>
                  <a:pt x="8037" y="6325"/>
                </a:cubicBezTo>
                <a:cubicBezTo>
                  <a:pt x="8018" y="6455"/>
                  <a:pt x="8077" y="6546"/>
                  <a:pt x="8210" y="6573"/>
                </a:cubicBezTo>
                <a:cubicBezTo>
                  <a:pt x="8302" y="6592"/>
                  <a:pt x="8548" y="6562"/>
                  <a:pt x="8607" y="6474"/>
                </a:cubicBezTo>
                <a:cubicBezTo>
                  <a:pt x="8668" y="6382"/>
                  <a:pt x="8632" y="6359"/>
                  <a:pt x="8582" y="6300"/>
                </a:cubicBezTo>
                <a:cubicBezTo>
                  <a:pt x="8486" y="6324"/>
                  <a:pt x="8413" y="6393"/>
                  <a:pt x="8384" y="6499"/>
                </a:cubicBezTo>
                <a:cubicBezTo>
                  <a:pt x="8384" y="6543"/>
                  <a:pt x="8381" y="6557"/>
                  <a:pt x="8409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3120" y="2509920"/>
            <a:ext cx="2206800" cy="419040"/>
          </a:xfrm>
          <a:custGeom>
            <a:avLst/>
            <a:gdLst/>
            <a:ahLst/>
            <a:rect l="l" t="t" r="r" b="b"/>
            <a:pathLst>
              <a:path w="6128" h="1167">
                <a:moveTo>
                  <a:pt x="4390" y="7317"/>
                </a:moveTo>
                <a:cubicBezTo>
                  <a:pt x="4190" y="7508"/>
                  <a:pt x="4074" y="7645"/>
                  <a:pt x="4093" y="7938"/>
                </a:cubicBezTo>
                <a:cubicBezTo>
                  <a:pt x="4114" y="8022"/>
                  <a:pt x="4115" y="8040"/>
                  <a:pt x="4142" y="8086"/>
                </a:cubicBezTo>
              </a:path>
              <a:path w="6128" h="1167">
                <a:moveTo>
                  <a:pt x="4812" y="7491"/>
                </a:moveTo>
                <a:cubicBezTo>
                  <a:pt x="4644" y="7445"/>
                  <a:pt x="4562" y="7463"/>
                  <a:pt x="4415" y="7541"/>
                </a:cubicBezTo>
                <a:cubicBezTo>
                  <a:pt x="4415" y="7708"/>
                  <a:pt x="4580" y="7706"/>
                  <a:pt x="4638" y="7863"/>
                </a:cubicBezTo>
                <a:cubicBezTo>
                  <a:pt x="4697" y="8022"/>
                  <a:pt x="4524" y="8023"/>
                  <a:pt x="4440" y="7987"/>
                </a:cubicBezTo>
                <a:cubicBezTo>
                  <a:pt x="4510" y="7817"/>
                  <a:pt x="4652" y="7741"/>
                  <a:pt x="4738" y="7590"/>
                </a:cubicBezTo>
                <a:cubicBezTo>
                  <a:pt x="4738" y="7574"/>
                  <a:pt x="4738" y="7557"/>
                  <a:pt x="4738" y="7541"/>
                </a:cubicBezTo>
              </a:path>
              <a:path w="6128" h="1167">
                <a:moveTo>
                  <a:pt x="5011" y="7541"/>
                </a:moveTo>
                <a:cubicBezTo>
                  <a:pt x="5074" y="7656"/>
                  <a:pt x="5130" y="7758"/>
                  <a:pt x="5159" y="7888"/>
                </a:cubicBezTo>
                <a:cubicBezTo>
                  <a:pt x="5159" y="7896"/>
                  <a:pt x="5159" y="7905"/>
                  <a:pt x="5159" y="7913"/>
                </a:cubicBezTo>
              </a:path>
              <a:path w="6128" h="1167">
                <a:moveTo>
                  <a:pt x="5234" y="7516"/>
                </a:moveTo>
                <a:cubicBezTo>
                  <a:pt x="5146" y="7637"/>
                  <a:pt x="5071" y="7768"/>
                  <a:pt x="4986" y="7888"/>
                </a:cubicBezTo>
              </a:path>
              <a:path w="6128" h="1167">
                <a:moveTo>
                  <a:pt x="5531" y="7516"/>
                </a:moveTo>
                <a:cubicBezTo>
                  <a:pt x="5523" y="7695"/>
                  <a:pt x="5496" y="7862"/>
                  <a:pt x="5457" y="8037"/>
                </a:cubicBezTo>
              </a:path>
              <a:path w="6128" h="1167">
                <a:moveTo>
                  <a:pt x="5854" y="7615"/>
                </a:moveTo>
                <a:cubicBezTo>
                  <a:pt x="5770" y="7747"/>
                  <a:pt x="5608" y="7914"/>
                  <a:pt x="5705" y="8086"/>
                </a:cubicBezTo>
                <a:cubicBezTo>
                  <a:pt x="5782" y="8224"/>
                  <a:pt x="6005" y="8107"/>
                  <a:pt x="6052" y="8012"/>
                </a:cubicBezTo>
                <a:cubicBezTo>
                  <a:pt x="6115" y="7886"/>
                  <a:pt x="6110" y="7777"/>
                  <a:pt x="6003" y="7689"/>
                </a:cubicBezTo>
                <a:cubicBezTo>
                  <a:pt x="5933" y="7632"/>
                  <a:pt x="5909" y="7640"/>
                  <a:pt x="5829" y="7640"/>
                </a:cubicBezTo>
              </a:path>
              <a:path w="6128" h="1167">
                <a:moveTo>
                  <a:pt x="6201" y="7243"/>
                </a:moveTo>
                <a:cubicBezTo>
                  <a:pt x="6235" y="7238"/>
                  <a:pt x="6467" y="7232"/>
                  <a:pt x="6375" y="7367"/>
                </a:cubicBezTo>
                <a:cubicBezTo>
                  <a:pt x="6303" y="7473"/>
                  <a:pt x="6166" y="7446"/>
                  <a:pt x="6102" y="7392"/>
                </a:cubicBezTo>
                <a:cubicBezTo>
                  <a:pt x="6185" y="7398"/>
                  <a:pt x="6247" y="7410"/>
                  <a:pt x="6325" y="7441"/>
                </a:cubicBezTo>
              </a:path>
              <a:path w="6128" h="1167">
                <a:moveTo>
                  <a:pt x="6573" y="7119"/>
                </a:moveTo>
                <a:cubicBezTo>
                  <a:pt x="6682" y="7276"/>
                  <a:pt x="6772" y="7412"/>
                  <a:pt x="6772" y="7615"/>
                </a:cubicBezTo>
                <a:cubicBezTo>
                  <a:pt x="6772" y="7798"/>
                  <a:pt x="6740" y="7989"/>
                  <a:pt x="6573" y="8086"/>
                </a:cubicBezTo>
                <a:cubicBezTo>
                  <a:pt x="6565" y="8086"/>
                  <a:pt x="6556" y="8086"/>
                  <a:pt x="6548" y="8086"/>
                </a:cubicBezTo>
              </a:path>
              <a:path w="6128" h="1167">
                <a:moveTo>
                  <a:pt x="7317" y="7516"/>
                </a:moveTo>
                <a:cubicBezTo>
                  <a:pt x="7295" y="7616"/>
                  <a:pt x="7277" y="7712"/>
                  <a:pt x="7268" y="7813"/>
                </a:cubicBezTo>
              </a:path>
              <a:path w="6128" h="1167">
                <a:moveTo>
                  <a:pt x="7069" y="7640"/>
                </a:moveTo>
                <a:cubicBezTo>
                  <a:pt x="7185" y="7640"/>
                  <a:pt x="7301" y="7640"/>
                  <a:pt x="7417" y="7640"/>
                </a:cubicBezTo>
              </a:path>
              <a:path w="6128" h="1167">
                <a:moveTo>
                  <a:pt x="8086" y="7243"/>
                </a:moveTo>
                <a:cubicBezTo>
                  <a:pt x="8015" y="7170"/>
                  <a:pt x="7896" y="7435"/>
                  <a:pt x="7863" y="7491"/>
                </a:cubicBezTo>
                <a:cubicBezTo>
                  <a:pt x="7774" y="7645"/>
                  <a:pt x="7622" y="7868"/>
                  <a:pt x="7764" y="8037"/>
                </a:cubicBezTo>
                <a:cubicBezTo>
                  <a:pt x="7820" y="8074"/>
                  <a:pt x="7824" y="8091"/>
                  <a:pt x="7863" y="8086"/>
                </a:cubicBezTo>
              </a:path>
              <a:path w="6128" h="1167">
                <a:moveTo>
                  <a:pt x="8136" y="7441"/>
                </a:moveTo>
                <a:cubicBezTo>
                  <a:pt x="8069" y="7589"/>
                  <a:pt x="7964" y="7710"/>
                  <a:pt x="7913" y="7863"/>
                </a:cubicBezTo>
                <a:cubicBezTo>
                  <a:pt x="7913" y="7905"/>
                  <a:pt x="7913" y="7913"/>
                  <a:pt x="7913" y="7938"/>
                </a:cubicBezTo>
                <a:cubicBezTo>
                  <a:pt x="8049" y="7961"/>
                  <a:pt x="8229" y="7998"/>
                  <a:pt x="8310" y="7838"/>
                </a:cubicBezTo>
                <a:cubicBezTo>
                  <a:pt x="8310" y="7813"/>
                  <a:pt x="8310" y="7789"/>
                  <a:pt x="8310" y="7764"/>
                </a:cubicBezTo>
                <a:cubicBezTo>
                  <a:pt x="8119" y="7752"/>
                  <a:pt x="8079" y="7792"/>
                  <a:pt x="8037" y="7987"/>
                </a:cubicBezTo>
              </a:path>
              <a:path w="6128" h="1167">
                <a:moveTo>
                  <a:pt x="8607" y="7590"/>
                </a:moveTo>
                <a:cubicBezTo>
                  <a:pt x="8667" y="7698"/>
                  <a:pt x="8720" y="7806"/>
                  <a:pt x="8781" y="7913"/>
                </a:cubicBezTo>
              </a:path>
              <a:path w="6128" h="1167">
                <a:moveTo>
                  <a:pt x="8930" y="7516"/>
                </a:moveTo>
                <a:cubicBezTo>
                  <a:pt x="8795" y="7639"/>
                  <a:pt x="8704" y="7798"/>
                  <a:pt x="8582" y="7938"/>
                </a:cubicBezTo>
              </a:path>
              <a:path w="6128" h="1167">
                <a:moveTo>
                  <a:pt x="9103" y="7491"/>
                </a:moveTo>
                <a:cubicBezTo>
                  <a:pt x="9040" y="7620"/>
                  <a:pt x="9052" y="7775"/>
                  <a:pt x="9004" y="7913"/>
                </a:cubicBezTo>
                <a:cubicBezTo>
                  <a:pt x="8996" y="7921"/>
                  <a:pt x="8987" y="7930"/>
                  <a:pt x="8979" y="7938"/>
                </a:cubicBezTo>
              </a:path>
              <a:path w="6128" h="1167">
                <a:moveTo>
                  <a:pt x="9426" y="7516"/>
                </a:moveTo>
                <a:cubicBezTo>
                  <a:pt x="9335" y="7607"/>
                  <a:pt x="9206" y="7811"/>
                  <a:pt x="9227" y="7962"/>
                </a:cubicBezTo>
                <a:cubicBezTo>
                  <a:pt x="9244" y="7987"/>
                  <a:pt x="9260" y="8012"/>
                  <a:pt x="9277" y="8037"/>
                </a:cubicBezTo>
                <a:cubicBezTo>
                  <a:pt x="9464" y="8051"/>
                  <a:pt x="9610" y="7982"/>
                  <a:pt x="9624" y="7764"/>
                </a:cubicBezTo>
                <a:cubicBezTo>
                  <a:pt x="9634" y="7602"/>
                  <a:pt x="9533" y="7542"/>
                  <a:pt x="9401" y="7516"/>
                </a:cubicBezTo>
              </a:path>
              <a:path w="6128" h="1167">
                <a:moveTo>
                  <a:pt x="9823" y="7243"/>
                </a:moveTo>
                <a:cubicBezTo>
                  <a:pt x="9776" y="7223"/>
                  <a:pt x="9674" y="7194"/>
                  <a:pt x="9674" y="7293"/>
                </a:cubicBezTo>
                <a:cubicBezTo>
                  <a:pt x="9682" y="7309"/>
                  <a:pt x="9691" y="7326"/>
                  <a:pt x="9699" y="7342"/>
                </a:cubicBezTo>
                <a:cubicBezTo>
                  <a:pt x="9849" y="7373"/>
                  <a:pt x="9900" y="7334"/>
                  <a:pt x="9798" y="7218"/>
                </a:cubicBezTo>
              </a:path>
              <a:path w="6128" h="1167">
                <a:moveTo>
                  <a:pt x="9897" y="6970"/>
                </a:moveTo>
                <a:cubicBezTo>
                  <a:pt x="10028" y="6996"/>
                  <a:pt x="10125" y="7179"/>
                  <a:pt x="10170" y="7293"/>
                </a:cubicBezTo>
                <a:cubicBezTo>
                  <a:pt x="10262" y="7525"/>
                  <a:pt x="10215" y="7787"/>
                  <a:pt x="10071" y="7987"/>
                </a:cubicBezTo>
                <a:cubicBezTo>
                  <a:pt x="10017" y="8061"/>
                  <a:pt x="9973" y="8092"/>
                  <a:pt x="9897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11240" y="3537000"/>
            <a:ext cx="393840" cy="293760"/>
          </a:xfrm>
          <a:custGeom>
            <a:avLst/>
            <a:gdLst/>
            <a:ahLst/>
            <a:rect l="l" t="t" r="r" b="b"/>
            <a:pathLst>
              <a:path w="1093" h="819">
                <a:moveTo>
                  <a:pt x="5779" y="10145"/>
                </a:moveTo>
                <a:cubicBezTo>
                  <a:pt x="5788" y="10054"/>
                  <a:pt x="5835" y="9913"/>
                  <a:pt x="5730" y="9847"/>
                </a:cubicBezTo>
                <a:cubicBezTo>
                  <a:pt x="5596" y="9763"/>
                  <a:pt x="5243" y="9941"/>
                  <a:pt x="5308" y="10120"/>
                </a:cubicBezTo>
                <a:cubicBezTo>
                  <a:pt x="5382" y="10324"/>
                  <a:pt x="5651" y="10007"/>
                  <a:pt x="5705" y="9947"/>
                </a:cubicBezTo>
                <a:cubicBezTo>
                  <a:pt x="5715" y="10072"/>
                  <a:pt x="5725" y="10193"/>
                  <a:pt x="5730" y="10319"/>
                </a:cubicBezTo>
              </a:path>
              <a:path w="1093" h="819">
                <a:moveTo>
                  <a:pt x="6003" y="9823"/>
                </a:moveTo>
                <a:cubicBezTo>
                  <a:pt x="5839" y="10013"/>
                  <a:pt x="5839" y="10130"/>
                  <a:pt x="5904" y="10368"/>
                </a:cubicBezTo>
                <a:cubicBezTo>
                  <a:pt x="6226" y="10274"/>
                  <a:pt x="6357" y="9970"/>
                  <a:pt x="5953" y="9897"/>
                </a:cubicBezTo>
              </a:path>
              <a:path w="1093" h="819">
                <a:moveTo>
                  <a:pt x="6400" y="10592"/>
                </a:moveTo>
                <a:cubicBezTo>
                  <a:pt x="6392" y="10608"/>
                  <a:pt x="6383" y="10625"/>
                  <a:pt x="6375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8920" y="3510000"/>
            <a:ext cx="679320" cy="222120"/>
          </a:xfrm>
          <a:custGeom>
            <a:avLst/>
            <a:gdLst/>
            <a:ahLst/>
            <a:rect l="l" t="t" r="r" b="b"/>
            <a:pathLst>
              <a:path w="1886" h="621">
                <a:moveTo>
                  <a:pt x="6871" y="9947"/>
                </a:moveTo>
                <a:cubicBezTo>
                  <a:pt x="6689" y="9996"/>
                  <a:pt x="6747" y="10121"/>
                  <a:pt x="6772" y="10294"/>
                </a:cubicBezTo>
                <a:cubicBezTo>
                  <a:pt x="6903" y="10335"/>
                  <a:pt x="7358" y="10293"/>
                  <a:pt x="7119" y="10021"/>
                </a:cubicBezTo>
                <a:cubicBezTo>
                  <a:pt x="6972" y="9972"/>
                  <a:pt x="6924" y="9955"/>
                  <a:pt x="6821" y="9996"/>
                </a:cubicBezTo>
              </a:path>
              <a:path w="1886" h="621">
                <a:moveTo>
                  <a:pt x="7392" y="9847"/>
                </a:moveTo>
                <a:cubicBezTo>
                  <a:pt x="7199" y="9990"/>
                  <a:pt x="7205" y="9985"/>
                  <a:pt x="7169" y="10220"/>
                </a:cubicBezTo>
                <a:cubicBezTo>
                  <a:pt x="7378" y="10296"/>
                  <a:pt x="7684" y="10291"/>
                  <a:pt x="7640" y="9947"/>
                </a:cubicBezTo>
                <a:cubicBezTo>
                  <a:pt x="7615" y="9753"/>
                  <a:pt x="7408" y="9866"/>
                  <a:pt x="7317" y="9897"/>
                </a:cubicBezTo>
              </a:path>
              <a:path w="1886" h="621">
                <a:moveTo>
                  <a:pt x="7888" y="9748"/>
                </a:moveTo>
                <a:cubicBezTo>
                  <a:pt x="7679" y="9874"/>
                  <a:pt x="7684" y="9884"/>
                  <a:pt x="7640" y="10120"/>
                </a:cubicBezTo>
                <a:cubicBezTo>
                  <a:pt x="7781" y="10233"/>
                  <a:pt x="8207" y="10393"/>
                  <a:pt x="8161" y="9996"/>
                </a:cubicBezTo>
                <a:cubicBezTo>
                  <a:pt x="8065" y="9828"/>
                  <a:pt x="8038" y="9772"/>
                  <a:pt x="7888" y="9773"/>
                </a:cubicBezTo>
              </a:path>
              <a:path w="1886" h="621">
                <a:moveTo>
                  <a:pt x="8434" y="9773"/>
                </a:moveTo>
                <a:cubicBezTo>
                  <a:pt x="8463" y="9913"/>
                  <a:pt x="8485" y="10054"/>
                  <a:pt x="8508" y="10195"/>
                </a:cubicBezTo>
              </a:path>
              <a:path w="1886" h="621">
                <a:moveTo>
                  <a:pt x="8384" y="9971"/>
                </a:moveTo>
                <a:cubicBezTo>
                  <a:pt x="8467" y="9963"/>
                  <a:pt x="8549" y="9955"/>
                  <a:pt x="8632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59080" y="3537000"/>
            <a:ext cx="1054080" cy="268200"/>
          </a:xfrm>
          <a:custGeom>
            <a:avLst/>
            <a:gdLst/>
            <a:ahLst/>
            <a:rect l="l" t="t" r="r" b="b"/>
            <a:pathLst>
              <a:path w="2928" h="745">
                <a:moveTo>
                  <a:pt x="9079" y="9823"/>
                </a:moveTo>
                <a:cubicBezTo>
                  <a:pt x="9275" y="9833"/>
                  <a:pt x="9590" y="9878"/>
                  <a:pt x="9550" y="10170"/>
                </a:cubicBezTo>
                <a:cubicBezTo>
                  <a:pt x="9504" y="10502"/>
                  <a:pt x="9149" y="10382"/>
                  <a:pt x="9054" y="10244"/>
                </a:cubicBezTo>
                <a:cubicBezTo>
                  <a:pt x="9289" y="10166"/>
                  <a:pt x="9426" y="10136"/>
                  <a:pt x="9550" y="10368"/>
                </a:cubicBezTo>
              </a:path>
              <a:path w="2928" h="745">
                <a:moveTo>
                  <a:pt x="9823" y="10418"/>
                </a:moveTo>
                <a:cubicBezTo>
                  <a:pt x="9823" y="10509"/>
                  <a:pt x="9823" y="10517"/>
                  <a:pt x="9823" y="10567"/>
                </a:cubicBezTo>
              </a:path>
              <a:path w="2928" h="745">
                <a:moveTo>
                  <a:pt x="10046" y="9947"/>
                </a:moveTo>
                <a:cubicBezTo>
                  <a:pt x="9926" y="10007"/>
                  <a:pt x="9654" y="10253"/>
                  <a:pt x="9897" y="10393"/>
                </a:cubicBezTo>
                <a:cubicBezTo>
                  <a:pt x="10093" y="10506"/>
                  <a:pt x="10234" y="10275"/>
                  <a:pt x="10319" y="10170"/>
                </a:cubicBezTo>
                <a:cubicBezTo>
                  <a:pt x="10242" y="10017"/>
                  <a:pt x="10213" y="9966"/>
                  <a:pt x="10071" y="9971"/>
                </a:cubicBezTo>
              </a:path>
              <a:path w="2928" h="745">
                <a:moveTo>
                  <a:pt x="10492" y="9897"/>
                </a:moveTo>
                <a:cubicBezTo>
                  <a:pt x="10398" y="10025"/>
                  <a:pt x="10268" y="10305"/>
                  <a:pt x="10542" y="10368"/>
                </a:cubicBezTo>
                <a:cubicBezTo>
                  <a:pt x="10777" y="10422"/>
                  <a:pt x="11075" y="10040"/>
                  <a:pt x="10790" y="9922"/>
                </a:cubicBezTo>
                <a:cubicBezTo>
                  <a:pt x="10740" y="9930"/>
                  <a:pt x="10691" y="9939"/>
                  <a:pt x="10641" y="9947"/>
                </a:cubicBezTo>
              </a:path>
              <a:path w="2928" h="745">
                <a:moveTo>
                  <a:pt x="11237" y="9823"/>
                </a:moveTo>
                <a:cubicBezTo>
                  <a:pt x="11008" y="9975"/>
                  <a:pt x="10990" y="10009"/>
                  <a:pt x="10914" y="10269"/>
                </a:cubicBezTo>
                <a:cubicBezTo>
                  <a:pt x="11098" y="10341"/>
                  <a:pt x="11602" y="10448"/>
                  <a:pt x="11559" y="10046"/>
                </a:cubicBezTo>
                <a:cubicBezTo>
                  <a:pt x="11456" y="9891"/>
                  <a:pt x="11417" y="9842"/>
                  <a:pt x="11261" y="9897"/>
                </a:cubicBezTo>
              </a:path>
              <a:path w="2928" h="745">
                <a:moveTo>
                  <a:pt x="11782" y="9897"/>
                </a:moveTo>
                <a:cubicBezTo>
                  <a:pt x="11857" y="10005"/>
                  <a:pt x="11916" y="10126"/>
                  <a:pt x="11981" y="10244"/>
                </a:cubicBezTo>
              </a:path>
              <a:path w="2928" h="745">
                <a:moveTo>
                  <a:pt x="11683" y="10096"/>
                </a:moveTo>
                <a:cubicBezTo>
                  <a:pt x="11741" y="10088"/>
                  <a:pt x="11799" y="10079"/>
                  <a:pt x="1185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27720" y="3517920"/>
            <a:ext cx="517320" cy="233280"/>
          </a:xfrm>
          <a:custGeom>
            <a:avLst/>
            <a:gdLst/>
            <a:ahLst/>
            <a:rect l="l" t="t" r="r" b="b"/>
            <a:pathLst>
              <a:path w="1440" h="646">
                <a:moveTo>
                  <a:pt x="12576" y="9947"/>
                </a:moveTo>
                <a:cubicBezTo>
                  <a:pt x="12597" y="10031"/>
                  <a:pt x="12612" y="10050"/>
                  <a:pt x="12576" y="10096"/>
                </a:cubicBezTo>
                <a:cubicBezTo>
                  <a:pt x="12707" y="10096"/>
                  <a:pt x="12822" y="10096"/>
                  <a:pt x="12948" y="10071"/>
                </a:cubicBezTo>
              </a:path>
              <a:path w="1440" h="646">
                <a:moveTo>
                  <a:pt x="12824" y="9773"/>
                </a:moveTo>
                <a:cubicBezTo>
                  <a:pt x="12795" y="9966"/>
                  <a:pt x="12786" y="10126"/>
                  <a:pt x="12799" y="10319"/>
                </a:cubicBezTo>
              </a:path>
              <a:path w="1440" h="646">
                <a:moveTo>
                  <a:pt x="13122" y="9798"/>
                </a:moveTo>
                <a:cubicBezTo>
                  <a:pt x="13022" y="9955"/>
                  <a:pt x="12795" y="10285"/>
                  <a:pt x="13072" y="10418"/>
                </a:cubicBezTo>
                <a:cubicBezTo>
                  <a:pt x="13370" y="10561"/>
                  <a:pt x="13582" y="10134"/>
                  <a:pt x="13395" y="9922"/>
                </a:cubicBezTo>
                <a:cubicBezTo>
                  <a:pt x="13265" y="9857"/>
                  <a:pt x="13236" y="9826"/>
                  <a:pt x="13146" y="9872"/>
                </a:cubicBezTo>
              </a:path>
              <a:path w="1440" h="646">
                <a:moveTo>
                  <a:pt x="13667" y="9823"/>
                </a:moveTo>
                <a:cubicBezTo>
                  <a:pt x="13498" y="9912"/>
                  <a:pt x="13364" y="10126"/>
                  <a:pt x="13543" y="10319"/>
                </a:cubicBezTo>
                <a:cubicBezTo>
                  <a:pt x="13719" y="10509"/>
                  <a:pt x="14134" y="10247"/>
                  <a:pt x="14015" y="10021"/>
                </a:cubicBezTo>
                <a:cubicBezTo>
                  <a:pt x="13856" y="9942"/>
                  <a:pt x="13796" y="9917"/>
                  <a:pt x="13667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70000" y="3938760"/>
            <a:ext cx="946080" cy="455400"/>
          </a:xfrm>
          <a:custGeom>
            <a:avLst/>
            <a:gdLst/>
            <a:ahLst/>
            <a:rect l="l" t="t" r="r" b="b"/>
            <a:pathLst>
              <a:path w="2631" h="1266">
                <a:moveTo>
                  <a:pt x="3423" y="11286"/>
                </a:moveTo>
                <a:cubicBezTo>
                  <a:pt x="3329" y="11526"/>
                  <a:pt x="3192" y="11791"/>
                  <a:pt x="3274" y="12055"/>
                </a:cubicBezTo>
                <a:cubicBezTo>
                  <a:pt x="3307" y="12163"/>
                  <a:pt x="3401" y="12189"/>
                  <a:pt x="3473" y="12179"/>
                </a:cubicBezTo>
              </a:path>
              <a:path w="2631" h="1266">
                <a:moveTo>
                  <a:pt x="3870" y="11584"/>
                </a:moveTo>
                <a:cubicBezTo>
                  <a:pt x="3796" y="11469"/>
                  <a:pt x="3718" y="11349"/>
                  <a:pt x="3597" y="11509"/>
                </a:cubicBezTo>
                <a:cubicBezTo>
                  <a:pt x="3580" y="11542"/>
                  <a:pt x="3564" y="11576"/>
                  <a:pt x="3547" y="11609"/>
                </a:cubicBezTo>
                <a:cubicBezTo>
                  <a:pt x="3655" y="11661"/>
                  <a:pt x="3731" y="11333"/>
                  <a:pt x="3795" y="11435"/>
                </a:cubicBezTo>
                <a:cubicBezTo>
                  <a:pt x="3869" y="11553"/>
                  <a:pt x="3820" y="11820"/>
                  <a:pt x="3820" y="11956"/>
                </a:cubicBezTo>
              </a:path>
              <a:path w="2631" h="1266">
                <a:moveTo>
                  <a:pt x="4093" y="11559"/>
                </a:moveTo>
                <a:cubicBezTo>
                  <a:pt x="4157" y="11673"/>
                  <a:pt x="4221" y="11772"/>
                  <a:pt x="4291" y="11881"/>
                </a:cubicBezTo>
              </a:path>
              <a:path w="2631" h="1266">
                <a:moveTo>
                  <a:pt x="4266" y="11509"/>
                </a:moveTo>
                <a:cubicBezTo>
                  <a:pt x="4184" y="11674"/>
                  <a:pt x="4101" y="11840"/>
                  <a:pt x="4018" y="12005"/>
                </a:cubicBezTo>
              </a:path>
              <a:path w="2631" h="1266">
                <a:moveTo>
                  <a:pt x="4490" y="11485"/>
                </a:moveTo>
                <a:cubicBezTo>
                  <a:pt x="4519" y="11656"/>
                  <a:pt x="4514" y="11829"/>
                  <a:pt x="4514" y="12005"/>
                </a:cubicBezTo>
              </a:path>
              <a:path w="2631" h="1266">
                <a:moveTo>
                  <a:pt x="4812" y="11584"/>
                </a:moveTo>
                <a:cubicBezTo>
                  <a:pt x="4741" y="11796"/>
                  <a:pt x="4708" y="11887"/>
                  <a:pt x="4862" y="12055"/>
                </a:cubicBezTo>
                <a:cubicBezTo>
                  <a:pt x="4996" y="11949"/>
                  <a:pt x="5244" y="11723"/>
                  <a:pt x="4986" y="11559"/>
                </a:cubicBezTo>
                <a:cubicBezTo>
                  <a:pt x="4953" y="11559"/>
                  <a:pt x="4920" y="11559"/>
                  <a:pt x="4887" y="11559"/>
                </a:cubicBezTo>
              </a:path>
              <a:path w="2631" h="1266">
                <a:moveTo>
                  <a:pt x="5308" y="11137"/>
                </a:moveTo>
                <a:cubicBezTo>
                  <a:pt x="5248" y="11315"/>
                  <a:pt x="5345" y="11279"/>
                  <a:pt x="5482" y="11237"/>
                </a:cubicBezTo>
              </a:path>
              <a:path w="2631" h="1266">
                <a:moveTo>
                  <a:pt x="5482" y="11112"/>
                </a:moveTo>
                <a:cubicBezTo>
                  <a:pt x="5461" y="11256"/>
                  <a:pt x="5457" y="11387"/>
                  <a:pt x="5457" y="11534"/>
                </a:cubicBezTo>
              </a:path>
              <a:path w="2631" h="1266">
                <a:moveTo>
                  <a:pt x="5581" y="10939"/>
                </a:moveTo>
                <a:cubicBezTo>
                  <a:pt x="5783" y="11165"/>
                  <a:pt x="5984" y="11530"/>
                  <a:pt x="5854" y="11857"/>
                </a:cubicBezTo>
                <a:cubicBezTo>
                  <a:pt x="5804" y="11906"/>
                  <a:pt x="5755" y="11956"/>
                  <a:pt x="5705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95360" y="4089240"/>
            <a:ext cx="71640" cy="142920"/>
          </a:xfrm>
          <a:custGeom>
            <a:avLst/>
            <a:gdLst/>
            <a:ahLst/>
            <a:rect l="l" t="t" r="r" b="b"/>
            <a:pathLst>
              <a:path w="199" h="397">
                <a:moveTo>
                  <a:pt x="6400" y="11361"/>
                </a:moveTo>
                <a:cubicBezTo>
                  <a:pt x="6406" y="11494"/>
                  <a:pt x="6417" y="11624"/>
                  <a:pt x="6424" y="11757"/>
                </a:cubicBezTo>
              </a:path>
              <a:path w="199" h="397">
                <a:moveTo>
                  <a:pt x="6375" y="11559"/>
                </a:moveTo>
                <a:cubicBezTo>
                  <a:pt x="6441" y="11542"/>
                  <a:pt x="6507" y="11526"/>
                  <a:pt x="6573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2920" y="3911760"/>
            <a:ext cx="982440" cy="446040"/>
          </a:xfrm>
          <a:custGeom>
            <a:avLst/>
            <a:gdLst/>
            <a:ahLst/>
            <a:rect l="l" t="t" r="r" b="b"/>
            <a:pathLst>
              <a:path w="2729" h="1242">
                <a:moveTo>
                  <a:pt x="7045" y="11162"/>
                </a:moveTo>
                <a:cubicBezTo>
                  <a:pt x="6935" y="11429"/>
                  <a:pt x="6781" y="11782"/>
                  <a:pt x="6995" y="12055"/>
                </a:cubicBezTo>
                <a:cubicBezTo>
                  <a:pt x="7028" y="12072"/>
                  <a:pt x="7061" y="12088"/>
                  <a:pt x="7094" y="12105"/>
                </a:cubicBezTo>
              </a:path>
              <a:path w="2729" h="1242">
                <a:moveTo>
                  <a:pt x="7342" y="11485"/>
                </a:moveTo>
                <a:cubicBezTo>
                  <a:pt x="7459" y="11446"/>
                  <a:pt x="7650" y="11543"/>
                  <a:pt x="7640" y="11708"/>
                </a:cubicBezTo>
                <a:cubicBezTo>
                  <a:pt x="7627" y="11930"/>
                  <a:pt x="7435" y="11924"/>
                  <a:pt x="7293" y="11931"/>
                </a:cubicBezTo>
                <a:cubicBezTo>
                  <a:pt x="7326" y="11715"/>
                  <a:pt x="7479" y="11717"/>
                  <a:pt x="7665" y="11832"/>
                </a:cubicBezTo>
                <a:cubicBezTo>
                  <a:pt x="7698" y="11857"/>
                  <a:pt x="7731" y="11881"/>
                  <a:pt x="7764" y="11906"/>
                </a:cubicBezTo>
              </a:path>
              <a:path w="2729" h="1242">
                <a:moveTo>
                  <a:pt x="7962" y="11509"/>
                </a:moveTo>
                <a:cubicBezTo>
                  <a:pt x="8057" y="11637"/>
                  <a:pt x="8148" y="11744"/>
                  <a:pt x="8260" y="11857"/>
                </a:cubicBezTo>
              </a:path>
              <a:path w="2729" h="1242">
                <a:moveTo>
                  <a:pt x="8136" y="11460"/>
                </a:moveTo>
                <a:cubicBezTo>
                  <a:pt x="8039" y="11610"/>
                  <a:pt x="7965" y="11745"/>
                  <a:pt x="7888" y="11906"/>
                </a:cubicBezTo>
              </a:path>
              <a:path w="2729" h="1242">
                <a:moveTo>
                  <a:pt x="8533" y="11485"/>
                </a:moveTo>
                <a:cubicBezTo>
                  <a:pt x="8549" y="11653"/>
                  <a:pt x="8558" y="11812"/>
                  <a:pt x="8558" y="11981"/>
                </a:cubicBezTo>
              </a:path>
              <a:path w="2729" h="1242">
                <a:moveTo>
                  <a:pt x="8855" y="11559"/>
                </a:moveTo>
                <a:cubicBezTo>
                  <a:pt x="8788" y="11762"/>
                  <a:pt x="8766" y="11786"/>
                  <a:pt x="8830" y="11981"/>
                </a:cubicBezTo>
                <a:cubicBezTo>
                  <a:pt x="9027" y="11938"/>
                  <a:pt x="9342" y="11738"/>
                  <a:pt x="9029" y="11534"/>
                </a:cubicBezTo>
                <a:cubicBezTo>
                  <a:pt x="8979" y="11526"/>
                  <a:pt x="8930" y="11517"/>
                  <a:pt x="8880" y="11509"/>
                </a:cubicBezTo>
              </a:path>
              <a:path w="2729" h="1242">
                <a:moveTo>
                  <a:pt x="8930" y="11038"/>
                </a:moveTo>
                <a:cubicBezTo>
                  <a:pt x="9176" y="11000"/>
                  <a:pt x="9056" y="11058"/>
                  <a:pt x="8979" y="11187"/>
                </a:cubicBezTo>
                <a:cubicBezTo>
                  <a:pt x="8987" y="11187"/>
                  <a:pt x="8996" y="11187"/>
                  <a:pt x="9004" y="11187"/>
                </a:cubicBezTo>
                <a:cubicBezTo>
                  <a:pt x="9099" y="11163"/>
                  <a:pt x="9129" y="11152"/>
                  <a:pt x="9178" y="11212"/>
                </a:cubicBezTo>
                <a:cubicBezTo>
                  <a:pt x="9143" y="11375"/>
                  <a:pt x="9155" y="11341"/>
                  <a:pt x="8979" y="11361"/>
                </a:cubicBezTo>
              </a:path>
              <a:path w="2729" h="1242">
                <a:moveTo>
                  <a:pt x="9252" y="10864"/>
                </a:moveTo>
                <a:cubicBezTo>
                  <a:pt x="9487" y="11155"/>
                  <a:pt x="9714" y="11483"/>
                  <a:pt x="9575" y="11881"/>
                </a:cubicBezTo>
                <a:cubicBezTo>
                  <a:pt x="9460" y="12019"/>
                  <a:pt x="9433" y="12066"/>
                  <a:pt x="9302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25920" y="3911760"/>
            <a:ext cx="1204920" cy="536400"/>
          </a:xfrm>
          <a:custGeom>
            <a:avLst/>
            <a:gdLst/>
            <a:ahLst/>
            <a:rect l="l" t="t" r="r" b="b"/>
            <a:pathLst>
              <a:path w="3349" h="1490">
                <a:moveTo>
                  <a:pt x="10120" y="11559"/>
                </a:moveTo>
                <a:cubicBezTo>
                  <a:pt x="10163" y="11731"/>
                  <a:pt x="10180" y="11770"/>
                  <a:pt x="10170" y="11881"/>
                </a:cubicBezTo>
              </a:path>
              <a:path w="3349" h="1490">
                <a:moveTo>
                  <a:pt x="10071" y="11683"/>
                </a:moveTo>
                <a:cubicBezTo>
                  <a:pt x="10137" y="11666"/>
                  <a:pt x="10203" y="11650"/>
                  <a:pt x="10269" y="11633"/>
                </a:cubicBezTo>
              </a:path>
              <a:path w="3349" h="1490">
                <a:moveTo>
                  <a:pt x="10964" y="11361"/>
                </a:moveTo>
                <a:cubicBezTo>
                  <a:pt x="10942" y="11463"/>
                  <a:pt x="10920" y="11559"/>
                  <a:pt x="10889" y="11658"/>
                </a:cubicBezTo>
                <a:cubicBezTo>
                  <a:pt x="11054" y="11724"/>
                  <a:pt x="11146" y="11689"/>
                  <a:pt x="11311" y="11633"/>
                </a:cubicBezTo>
              </a:path>
              <a:path w="3349" h="1490">
                <a:moveTo>
                  <a:pt x="11261" y="11336"/>
                </a:moveTo>
                <a:cubicBezTo>
                  <a:pt x="11231" y="11543"/>
                  <a:pt x="11196" y="11749"/>
                  <a:pt x="11162" y="11956"/>
                </a:cubicBezTo>
              </a:path>
              <a:path w="3349" h="1490">
                <a:moveTo>
                  <a:pt x="11534" y="11485"/>
                </a:moveTo>
                <a:cubicBezTo>
                  <a:pt x="11613" y="11633"/>
                  <a:pt x="11731" y="11755"/>
                  <a:pt x="11807" y="11906"/>
                </a:cubicBezTo>
              </a:path>
              <a:path w="3349" h="1490">
                <a:moveTo>
                  <a:pt x="11757" y="11460"/>
                </a:moveTo>
                <a:cubicBezTo>
                  <a:pt x="11691" y="11600"/>
                  <a:pt x="11626" y="11741"/>
                  <a:pt x="11559" y="11881"/>
                </a:cubicBezTo>
              </a:path>
              <a:path w="3349" h="1490">
                <a:moveTo>
                  <a:pt x="12005" y="11435"/>
                </a:moveTo>
                <a:cubicBezTo>
                  <a:pt x="12005" y="11596"/>
                  <a:pt x="11999" y="11747"/>
                  <a:pt x="11981" y="11906"/>
                </a:cubicBezTo>
              </a:path>
              <a:path w="3349" h="1490">
                <a:moveTo>
                  <a:pt x="12402" y="11509"/>
                </a:moveTo>
                <a:cubicBezTo>
                  <a:pt x="12299" y="11723"/>
                  <a:pt x="12264" y="11780"/>
                  <a:pt x="12303" y="12005"/>
                </a:cubicBezTo>
                <a:cubicBezTo>
                  <a:pt x="12441" y="11982"/>
                  <a:pt x="12843" y="11870"/>
                  <a:pt x="12626" y="11633"/>
                </a:cubicBezTo>
                <a:cubicBezTo>
                  <a:pt x="12576" y="11608"/>
                  <a:pt x="12527" y="11584"/>
                  <a:pt x="12477" y="11559"/>
                </a:cubicBezTo>
              </a:path>
              <a:path w="3349" h="1490">
                <a:moveTo>
                  <a:pt x="12774" y="10964"/>
                </a:moveTo>
                <a:cubicBezTo>
                  <a:pt x="12813" y="10987"/>
                  <a:pt x="13093" y="11155"/>
                  <a:pt x="12898" y="11212"/>
                </a:cubicBezTo>
                <a:cubicBezTo>
                  <a:pt x="12797" y="11212"/>
                  <a:pt x="12776" y="11222"/>
                  <a:pt x="12725" y="11187"/>
                </a:cubicBezTo>
                <a:cubicBezTo>
                  <a:pt x="12896" y="11160"/>
                  <a:pt x="12863" y="11141"/>
                  <a:pt x="12998" y="11261"/>
                </a:cubicBezTo>
              </a:path>
              <a:path w="3349" h="1490">
                <a:moveTo>
                  <a:pt x="13047" y="10864"/>
                </a:moveTo>
                <a:cubicBezTo>
                  <a:pt x="13271" y="11131"/>
                  <a:pt x="13528" y="11456"/>
                  <a:pt x="13370" y="11832"/>
                </a:cubicBezTo>
                <a:cubicBezTo>
                  <a:pt x="13320" y="11882"/>
                  <a:pt x="13271" y="11931"/>
                  <a:pt x="13221" y="11981"/>
                </a:cubicBezTo>
              </a:path>
              <a:path w="3349" h="1490">
                <a:moveTo>
                  <a:pt x="10840" y="10939"/>
                </a:moveTo>
                <a:cubicBezTo>
                  <a:pt x="10675" y="11243"/>
                  <a:pt x="10489" y="11619"/>
                  <a:pt x="10542" y="11981"/>
                </a:cubicBezTo>
                <a:cubicBezTo>
                  <a:pt x="10583" y="12258"/>
                  <a:pt x="10729" y="12288"/>
                  <a:pt x="10939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44800" y="5018040"/>
            <a:ext cx="947520" cy="285840"/>
          </a:xfrm>
          <a:custGeom>
            <a:avLst/>
            <a:gdLst/>
            <a:ahLst/>
            <a:rect l="l" t="t" r="r" b="b"/>
            <a:pathLst>
              <a:path w="2631" h="795">
                <a:moveTo>
                  <a:pt x="5680" y="13990"/>
                </a:moveTo>
                <a:cubicBezTo>
                  <a:pt x="5680" y="14164"/>
                  <a:pt x="5680" y="14337"/>
                  <a:pt x="5680" y="14511"/>
                </a:cubicBezTo>
              </a:path>
              <a:path w="2631" h="795">
                <a:moveTo>
                  <a:pt x="5829" y="14114"/>
                </a:moveTo>
                <a:cubicBezTo>
                  <a:pt x="5782" y="14277"/>
                  <a:pt x="5765" y="14324"/>
                  <a:pt x="5779" y="14436"/>
                </a:cubicBezTo>
                <a:cubicBezTo>
                  <a:pt x="5904" y="14430"/>
                  <a:pt x="6348" y="14244"/>
                  <a:pt x="6077" y="14039"/>
                </a:cubicBezTo>
                <a:cubicBezTo>
                  <a:pt x="5941" y="14039"/>
                  <a:pt x="5902" y="14033"/>
                  <a:pt x="5829" y="14089"/>
                </a:cubicBezTo>
              </a:path>
              <a:path w="2631" h="795">
                <a:moveTo>
                  <a:pt x="6226" y="14114"/>
                </a:moveTo>
                <a:cubicBezTo>
                  <a:pt x="6198" y="14306"/>
                  <a:pt x="6227" y="14721"/>
                  <a:pt x="6548" y="14436"/>
                </a:cubicBezTo>
                <a:cubicBezTo>
                  <a:pt x="6811" y="14202"/>
                  <a:pt x="6484" y="14042"/>
                  <a:pt x="6300" y="13965"/>
                </a:cubicBezTo>
              </a:path>
              <a:path w="2631" h="795">
                <a:moveTo>
                  <a:pt x="6697" y="14585"/>
                </a:moveTo>
                <a:cubicBezTo>
                  <a:pt x="6689" y="14635"/>
                  <a:pt x="6680" y="14684"/>
                  <a:pt x="6672" y="14734"/>
                </a:cubicBezTo>
              </a:path>
              <a:path w="2631" h="795">
                <a:moveTo>
                  <a:pt x="6995" y="13990"/>
                </a:moveTo>
                <a:cubicBezTo>
                  <a:pt x="6934" y="14120"/>
                  <a:pt x="6840" y="14401"/>
                  <a:pt x="7094" y="14412"/>
                </a:cubicBezTo>
                <a:cubicBezTo>
                  <a:pt x="7387" y="14424"/>
                  <a:pt x="7345" y="14084"/>
                  <a:pt x="7119" y="14015"/>
                </a:cubicBezTo>
                <a:cubicBezTo>
                  <a:pt x="7094" y="14023"/>
                  <a:pt x="7070" y="14031"/>
                  <a:pt x="7045" y="14039"/>
                </a:cubicBezTo>
              </a:path>
              <a:path w="2631" h="795">
                <a:moveTo>
                  <a:pt x="7590" y="13940"/>
                </a:moveTo>
                <a:cubicBezTo>
                  <a:pt x="7425" y="14030"/>
                  <a:pt x="7151" y="14276"/>
                  <a:pt x="7516" y="14387"/>
                </a:cubicBezTo>
                <a:cubicBezTo>
                  <a:pt x="7809" y="14477"/>
                  <a:pt x="7941" y="14195"/>
                  <a:pt x="7714" y="14015"/>
                </a:cubicBezTo>
                <a:cubicBezTo>
                  <a:pt x="7681" y="14007"/>
                  <a:pt x="7648" y="13998"/>
                  <a:pt x="7615" y="13990"/>
                </a:cubicBezTo>
              </a:path>
              <a:path w="2631" h="795">
                <a:moveTo>
                  <a:pt x="8012" y="13990"/>
                </a:moveTo>
                <a:cubicBezTo>
                  <a:pt x="7868" y="14034"/>
                  <a:pt x="7669" y="14239"/>
                  <a:pt x="7838" y="14412"/>
                </a:cubicBezTo>
                <a:cubicBezTo>
                  <a:pt x="8026" y="14604"/>
                  <a:pt x="8459" y="14350"/>
                  <a:pt x="8260" y="14114"/>
                </a:cubicBezTo>
                <a:cubicBezTo>
                  <a:pt x="8114" y="14031"/>
                  <a:pt x="8088" y="14006"/>
                  <a:pt x="7987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8080" y="5072040"/>
            <a:ext cx="6372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8880" y="14089"/>
                </a:moveTo>
                <a:cubicBezTo>
                  <a:pt x="8909" y="14224"/>
                  <a:pt x="8924" y="14349"/>
                  <a:pt x="8930" y="14486"/>
                </a:cubicBezTo>
              </a:path>
              <a:path w="175" h="398">
                <a:moveTo>
                  <a:pt x="8830" y="14238"/>
                </a:moveTo>
                <a:cubicBezTo>
                  <a:pt x="8888" y="14238"/>
                  <a:pt x="8946" y="14238"/>
                  <a:pt x="9004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67080" y="5045040"/>
            <a:ext cx="1035000" cy="312840"/>
          </a:xfrm>
          <a:custGeom>
            <a:avLst/>
            <a:gdLst/>
            <a:ahLst/>
            <a:rect l="l" t="t" r="r" b="b"/>
            <a:pathLst>
              <a:path w="2879" h="869">
                <a:moveTo>
                  <a:pt x="9351" y="14039"/>
                </a:moveTo>
                <a:cubicBezTo>
                  <a:pt x="9457" y="14020"/>
                  <a:pt x="9817" y="13959"/>
                  <a:pt x="9847" y="14139"/>
                </a:cubicBezTo>
                <a:cubicBezTo>
                  <a:pt x="9864" y="14240"/>
                  <a:pt x="9714" y="14462"/>
                  <a:pt x="9674" y="14560"/>
                </a:cubicBezTo>
              </a:path>
              <a:path w="2879" h="869">
                <a:moveTo>
                  <a:pt x="10170" y="14064"/>
                </a:moveTo>
                <a:cubicBezTo>
                  <a:pt x="10000" y="14192"/>
                  <a:pt x="9964" y="14237"/>
                  <a:pt x="9897" y="14436"/>
                </a:cubicBezTo>
                <a:cubicBezTo>
                  <a:pt x="10027" y="14487"/>
                  <a:pt x="10467" y="14607"/>
                  <a:pt x="10319" y="14263"/>
                </a:cubicBezTo>
                <a:cubicBezTo>
                  <a:pt x="10219" y="14163"/>
                  <a:pt x="10211" y="14121"/>
                  <a:pt x="10120" y="14139"/>
                </a:cubicBezTo>
              </a:path>
              <a:path w="2879" h="869">
                <a:moveTo>
                  <a:pt x="10393" y="14784"/>
                </a:moveTo>
                <a:cubicBezTo>
                  <a:pt x="10393" y="14817"/>
                  <a:pt x="10393" y="14850"/>
                  <a:pt x="10393" y="14883"/>
                </a:cubicBezTo>
              </a:path>
              <a:path w="2879" h="869">
                <a:moveTo>
                  <a:pt x="10790" y="14139"/>
                </a:moveTo>
                <a:cubicBezTo>
                  <a:pt x="10606" y="14157"/>
                  <a:pt x="10587" y="14333"/>
                  <a:pt x="10542" y="14511"/>
                </a:cubicBezTo>
                <a:cubicBezTo>
                  <a:pt x="10711" y="14537"/>
                  <a:pt x="11210" y="14501"/>
                  <a:pt x="10889" y="14213"/>
                </a:cubicBezTo>
                <a:cubicBezTo>
                  <a:pt x="10839" y="14196"/>
                  <a:pt x="10790" y="14180"/>
                  <a:pt x="10740" y="14163"/>
                </a:cubicBezTo>
              </a:path>
              <a:path w="2879" h="869">
                <a:moveTo>
                  <a:pt x="11137" y="14139"/>
                </a:moveTo>
                <a:cubicBezTo>
                  <a:pt x="10980" y="14205"/>
                  <a:pt x="11011" y="14235"/>
                  <a:pt x="10988" y="14412"/>
                </a:cubicBezTo>
                <a:cubicBezTo>
                  <a:pt x="11267" y="14508"/>
                  <a:pt x="11383" y="14496"/>
                  <a:pt x="11460" y="14213"/>
                </a:cubicBezTo>
                <a:cubicBezTo>
                  <a:pt x="11332" y="14111"/>
                  <a:pt x="11286" y="14078"/>
                  <a:pt x="11162" y="14114"/>
                </a:cubicBezTo>
              </a:path>
              <a:path w="2879" h="869">
                <a:moveTo>
                  <a:pt x="11534" y="14064"/>
                </a:moveTo>
                <a:cubicBezTo>
                  <a:pt x="11351" y="14227"/>
                  <a:pt x="11361" y="14237"/>
                  <a:pt x="11361" y="14486"/>
                </a:cubicBezTo>
                <a:cubicBezTo>
                  <a:pt x="11564" y="14507"/>
                  <a:pt x="12010" y="14480"/>
                  <a:pt x="11757" y="14139"/>
                </a:cubicBezTo>
                <a:cubicBezTo>
                  <a:pt x="11708" y="14106"/>
                  <a:pt x="11658" y="14072"/>
                  <a:pt x="11609" y="14039"/>
                </a:cubicBezTo>
              </a:path>
              <a:path w="2879" h="869">
                <a:moveTo>
                  <a:pt x="12105" y="14089"/>
                </a:moveTo>
                <a:cubicBezTo>
                  <a:pt x="12124" y="14194"/>
                  <a:pt x="12164" y="14286"/>
                  <a:pt x="12204" y="14387"/>
                </a:cubicBezTo>
              </a:path>
              <a:path w="2879" h="869">
                <a:moveTo>
                  <a:pt x="12030" y="14238"/>
                </a:moveTo>
                <a:cubicBezTo>
                  <a:pt x="12096" y="14230"/>
                  <a:pt x="12163" y="14221"/>
                  <a:pt x="12229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5027760"/>
            <a:ext cx="687600" cy="295200"/>
          </a:xfrm>
          <a:custGeom>
            <a:avLst/>
            <a:gdLst/>
            <a:ahLst/>
            <a:rect l="l" t="t" r="r" b="b"/>
            <a:pathLst>
              <a:path w="1911" h="820">
                <a:moveTo>
                  <a:pt x="12898" y="14114"/>
                </a:moveTo>
                <a:cubicBezTo>
                  <a:pt x="12917" y="14177"/>
                  <a:pt x="12875" y="14367"/>
                  <a:pt x="12973" y="14362"/>
                </a:cubicBezTo>
                <a:cubicBezTo>
                  <a:pt x="13023" y="14345"/>
                  <a:pt x="13072" y="14329"/>
                  <a:pt x="13122" y="14312"/>
                </a:cubicBezTo>
              </a:path>
              <a:path w="1911" h="820">
                <a:moveTo>
                  <a:pt x="13246" y="13965"/>
                </a:moveTo>
                <a:cubicBezTo>
                  <a:pt x="13155" y="14164"/>
                  <a:pt x="13150" y="14390"/>
                  <a:pt x="13122" y="14610"/>
                </a:cubicBezTo>
              </a:path>
              <a:path w="1911" h="820">
                <a:moveTo>
                  <a:pt x="13295" y="14660"/>
                </a:moveTo>
                <a:cubicBezTo>
                  <a:pt x="13287" y="14701"/>
                  <a:pt x="13279" y="14743"/>
                  <a:pt x="13271" y="14784"/>
                </a:cubicBezTo>
              </a:path>
              <a:path w="1911" h="820">
                <a:moveTo>
                  <a:pt x="13643" y="14213"/>
                </a:moveTo>
                <a:cubicBezTo>
                  <a:pt x="13454" y="14267"/>
                  <a:pt x="13469" y="14344"/>
                  <a:pt x="13469" y="14511"/>
                </a:cubicBezTo>
                <a:cubicBezTo>
                  <a:pt x="13645" y="14548"/>
                  <a:pt x="13979" y="14435"/>
                  <a:pt x="13742" y="14188"/>
                </a:cubicBezTo>
                <a:cubicBezTo>
                  <a:pt x="13701" y="14180"/>
                  <a:pt x="13659" y="14171"/>
                  <a:pt x="13618" y="14163"/>
                </a:cubicBezTo>
              </a:path>
              <a:path w="1911" h="820">
                <a:moveTo>
                  <a:pt x="14139" y="14139"/>
                </a:moveTo>
                <a:cubicBezTo>
                  <a:pt x="14011" y="14216"/>
                  <a:pt x="13966" y="14244"/>
                  <a:pt x="13915" y="14337"/>
                </a:cubicBezTo>
                <a:cubicBezTo>
                  <a:pt x="14021" y="14489"/>
                  <a:pt x="14435" y="14701"/>
                  <a:pt x="14486" y="14312"/>
                </a:cubicBezTo>
                <a:cubicBezTo>
                  <a:pt x="14400" y="14169"/>
                  <a:pt x="14355" y="14119"/>
                  <a:pt x="14213" y="14114"/>
                </a:cubicBezTo>
              </a:path>
              <a:path w="1911" h="820">
                <a:moveTo>
                  <a:pt x="14511" y="14064"/>
                </a:moveTo>
                <a:cubicBezTo>
                  <a:pt x="14341" y="14260"/>
                  <a:pt x="14317" y="14256"/>
                  <a:pt x="14362" y="14511"/>
                </a:cubicBezTo>
                <a:cubicBezTo>
                  <a:pt x="14496" y="14507"/>
                  <a:pt x="15009" y="14455"/>
                  <a:pt x="14734" y="14188"/>
                </a:cubicBezTo>
                <a:cubicBezTo>
                  <a:pt x="14684" y="14163"/>
                  <a:pt x="14635" y="14139"/>
                  <a:pt x="14585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73800" y="5062680"/>
            <a:ext cx="98280" cy="16164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15280" y="14064"/>
                </a:moveTo>
                <a:cubicBezTo>
                  <a:pt x="15318" y="14214"/>
                  <a:pt x="15360" y="14360"/>
                  <a:pt x="15379" y="14511"/>
                </a:cubicBezTo>
              </a:path>
              <a:path w="274" h="448">
                <a:moveTo>
                  <a:pt x="15205" y="14213"/>
                </a:moveTo>
                <a:cubicBezTo>
                  <a:pt x="15318" y="14251"/>
                  <a:pt x="15383" y="14254"/>
                  <a:pt x="15478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05640" y="5045040"/>
            <a:ext cx="706320" cy="196920"/>
          </a:xfrm>
          <a:custGeom>
            <a:avLst/>
            <a:gdLst/>
            <a:ahLst/>
            <a:rect l="l" t="t" r="r" b="b"/>
            <a:pathLst>
              <a:path w="1961" h="546">
                <a:moveTo>
                  <a:pt x="16247" y="14139"/>
                </a:moveTo>
                <a:cubicBezTo>
                  <a:pt x="16198" y="14017"/>
                  <a:pt x="16041" y="13976"/>
                  <a:pt x="15925" y="14064"/>
                </a:cubicBezTo>
                <a:cubicBezTo>
                  <a:pt x="15856" y="14179"/>
                  <a:pt x="15826" y="14210"/>
                  <a:pt x="15900" y="14288"/>
                </a:cubicBezTo>
                <a:cubicBezTo>
                  <a:pt x="16097" y="14263"/>
                  <a:pt x="16125" y="14266"/>
                  <a:pt x="16247" y="14114"/>
                </a:cubicBezTo>
                <a:cubicBezTo>
                  <a:pt x="16224" y="14249"/>
                  <a:pt x="16222" y="14372"/>
                  <a:pt x="16222" y="14511"/>
                </a:cubicBezTo>
              </a:path>
              <a:path w="1961" h="546">
                <a:moveTo>
                  <a:pt x="16619" y="14064"/>
                </a:moveTo>
                <a:cubicBezTo>
                  <a:pt x="16437" y="14116"/>
                  <a:pt x="16429" y="14199"/>
                  <a:pt x="16396" y="14362"/>
                </a:cubicBezTo>
                <a:cubicBezTo>
                  <a:pt x="16523" y="14416"/>
                  <a:pt x="16931" y="14461"/>
                  <a:pt x="16768" y="14163"/>
                </a:cubicBezTo>
                <a:cubicBezTo>
                  <a:pt x="16666" y="14082"/>
                  <a:pt x="16653" y="14049"/>
                  <a:pt x="16570" y="14064"/>
                </a:cubicBezTo>
              </a:path>
              <a:path w="1961" h="546">
                <a:moveTo>
                  <a:pt x="17165" y="14139"/>
                </a:moveTo>
                <a:cubicBezTo>
                  <a:pt x="17000" y="14168"/>
                  <a:pt x="16742" y="14318"/>
                  <a:pt x="16966" y="14511"/>
                </a:cubicBezTo>
                <a:cubicBezTo>
                  <a:pt x="17016" y="14527"/>
                  <a:pt x="17065" y="14544"/>
                  <a:pt x="17115" y="14560"/>
                </a:cubicBezTo>
                <a:cubicBezTo>
                  <a:pt x="17329" y="14397"/>
                  <a:pt x="17336" y="14297"/>
                  <a:pt x="17140" y="14114"/>
                </a:cubicBezTo>
              </a:path>
              <a:path w="1961" h="546">
                <a:moveTo>
                  <a:pt x="17636" y="14288"/>
                </a:moveTo>
                <a:cubicBezTo>
                  <a:pt x="17644" y="14337"/>
                  <a:pt x="17653" y="14387"/>
                  <a:pt x="17661" y="14436"/>
                </a:cubicBezTo>
              </a:path>
              <a:path w="1961" h="546">
                <a:moveTo>
                  <a:pt x="17438" y="14238"/>
                </a:moveTo>
                <a:cubicBezTo>
                  <a:pt x="17612" y="14238"/>
                  <a:pt x="17686" y="14238"/>
                  <a:pt x="17810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1880" y="5089680"/>
            <a:ext cx="507960" cy="152280"/>
          </a:xfrm>
          <a:custGeom>
            <a:avLst/>
            <a:gdLst/>
            <a:ahLst/>
            <a:rect l="l" t="t" r="r" b="b"/>
            <a:pathLst>
              <a:path w="1415" h="422">
                <a:moveTo>
                  <a:pt x="18355" y="14139"/>
                </a:moveTo>
                <a:cubicBezTo>
                  <a:pt x="18513" y="14153"/>
                  <a:pt x="18729" y="14240"/>
                  <a:pt x="18628" y="14461"/>
                </a:cubicBezTo>
                <a:cubicBezTo>
                  <a:pt x="18537" y="14661"/>
                  <a:pt x="18381" y="14528"/>
                  <a:pt x="18281" y="14461"/>
                </a:cubicBezTo>
                <a:cubicBezTo>
                  <a:pt x="18441" y="14235"/>
                  <a:pt x="18500" y="14283"/>
                  <a:pt x="18703" y="14461"/>
                </a:cubicBezTo>
              </a:path>
              <a:path w="1415" h="422">
                <a:moveTo>
                  <a:pt x="18976" y="14163"/>
                </a:moveTo>
                <a:cubicBezTo>
                  <a:pt x="18842" y="14244"/>
                  <a:pt x="18794" y="14279"/>
                  <a:pt x="18752" y="14387"/>
                </a:cubicBezTo>
                <a:cubicBezTo>
                  <a:pt x="18850" y="14491"/>
                  <a:pt x="19234" y="14687"/>
                  <a:pt x="19323" y="14412"/>
                </a:cubicBezTo>
                <a:cubicBezTo>
                  <a:pt x="19272" y="14260"/>
                  <a:pt x="19252" y="14209"/>
                  <a:pt x="19124" y="14188"/>
                </a:cubicBezTo>
              </a:path>
              <a:path w="1415" h="422">
                <a:moveTo>
                  <a:pt x="19670" y="14288"/>
                </a:moveTo>
                <a:cubicBezTo>
                  <a:pt x="19678" y="14321"/>
                  <a:pt x="19687" y="14354"/>
                  <a:pt x="19695" y="14387"/>
                </a:cubicBezTo>
              </a:path>
              <a:path w="1415" h="422">
                <a:moveTo>
                  <a:pt x="19496" y="14263"/>
                </a:moveTo>
                <a:cubicBezTo>
                  <a:pt x="19554" y="14263"/>
                  <a:pt x="19612" y="14263"/>
                  <a:pt x="19670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59760" y="5062680"/>
            <a:ext cx="161640" cy="19656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20464" y="14139"/>
                </a:moveTo>
                <a:cubicBezTo>
                  <a:pt x="20280" y="14053"/>
                  <a:pt x="20262" y="14028"/>
                  <a:pt x="20166" y="14238"/>
                </a:cubicBezTo>
                <a:cubicBezTo>
                  <a:pt x="20166" y="14246"/>
                  <a:pt x="20166" y="14255"/>
                  <a:pt x="20166" y="14263"/>
                </a:cubicBezTo>
                <a:cubicBezTo>
                  <a:pt x="20290" y="14251"/>
                  <a:pt x="20454" y="14214"/>
                  <a:pt x="20563" y="14312"/>
                </a:cubicBezTo>
                <a:cubicBezTo>
                  <a:pt x="20742" y="14474"/>
                  <a:pt x="20510" y="14645"/>
                  <a:pt x="20340" y="14585"/>
                </a:cubicBezTo>
                <a:cubicBezTo>
                  <a:pt x="20282" y="14552"/>
                  <a:pt x="20224" y="14519"/>
                  <a:pt x="20166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3640" y="5330880"/>
            <a:ext cx="2260440" cy="438120"/>
          </a:xfrm>
          <a:custGeom>
            <a:avLst/>
            <a:gdLst/>
            <a:ahLst/>
            <a:rect l="l" t="t" r="r" b="b"/>
            <a:pathLst>
              <a:path w="6277" h="1217">
                <a:moveTo>
                  <a:pt x="3373" y="15205"/>
                </a:moveTo>
                <a:cubicBezTo>
                  <a:pt x="3295" y="15346"/>
                  <a:pt x="3219" y="15493"/>
                  <a:pt x="3175" y="15652"/>
                </a:cubicBezTo>
                <a:cubicBezTo>
                  <a:pt x="3117" y="15861"/>
                  <a:pt x="3165" y="15859"/>
                  <a:pt x="3324" y="15925"/>
                </a:cubicBezTo>
              </a:path>
              <a:path w="6277" h="1217">
                <a:moveTo>
                  <a:pt x="3572" y="15379"/>
                </a:moveTo>
                <a:cubicBezTo>
                  <a:pt x="3572" y="15532"/>
                  <a:pt x="3550" y="15674"/>
                  <a:pt x="3522" y="15825"/>
                </a:cubicBezTo>
              </a:path>
              <a:path w="6277" h="1217">
                <a:moveTo>
                  <a:pt x="3795" y="15503"/>
                </a:moveTo>
                <a:cubicBezTo>
                  <a:pt x="3865" y="15613"/>
                  <a:pt x="3937" y="15724"/>
                  <a:pt x="4018" y="15825"/>
                </a:cubicBezTo>
              </a:path>
              <a:path w="6277" h="1217">
                <a:moveTo>
                  <a:pt x="4118" y="15404"/>
                </a:moveTo>
                <a:cubicBezTo>
                  <a:pt x="3981" y="15552"/>
                  <a:pt x="3889" y="15698"/>
                  <a:pt x="3795" y="15875"/>
                </a:cubicBezTo>
              </a:path>
              <a:path w="6277" h="1217">
                <a:moveTo>
                  <a:pt x="4366" y="15503"/>
                </a:moveTo>
                <a:cubicBezTo>
                  <a:pt x="4341" y="15635"/>
                  <a:pt x="4316" y="15768"/>
                  <a:pt x="4291" y="15900"/>
                </a:cubicBezTo>
              </a:path>
              <a:path w="6277" h="1217">
                <a:moveTo>
                  <a:pt x="4738" y="15478"/>
                </a:moveTo>
                <a:cubicBezTo>
                  <a:pt x="4650" y="15632"/>
                  <a:pt x="4557" y="15750"/>
                  <a:pt x="4589" y="15925"/>
                </a:cubicBezTo>
                <a:cubicBezTo>
                  <a:pt x="4765" y="15898"/>
                  <a:pt x="4972" y="15824"/>
                  <a:pt x="4887" y="15577"/>
                </a:cubicBezTo>
                <a:cubicBezTo>
                  <a:pt x="4813" y="15504"/>
                  <a:pt x="4789" y="15479"/>
                  <a:pt x="4713" y="15478"/>
                </a:cubicBezTo>
              </a:path>
              <a:path w="6277" h="1217">
                <a:moveTo>
                  <a:pt x="5259" y="15007"/>
                </a:moveTo>
                <a:cubicBezTo>
                  <a:pt x="5183" y="15062"/>
                  <a:pt x="5042" y="15085"/>
                  <a:pt x="4986" y="15156"/>
                </a:cubicBezTo>
                <a:cubicBezTo>
                  <a:pt x="4978" y="15172"/>
                  <a:pt x="4969" y="15189"/>
                  <a:pt x="4961" y="15205"/>
                </a:cubicBezTo>
                <a:cubicBezTo>
                  <a:pt x="5064" y="15221"/>
                  <a:pt x="5159" y="15232"/>
                  <a:pt x="5259" y="15255"/>
                </a:cubicBezTo>
                <a:cubicBezTo>
                  <a:pt x="5241" y="15354"/>
                  <a:pt x="5167" y="15632"/>
                  <a:pt x="4986" y="15528"/>
                </a:cubicBezTo>
                <a:cubicBezTo>
                  <a:pt x="4961" y="15495"/>
                  <a:pt x="4936" y="15462"/>
                  <a:pt x="4911" y="15429"/>
                </a:cubicBezTo>
              </a:path>
              <a:path w="6277" h="1217">
                <a:moveTo>
                  <a:pt x="5333" y="14957"/>
                </a:moveTo>
                <a:cubicBezTo>
                  <a:pt x="5511" y="15266"/>
                  <a:pt x="5572" y="15490"/>
                  <a:pt x="5407" y="15825"/>
                </a:cubicBezTo>
                <a:cubicBezTo>
                  <a:pt x="5316" y="15961"/>
                  <a:pt x="5297" y="16005"/>
                  <a:pt x="5184" y="16024"/>
                </a:cubicBezTo>
              </a:path>
              <a:path w="6277" h="1217">
                <a:moveTo>
                  <a:pt x="5904" y="15354"/>
                </a:moveTo>
                <a:cubicBezTo>
                  <a:pt x="5944" y="15494"/>
                  <a:pt x="5957" y="15557"/>
                  <a:pt x="5928" y="15701"/>
                </a:cubicBezTo>
              </a:path>
              <a:path w="6277" h="1217">
                <a:moveTo>
                  <a:pt x="5730" y="15577"/>
                </a:moveTo>
                <a:cubicBezTo>
                  <a:pt x="5897" y="15569"/>
                  <a:pt x="6060" y="15549"/>
                  <a:pt x="6226" y="15528"/>
                </a:cubicBezTo>
              </a:path>
              <a:path w="6277" h="1217">
                <a:moveTo>
                  <a:pt x="6573" y="15180"/>
                </a:moveTo>
                <a:cubicBezTo>
                  <a:pt x="6439" y="15342"/>
                  <a:pt x="6299" y="15645"/>
                  <a:pt x="6400" y="15875"/>
                </a:cubicBezTo>
                <a:cubicBezTo>
                  <a:pt x="6441" y="15916"/>
                  <a:pt x="6483" y="15958"/>
                  <a:pt x="6524" y="15999"/>
                </a:cubicBezTo>
              </a:path>
              <a:path w="6277" h="1217">
                <a:moveTo>
                  <a:pt x="6598" y="15304"/>
                </a:moveTo>
                <a:cubicBezTo>
                  <a:pt x="6728" y="15312"/>
                  <a:pt x="7019" y="15277"/>
                  <a:pt x="7045" y="15453"/>
                </a:cubicBezTo>
                <a:cubicBezTo>
                  <a:pt x="7064" y="15586"/>
                  <a:pt x="6984" y="15751"/>
                  <a:pt x="6945" y="15875"/>
                </a:cubicBezTo>
              </a:path>
              <a:path w="6277" h="1217">
                <a:moveTo>
                  <a:pt x="7367" y="15404"/>
                </a:moveTo>
                <a:cubicBezTo>
                  <a:pt x="7401" y="15581"/>
                  <a:pt x="7441" y="15637"/>
                  <a:pt x="7565" y="15776"/>
                </a:cubicBezTo>
              </a:path>
              <a:path w="6277" h="1217">
                <a:moveTo>
                  <a:pt x="7466" y="15553"/>
                </a:moveTo>
                <a:cubicBezTo>
                  <a:pt x="7345" y="15694"/>
                  <a:pt x="7305" y="15711"/>
                  <a:pt x="7293" y="15825"/>
                </a:cubicBezTo>
              </a:path>
              <a:path w="6277" h="1217">
                <a:moveTo>
                  <a:pt x="7813" y="15553"/>
                </a:moveTo>
                <a:cubicBezTo>
                  <a:pt x="7797" y="15611"/>
                  <a:pt x="7780" y="15668"/>
                  <a:pt x="7764" y="15726"/>
                </a:cubicBezTo>
              </a:path>
              <a:path w="6277" h="1217">
                <a:moveTo>
                  <a:pt x="8037" y="15453"/>
                </a:moveTo>
                <a:cubicBezTo>
                  <a:pt x="7967" y="15615"/>
                  <a:pt x="7940" y="15661"/>
                  <a:pt x="7987" y="15776"/>
                </a:cubicBezTo>
                <a:cubicBezTo>
                  <a:pt x="8141" y="15836"/>
                  <a:pt x="8542" y="15748"/>
                  <a:pt x="8310" y="15478"/>
                </a:cubicBezTo>
                <a:cubicBezTo>
                  <a:pt x="8252" y="15453"/>
                  <a:pt x="8194" y="15429"/>
                  <a:pt x="8136" y="15404"/>
                </a:cubicBezTo>
              </a:path>
              <a:path w="6277" h="1217">
                <a:moveTo>
                  <a:pt x="8483" y="15230"/>
                </a:moveTo>
                <a:cubicBezTo>
                  <a:pt x="8408" y="15411"/>
                  <a:pt x="8493" y="15420"/>
                  <a:pt x="8657" y="15379"/>
                </a:cubicBezTo>
              </a:path>
              <a:path w="6277" h="1217">
                <a:moveTo>
                  <a:pt x="8632" y="15230"/>
                </a:moveTo>
                <a:cubicBezTo>
                  <a:pt x="8609" y="15346"/>
                  <a:pt x="8598" y="15379"/>
                  <a:pt x="8632" y="15453"/>
                </a:cubicBezTo>
              </a:path>
              <a:path w="6277" h="1217">
                <a:moveTo>
                  <a:pt x="8756" y="14808"/>
                </a:moveTo>
                <a:cubicBezTo>
                  <a:pt x="8905" y="15131"/>
                  <a:pt x="9123" y="15423"/>
                  <a:pt x="8905" y="15776"/>
                </a:cubicBezTo>
                <a:cubicBezTo>
                  <a:pt x="8847" y="15826"/>
                  <a:pt x="8789" y="15875"/>
                  <a:pt x="8731" y="15925"/>
                </a:cubicBezTo>
              </a:path>
              <a:path w="6277" h="1217">
                <a:moveTo>
                  <a:pt x="9203" y="15354"/>
                </a:moveTo>
                <a:cubicBezTo>
                  <a:pt x="9228" y="15481"/>
                  <a:pt x="9221" y="15572"/>
                  <a:pt x="9203" y="15701"/>
                </a:cubicBezTo>
              </a:path>
              <a:path w="6277" h="1217">
                <a:moveTo>
                  <a:pt x="9103" y="15553"/>
                </a:moveTo>
                <a:cubicBezTo>
                  <a:pt x="9244" y="15553"/>
                  <a:pt x="9319" y="15548"/>
                  <a:pt x="9426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7000" y="5375160"/>
            <a:ext cx="874800" cy="411120"/>
          </a:xfrm>
          <a:custGeom>
            <a:avLst/>
            <a:gdLst/>
            <a:ahLst/>
            <a:rect l="l" t="t" r="r" b="b"/>
            <a:pathLst>
              <a:path w="2432" h="1142">
                <a:moveTo>
                  <a:pt x="10096" y="15056"/>
                </a:moveTo>
                <a:cubicBezTo>
                  <a:pt x="9883" y="15446"/>
                  <a:pt x="9749" y="15664"/>
                  <a:pt x="9947" y="16073"/>
                </a:cubicBezTo>
              </a:path>
              <a:path w="2432" h="1142">
                <a:moveTo>
                  <a:pt x="10195" y="15478"/>
                </a:moveTo>
                <a:cubicBezTo>
                  <a:pt x="10040" y="15757"/>
                  <a:pt x="10160" y="15665"/>
                  <a:pt x="10418" y="15602"/>
                </a:cubicBezTo>
              </a:path>
              <a:path w="2432" h="1142">
                <a:moveTo>
                  <a:pt x="10468" y="15429"/>
                </a:moveTo>
                <a:cubicBezTo>
                  <a:pt x="10408" y="15607"/>
                  <a:pt x="10374" y="15762"/>
                  <a:pt x="10344" y="15949"/>
                </a:cubicBezTo>
              </a:path>
              <a:path w="2432" h="1142">
                <a:moveTo>
                  <a:pt x="10765" y="15478"/>
                </a:moveTo>
                <a:cubicBezTo>
                  <a:pt x="10765" y="15644"/>
                  <a:pt x="10765" y="15693"/>
                  <a:pt x="10765" y="15801"/>
                </a:cubicBezTo>
              </a:path>
              <a:path w="2432" h="1142">
                <a:moveTo>
                  <a:pt x="10864" y="15503"/>
                </a:moveTo>
                <a:cubicBezTo>
                  <a:pt x="10745" y="15623"/>
                  <a:pt x="10650" y="15749"/>
                  <a:pt x="10542" y="15875"/>
                </a:cubicBezTo>
              </a:path>
              <a:path w="2432" h="1142">
                <a:moveTo>
                  <a:pt x="11162" y="15429"/>
                </a:moveTo>
                <a:cubicBezTo>
                  <a:pt x="11162" y="15613"/>
                  <a:pt x="11147" y="15791"/>
                  <a:pt x="11137" y="15974"/>
                </a:cubicBezTo>
              </a:path>
              <a:path w="2432" h="1142">
                <a:moveTo>
                  <a:pt x="11485" y="15503"/>
                </a:moveTo>
                <a:cubicBezTo>
                  <a:pt x="11400" y="15688"/>
                  <a:pt x="11390" y="15729"/>
                  <a:pt x="11435" y="15925"/>
                </a:cubicBezTo>
                <a:cubicBezTo>
                  <a:pt x="11657" y="15915"/>
                  <a:pt x="11921" y="15819"/>
                  <a:pt x="11683" y="15553"/>
                </a:cubicBezTo>
                <a:cubicBezTo>
                  <a:pt x="11642" y="15528"/>
                  <a:pt x="11600" y="15503"/>
                  <a:pt x="11559" y="15478"/>
                </a:cubicBezTo>
              </a:path>
              <a:path w="2432" h="1142">
                <a:moveTo>
                  <a:pt x="11683" y="15156"/>
                </a:moveTo>
                <a:cubicBezTo>
                  <a:pt x="11746" y="15148"/>
                  <a:pt x="11791" y="15137"/>
                  <a:pt x="11857" y="15131"/>
                </a:cubicBezTo>
                <a:cubicBezTo>
                  <a:pt x="11839" y="15228"/>
                  <a:pt x="11831" y="15231"/>
                  <a:pt x="11757" y="15304"/>
                </a:cubicBezTo>
                <a:cubicBezTo>
                  <a:pt x="11777" y="15304"/>
                  <a:pt x="11963" y="15306"/>
                  <a:pt x="11906" y="15379"/>
                </a:cubicBezTo>
                <a:cubicBezTo>
                  <a:pt x="11859" y="15438"/>
                  <a:pt x="11786" y="15416"/>
                  <a:pt x="11733" y="15404"/>
                </a:cubicBezTo>
              </a:path>
              <a:path w="2432" h="1142">
                <a:moveTo>
                  <a:pt x="11881" y="14932"/>
                </a:moveTo>
                <a:cubicBezTo>
                  <a:pt x="12104" y="15155"/>
                  <a:pt x="12299" y="15410"/>
                  <a:pt x="12254" y="15751"/>
                </a:cubicBezTo>
                <a:cubicBezTo>
                  <a:pt x="12186" y="15910"/>
                  <a:pt x="12172" y="15956"/>
                  <a:pt x="12080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54360" y="5518080"/>
            <a:ext cx="6192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2700" y="15329"/>
                </a:moveTo>
                <a:cubicBezTo>
                  <a:pt x="12772" y="15497"/>
                  <a:pt x="12776" y="15541"/>
                  <a:pt x="12750" y="15726"/>
                </a:cubicBezTo>
              </a:path>
              <a:path w="175" h="398">
                <a:moveTo>
                  <a:pt x="12650" y="15528"/>
                </a:moveTo>
                <a:cubicBezTo>
                  <a:pt x="12708" y="15528"/>
                  <a:pt x="12766" y="15528"/>
                  <a:pt x="12824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68920" y="5313240"/>
            <a:ext cx="955440" cy="465120"/>
          </a:xfrm>
          <a:custGeom>
            <a:avLst/>
            <a:gdLst/>
            <a:ahLst/>
            <a:rect l="l" t="t" r="r" b="b"/>
            <a:pathLst>
              <a:path w="2655" h="1291">
                <a:moveTo>
                  <a:pt x="13494" y="15032"/>
                </a:moveTo>
                <a:cubicBezTo>
                  <a:pt x="13332" y="15219"/>
                  <a:pt x="13212" y="15441"/>
                  <a:pt x="13246" y="15701"/>
                </a:cubicBezTo>
                <a:cubicBezTo>
                  <a:pt x="13277" y="15939"/>
                  <a:pt x="13412" y="15978"/>
                  <a:pt x="13593" y="16049"/>
                </a:cubicBezTo>
              </a:path>
              <a:path w="2655" h="1291">
                <a:moveTo>
                  <a:pt x="13915" y="15453"/>
                </a:moveTo>
                <a:cubicBezTo>
                  <a:pt x="13889" y="15336"/>
                  <a:pt x="13849" y="15304"/>
                  <a:pt x="13742" y="15255"/>
                </a:cubicBezTo>
              </a:path>
              <a:path w="2655" h="1291">
                <a:moveTo>
                  <a:pt x="13841" y="15429"/>
                </a:moveTo>
                <a:cubicBezTo>
                  <a:pt x="13835" y="15355"/>
                  <a:pt x="13838" y="15281"/>
                  <a:pt x="13767" y="15230"/>
                </a:cubicBezTo>
                <a:cubicBezTo>
                  <a:pt x="13663" y="15155"/>
                  <a:pt x="13582" y="15264"/>
                  <a:pt x="13543" y="15354"/>
                </a:cubicBezTo>
                <a:cubicBezTo>
                  <a:pt x="13481" y="15495"/>
                  <a:pt x="13605" y="15606"/>
                  <a:pt x="13742" y="15528"/>
                </a:cubicBezTo>
                <a:cubicBezTo>
                  <a:pt x="13817" y="15452"/>
                  <a:pt x="13843" y="15425"/>
                  <a:pt x="13866" y="15354"/>
                </a:cubicBezTo>
                <a:cubicBezTo>
                  <a:pt x="13866" y="15195"/>
                  <a:pt x="13845" y="15620"/>
                  <a:pt x="13816" y="15776"/>
                </a:cubicBezTo>
              </a:path>
              <a:path w="2655" h="1291">
                <a:moveTo>
                  <a:pt x="14213" y="15379"/>
                </a:moveTo>
                <a:cubicBezTo>
                  <a:pt x="14282" y="15517"/>
                  <a:pt x="14342" y="15633"/>
                  <a:pt x="14436" y="15751"/>
                </a:cubicBezTo>
              </a:path>
              <a:path w="2655" h="1291">
                <a:moveTo>
                  <a:pt x="14560" y="15329"/>
                </a:moveTo>
                <a:cubicBezTo>
                  <a:pt x="14426" y="15471"/>
                  <a:pt x="14293" y="15611"/>
                  <a:pt x="14188" y="15776"/>
                </a:cubicBezTo>
              </a:path>
              <a:path w="2655" h="1291">
                <a:moveTo>
                  <a:pt x="14759" y="15304"/>
                </a:moveTo>
                <a:cubicBezTo>
                  <a:pt x="14753" y="15354"/>
                  <a:pt x="14642" y="15788"/>
                  <a:pt x="14684" y="15801"/>
                </a:cubicBezTo>
                <a:cubicBezTo>
                  <a:pt x="14717" y="15784"/>
                  <a:pt x="14751" y="15768"/>
                  <a:pt x="14784" y="15751"/>
                </a:cubicBezTo>
              </a:path>
              <a:path w="2655" h="1291">
                <a:moveTo>
                  <a:pt x="15131" y="15354"/>
                </a:moveTo>
                <a:cubicBezTo>
                  <a:pt x="14984" y="15451"/>
                  <a:pt x="14954" y="15585"/>
                  <a:pt x="14982" y="15751"/>
                </a:cubicBezTo>
                <a:cubicBezTo>
                  <a:pt x="15161" y="15724"/>
                  <a:pt x="15375" y="15651"/>
                  <a:pt x="15255" y="15404"/>
                </a:cubicBezTo>
                <a:cubicBezTo>
                  <a:pt x="15222" y="15371"/>
                  <a:pt x="15189" y="15337"/>
                  <a:pt x="15156" y="15304"/>
                </a:cubicBezTo>
              </a:path>
              <a:path w="2655" h="1291">
                <a:moveTo>
                  <a:pt x="15429" y="14957"/>
                </a:moveTo>
                <a:cubicBezTo>
                  <a:pt x="15524" y="14995"/>
                  <a:pt x="15599" y="15149"/>
                  <a:pt x="15429" y="15205"/>
                </a:cubicBezTo>
                <a:cubicBezTo>
                  <a:pt x="15342" y="15234"/>
                  <a:pt x="15319" y="15214"/>
                  <a:pt x="15304" y="15156"/>
                </a:cubicBezTo>
                <a:cubicBezTo>
                  <a:pt x="15438" y="15165"/>
                  <a:pt x="15472" y="15179"/>
                  <a:pt x="15577" y="15255"/>
                </a:cubicBezTo>
              </a:path>
              <a:path w="2655" h="1291">
                <a:moveTo>
                  <a:pt x="15677" y="14759"/>
                </a:moveTo>
                <a:cubicBezTo>
                  <a:pt x="15806" y="15052"/>
                  <a:pt x="15954" y="15289"/>
                  <a:pt x="15875" y="15627"/>
                </a:cubicBezTo>
                <a:cubicBezTo>
                  <a:pt x="15793" y="15791"/>
                  <a:pt x="15787" y="15829"/>
                  <a:pt x="1570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38920" y="5491080"/>
            <a:ext cx="125280" cy="15264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16669" y="15255"/>
                </a:moveTo>
                <a:cubicBezTo>
                  <a:pt x="16669" y="15401"/>
                  <a:pt x="16674" y="15536"/>
                  <a:pt x="16644" y="15677"/>
                </a:cubicBezTo>
              </a:path>
              <a:path w="348" h="423">
                <a:moveTo>
                  <a:pt x="16495" y="15478"/>
                </a:moveTo>
                <a:cubicBezTo>
                  <a:pt x="16616" y="15478"/>
                  <a:pt x="16723" y="15470"/>
                  <a:pt x="16842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5340240"/>
            <a:ext cx="795240" cy="401760"/>
          </a:xfrm>
          <a:custGeom>
            <a:avLst/>
            <a:gdLst/>
            <a:ahLst/>
            <a:rect l="l" t="t" r="r" b="b"/>
            <a:pathLst>
              <a:path w="2208" h="1117">
                <a:moveTo>
                  <a:pt x="17760" y="15032"/>
                </a:moveTo>
                <a:cubicBezTo>
                  <a:pt x="17565" y="15226"/>
                  <a:pt x="17347" y="15503"/>
                  <a:pt x="17487" y="15801"/>
                </a:cubicBezTo>
                <a:cubicBezTo>
                  <a:pt x="17537" y="15850"/>
                  <a:pt x="17586" y="15900"/>
                  <a:pt x="17636" y="15949"/>
                </a:cubicBezTo>
              </a:path>
              <a:path w="2208" h="1117">
                <a:moveTo>
                  <a:pt x="17859" y="15230"/>
                </a:moveTo>
                <a:cubicBezTo>
                  <a:pt x="18043" y="15327"/>
                  <a:pt x="18234" y="15521"/>
                  <a:pt x="17934" y="15677"/>
                </a:cubicBezTo>
                <a:cubicBezTo>
                  <a:pt x="17800" y="15699"/>
                  <a:pt x="17761" y="15717"/>
                  <a:pt x="17711" y="15627"/>
                </a:cubicBezTo>
                <a:cubicBezTo>
                  <a:pt x="17880" y="15470"/>
                  <a:pt x="17925" y="15483"/>
                  <a:pt x="18083" y="15652"/>
                </a:cubicBezTo>
              </a:path>
              <a:path w="2208" h="1117">
                <a:moveTo>
                  <a:pt x="18256" y="15329"/>
                </a:moveTo>
                <a:cubicBezTo>
                  <a:pt x="18355" y="15429"/>
                  <a:pt x="18388" y="15462"/>
                  <a:pt x="18455" y="15528"/>
                </a:cubicBezTo>
              </a:path>
              <a:path w="2208" h="1117">
                <a:moveTo>
                  <a:pt x="18554" y="15230"/>
                </a:moveTo>
                <a:cubicBezTo>
                  <a:pt x="18488" y="15387"/>
                  <a:pt x="18413" y="15526"/>
                  <a:pt x="18331" y="15677"/>
                </a:cubicBezTo>
              </a:path>
              <a:path w="2208" h="1117">
                <a:moveTo>
                  <a:pt x="18802" y="15255"/>
                </a:moveTo>
                <a:cubicBezTo>
                  <a:pt x="18795" y="15407"/>
                  <a:pt x="18776" y="15550"/>
                  <a:pt x="18752" y="15701"/>
                </a:cubicBezTo>
              </a:path>
              <a:path w="2208" h="1117">
                <a:moveTo>
                  <a:pt x="18976" y="15453"/>
                </a:moveTo>
                <a:cubicBezTo>
                  <a:pt x="18937" y="15627"/>
                  <a:pt x="18901" y="15677"/>
                  <a:pt x="18976" y="15825"/>
                </a:cubicBezTo>
                <a:cubicBezTo>
                  <a:pt x="19127" y="15738"/>
                  <a:pt x="19328" y="15608"/>
                  <a:pt x="19174" y="15404"/>
                </a:cubicBezTo>
                <a:cubicBezTo>
                  <a:pt x="19141" y="15379"/>
                  <a:pt x="19108" y="15354"/>
                  <a:pt x="19075" y="15329"/>
                </a:cubicBezTo>
              </a:path>
              <a:path w="2208" h="1117">
                <a:moveTo>
                  <a:pt x="19348" y="15081"/>
                </a:moveTo>
                <a:cubicBezTo>
                  <a:pt x="19348" y="15148"/>
                  <a:pt x="19344" y="15182"/>
                  <a:pt x="19323" y="15230"/>
                </a:cubicBezTo>
              </a:path>
              <a:path w="2208" h="1117">
                <a:moveTo>
                  <a:pt x="19422" y="14833"/>
                </a:moveTo>
                <a:cubicBezTo>
                  <a:pt x="19582" y="15093"/>
                  <a:pt x="19756" y="15436"/>
                  <a:pt x="19596" y="15751"/>
                </a:cubicBezTo>
                <a:cubicBezTo>
                  <a:pt x="19471" y="15876"/>
                  <a:pt x="19451" y="15911"/>
                  <a:pt x="19348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77040" y="5303880"/>
            <a:ext cx="992160" cy="474480"/>
          </a:xfrm>
          <a:custGeom>
            <a:avLst/>
            <a:gdLst/>
            <a:ahLst/>
            <a:rect l="l" t="t" r="r" b="b"/>
            <a:pathLst>
              <a:path w="2754" h="1316">
                <a:moveTo>
                  <a:pt x="20315" y="15255"/>
                </a:moveTo>
                <a:cubicBezTo>
                  <a:pt x="20293" y="15389"/>
                  <a:pt x="20273" y="15521"/>
                  <a:pt x="20241" y="15652"/>
                </a:cubicBezTo>
              </a:path>
              <a:path w="2754" h="1316">
                <a:moveTo>
                  <a:pt x="20216" y="15453"/>
                </a:moveTo>
                <a:cubicBezTo>
                  <a:pt x="20266" y="15445"/>
                  <a:pt x="20315" y="15437"/>
                  <a:pt x="20365" y="15429"/>
                </a:cubicBezTo>
              </a:path>
              <a:path w="2754" h="1316">
                <a:moveTo>
                  <a:pt x="20935" y="15379"/>
                </a:moveTo>
                <a:cubicBezTo>
                  <a:pt x="20916" y="15473"/>
                  <a:pt x="20929" y="15492"/>
                  <a:pt x="20886" y="15528"/>
                </a:cubicBezTo>
                <a:cubicBezTo>
                  <a:pt x="21010" y="15578"/>
                  <a:pt x="21024" y="15581"/>
                  <a:pt x="21084" y="15701"/>
                </a:cubicBezTo>
                <a:cubicBezTo>
                  <a:pt x="20944" y="15783"/>
                  <a:pt x="20918" y="15764"/>
                  <a:pt x="20762" y="15726"/>
                </a:cubicBezTo>
              </a:path>
              <a:path w="2754" h="1316">
                <a:moveTo>
                  <a:pt x="20960" y="15379"/>
                </a:moveTo>
                <a:cubicBezTo>
                  <a:pt x="21117" y="15353"/>
                  <a:pt x="21174" y="15345"/>
                  <a:pt x="21282" y="15379"/>
                </a:cubicBezTo>
              </a:path>
              <a:path w="2754" h="1316">
                <a:moveTo>
                  <a:pt x="21406" y="15379"/>
                </a:moveTo>
                <a:cubicBezTo>
                  <a:pt x="21483" y="15445"/>
                  <a:pt x="21555" y="15508"/>
                  <a:pt x="21630" y="15577"/>
                </a:cubicBezTo>
              </a:path>
              <a:path w="2754" h="1316">
                <a:moveTo>
                  <a:pt x="21654" y="15329"/>
                </a:moveTo>
                <a:cubicBezTo>
                  <a:pt x="21506" y="15478"/>
                  <a:pt x="21456" y="15528"/>
                  <a:pt x="21357" y="15627"/>
                </a:cubicBezTo>
              </a:path>
              <a:path w="2754" h="1316">
                <a:moveTo>
                  <a:pt x="22002" y="15280"/>
                </a:moveTo>
                <a:cubicBezTo>
                  <a:pt x="21992" y="15434"/>
                  <a:pt x="21954" y="15556"/>
                  <a:pt x="21903" y="15701"/>
                </a:cubicBezTo>
              </a:path>
              <a:path w="2754" h="1316">
                <a:moveTo>
                  <a:pt x="22324" y="15280"/>
                </a:moveTo>
                <a:cubicBezTo>
                  <a:pt x="22198" y="15398"/>
                  <a:pt x="22156" y="15464"/>
                  <a:pt x="22101" y="15627"/>
                </a:cubicBezTo>
                <a:cubicBezTo>
                  <a:pt x="22232" y="15655"/>
                  <a:pt x="22476" y="15650"/>
                  <a:pt x="22448" y="15429"/>
                </a:cubicBezTo>
                <a:cubicBezTo>
                  <a:pt x="22381" y="15338"/>
                  <a:pt x="22366" y="15311"/>
                  <a:pt x="22299" y="15280"/>
                </a:cubicBezTo>
              </a:path>
              <a:path w="2754" h="1316">
                <a:moveTo>
                  <a:pt x="22597" y="14784"/>
                </a:moveTo>
                <a:cubicBezTo>
                  <a:pt x="22555" y="14885"/>
                  <a:pt x="22539" y="14906"/>
                  <a:pt x="22547" y="15007"/>
                </a:cubicBezTo>
                <a:cubicBezTo>
                  <a:pt x="22655" y="14983"/>
                  <a:pt x="22698" y="14965"/>
                  <a:pt x="22671" y="14858"/>
                </a:cubicBezTo>
              </a:path>
              <a:path w="2754" h="1316">
                <a:moveTo>
                  <a:pt x="22920" y="14734"/>
                </a:moveTo>
                <a:cubicBezTo>
                  <a:pt x="22971" y="15069"/>
                  <a:pt x="23038" y="15450"/>
                  <a:pt x="22771" y="15726"/>
                </a:cubicBezTo>
                <a:cubicBezTo>
                  <a:pt x="22713" y="15759"/>
                  <a:pt x="22655" y="15792"/>
                  <a:pt x="22597" y="15825"/>
                </a:cubicBezTo>
              </a:path>
              <a:path w="2754" h="1316">
                <a:moveTo>
                  <a:pt x="20886" y="14858"/>
                </a:moveTo>
                <a:cubicBezTo>
                  <a:pt x="20700" y="15206"/>
                  <a:pt x="20488" y="15487"/>
                  <a:pt x="20613" y="15900"/>
                </a:cubicBezTo>
                <a:cubicBezTo>
                  <a:pt x="20646" y="15950"/>
                  <a:pt x="20679" y="15999"/>
                  <a:pt x="20712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2.4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quivalent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20840" y="6483240"/>
            <a:ext cx="936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3696" y="18083"/>
                </a:moveTo>
                <a:cubicBezTo>
                  <a:pt x="3676" y="18042"/>
                  <a:pt x="3667" y="18036"/>
                  <a:pt x="3671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 write fractions as decimals and percents, and vice versa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Decimal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Percent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Bar notation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When you hear someone say 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“three tenths”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or 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“five hundredths”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– which form pops in your head first?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5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357280" y="2224080"/>
            <a:ext cx="608040" cy="303120"/>
          </a:xfrm>
          <a:custGeom>
            <a:avLst/>
            <a:gdLst/>
            <a:ahLst/>
            <a:rect l="l" t="t" r="r" b="b"/>
            <a:pathLst>
              <a:path w="1688" h="845">
                <a:moveTo>
                  <a:pt x="6648" y="6548"/>
                </a:moveTo>
                <a:cubicBezTo>
                  <a:pt x="6578" y="6595"/>
                  <a:pt x="6642" y="6787"/>
                  <a:pt x="6648" y="6871"/>
                </a:cubicBezTo>
                <a:cubicBezTo>
                  <a:pt x="6648" y="6954"/>
                  <a:pt x="6648" y="6970"/>
                  <a:pt x="6648" y="7020"/>
                </a:cubicBezTo>
              </a:path>
              <a:path w="1688" h="845">
                <a:moveTo>
                  <a:pt x="6548" y="6474"/>
                </a:moveTo>
                <a:cubicBezTo>
                  <a:pt x="6721" y="6393"/>
                  <a:pt x="6882" y="6341"/>
                  <a:pt x="6995" y="6548"/>
                </a:cubicBezTo>
                <a:cubicBezTo>
                  <a:pt x="6995" y="6573"/>
                  <a:pt x="6995" y="6598"/>
                  <a:pt x="6995" y="6623"/>
                </a:cubicBezTo>
                <a:cubicBezTo>
                  <a:pt x="6866" y="6716"/>
                  <a:pt x="6778" y="6744"/>
                  <a:pt x="6623" y="6722"/>
                </a:cubicBezTo>
              </a:path>
              <a:path w="1688" h="845">
                <a:moveTo>
                  <a:pt x="7392" y="6573"/>
                </a:moveTo>
                <a:cubicBezTo>
                  <a:pt x="7362" y="6522"/>
                  <a:pt x="7333" y="6467"/>
                  <a:pt x="7293" y="6424"/>
                </a:cubicBezTo>
                <a:cubicBezTo>
                  <a:pt x="7194" y="6318"/>
                  <a:pt x="7094" y="6384"/>
                  <a:pt x="7045" y="6499"/>
                </a:cubicBezTo>
                <a:cubicBezTo>
                  <a:pt x="6968" y="6681"/>
                  <a:pt x="7133" y="6733"/>
                  <a:pt x="7268" y="6672"/>
                </a:cubicBezTo>
                <a:cubicBezTo>
                  <a:pt x="7339" y="6625"/>
                  <a:pt x="7363" y="6612"/>
                  <a:pt x="7367" y="6548"/>
                </a:cubicBezTo>
                <a:cubicBezTo>
                  <a:pt x="7388" y="6594"/>
                  <a:pt x="7454" y="6777"/>
                  <a:pt x="7516" y="6648"/>
                </a:cubicBezTo>
                <a:cubicBezTo>
                  <a:pt x="7588" y="6499"/>
                  <a:pt x="7539" y="6506"/>
                  <a:pt x="7640" y="6672"/>
                </a:cubicBezTo>
                <a:cubicBezTo>
                  <a:pt x="7616" y="6542"/>
                  <a:pt x="7537" y="6463"/>
                  <a:pt x="7714" y="6400"/>
                </a:cubicBezTo>
                <a:cubicBezTo>
                  <a:pt x="7789" y="6400"/>
                  <a:pt x="7813" y="6400"/>
                  <a:pt x="7863" y="6400"/>
                </a:cubicBezTo>
              </a:path>
              <a:path w="1688" h="845">
                <a:moveTo>
                  <a:pt x="8037" y="6176"/>
                </a:moveTo>
                <a:cubicBezTo>
                  <a:pt x="8071" y="6324"/>
                  <a:pt x="8084" y="6492"/>
                  <a:pt x="8111" y="6648"/>
                </a:cubicBezTo>
                <a:cubicBezTo>
                  <a:pt x="8111" y="6656"/>
                  <a:pt x="8111" y="6664"/>
                  <a:pt x="8111" y="6672"/>
                </a:cubicBezTo>
              </a:path>
              <a:path w="1688" h="845">
                <a:moveTo>
                  <a:pt x="7838" y="6400"/>
                </a:moveTo>
                <a:cubicBezTo>
                  <a:pt x="7970" y="6400"/>
                  <a:pt x="8103" y="6400"/>
                  <a:pt x="8235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87800" y="2170080"/>
            <a:ext cx="330120" cy="204840"/>
          </a:xfrm>
          <a:custGeom>
            <a:avLst/>
            <a:gdLst/>
            <a:ahLst/>
            <a:rect l="l" t="t" r="r" b="b"/>
            <a:pathLst>
              <a:path w="919" h="571">
                <a:moveTo>
                  <a:pt x="9079" y="6251"/>
                </a:moveTo>
                <a:cubicBezTo>
                  <a:pt x="8951" y="6265"/>
                  <a:pt x="8836" y="6342"/>
                  <a:pt x="8855" y="6499"/>
                </a:cubicBezTo>
                <a:cubicBezTo>
                  <a:pt x="8872" y="6524"/>
                  <a:pt x="8888" y="6548"/>
                  <a:pt x="8905" y="6573"/>
                </a:cubicBezTo>
                <a:cubicBezTo>
                  <a:pt x="9029" y="6588"/>
                  <a:pt x="9261" y="6623"/>
                  <a:pt x="9227" y="6424"/>
                </a:cubicBezTo>
                <a:cubicBezTo>
                  <a:pt x="9206" y="6304"/>
                  <a:pt x="9146" y="6310"/>
                  <a:pt x="9054" y="6300"/>
                </a:cubicBezTo>
              </a:path>
              <a:path w="919" h="571">
                <a:moveTo>
                  <a:pt x="9649" y="6102"/>
                </a:moveTo>
                <a:cubicBezTo>
                  <a:pt x="9601" y="6018"/>
                  <a:pt x="9501" y="5993"/>
                  <a:pt x="9451" y="6127"/>
                </a:cubicBezTo>
                <a:cubicBezTo>
                  <a:pt x="9394" y="6280"/>
                  <a:pt x="9458" y="6449"/>
                  <a:pt x="9500" y="6598"/>
                </a:cubicBezTo>
              </a:path>
              <a:path w="919" h="571">
                <a:moveTo>
                  <a:pt x="9351" y="6375"/>
                </a:moveTo>
                <a:cubicBezTo>
                  <a:pt x="9509" y="6357"/>
                  <a:pt x="9618" y="6349"/>
                  <a:pt x="9773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68840" y="2259000"/>
            <a:ext cx="179280" cy="108000"/>
          </a:xfrm>
          <a:custGeom>
            <a:avLst/>
            <a:gdLst/>
            <a:ahLst/>
            <a:rect l="l" t="t" r="r" b="b"/>
            <a:pathLst>
              <a:path w="497" h="298">
                <a:moveTo>
                  <a:pt x="10864" y="6375"/>
                </a:moveTo>
                <a:cubicBezTo>
                  <a:pt x="10801" y="6319"/>
                  <a:pt x="10711" y="6244"/>
                  <a:pt x="10616" y="6276"/>
                </a:cubicBezTo>
                <a:cubicBezTo>
                  <a:pt x="10474" y="6323"/>
                  <a:pt x="10486" y="6434"/>
                  <a:pt x="10468" y="6548"/>
                </a:cubicBezTo>
                <a:cubicBezTo>
                  <a:pt x="10633" y="6570"/>
                  <a:pt x="10729" y="6561"/>
                  <a:pt x="10815" y="6400"/>
                </a:cubicBezTo>
                <a:cubicBezTo>
                  <a:pt x="10815" y="6392"/>
                  <a:pt x="10815" y="6383"/>
                  <a:pt x="10815" y="6375"/>
                </a:cubicBezTo>
                <a:cubicBezTo>
                  <a:pt x="10844" y="6463"/>
                  <a:pt x="10887" y="6501"/>
                  <a:pt x="10964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59160" y="2143080"/>
            <a:ext cx="866880" cy="206280"/>
          </a:xfrm>
          <a:custGeom>
            <a:avLst/>
            <a:gdLst/>
            <a:ahLst/>
            <a:rect l="l" t="t" r="r" b="b"/>
            <a:pathLst>
              <a:path w="2407" h="572">
                <a:moveTo>
                  <a:pt x="11832" y="6226"/>
                </a:moveTo>
                <a:cubicBezTo>
                  <a:pt x="11837" y="6318"/>
                  <a:pt x="11817" y="6550"/>
                  <a:pt x="11981" y="6499"/>
                </a:cubicBezTo>
                <a:cubicBezTo>
                  <a:pt x="12068" y="6472"/>
                  <a:pt x="12074" y="6395"/>
                  <a:pt x="12105" y="6325"/>
                </a:cubicBezTo>
                <a:cubicBezTo>
                  <a:pt x="12091" y="6496"/>
                  <a:pt x="12170" y="6582"/>
                  <a:pt x="12353" y="6474"/>
                </a:cubicBezTo>
                <a:cubicBezTo>
                  <a:pt x="12485" y="6397"/>
                  <a:pt x="12432" y="6305"/>
                  <a:pt x="12353" y="6226"/>
                </a:cubicBezTo>
              </a:path>
              <a:path w="2407" h="572">
                <a:moveTo>
                  <a:pt x="12576" y="5953"/>
                </a:moveTo>
                <a:cubicBezTo>
                  <a:pt x="12576" y="6088"/>
                  <a:pt x="12616" y="6245"/>
                  <a:pt x="12650" y="6375"/>
                </a:cubicBezTo>
                <a:cubicBezTo>
                  <a:pt x="12674" y="6423"/>
                  <a:pt x="12683" y="6437"/>
                  <a:pt x="12675" y="6474"/>
                </a:cubicBezTo>
                <a:cubicBezTo>
                  <a:pt x="12680" y="6420"/>
                  <a:pt x="12702" y="6222"/>
                  <a:pt x="12750" y="6201"/>
                </a:cubicBezTo>
                <a:cubicBezTo>
                  <a:pt x="12875" y="6145"/>
                  <a:pt x="13021" y="6229"/>
                  <a:pt x="13022" y="6375"/>
                </a:cubicBezTo>
                <a:cubicBezTo>
                  <a:pt x="12999" y="6423"/>
                  <a:pt x="12991" y="6437"/>
                  <a:pt x="12998" y="6474"/>
                </a:cubicBezTo>
              </a:path>
              <a:path w="2407" h="572">
                <a:moveTo>
                  <a:pt x="13320" y="6176"/>
                </a:moveTo>
                <a:cubicBezTo>
                  <a:pt x="13220" y="6187"/>
                  <a:pt x="13122" y="6224"/>
                  <a:pt x="13122" y="6350"/>
                </a:cubicBezTo>
                <a:cubicBezTo>
                  <a:pt x="13122" y="6517"/>
                  <a:pt x="13287" y="6511"/>
                  <a:pt x="13395" y="6449"/>
                </a:cubicBezTo>
                <a:cubicBezTo>
                  <a:pt x="13498" y="6390"/>
                  <a:pt x="13446" y="6233"/>
                  <a:pt x="13370" y="6176"/>
                </a:cubicBezTo>
                <a:cubicBezTo>
                  <a:pt x="13362" y="6176"/>
                  <a:pt x="13353" y="6176"/>
                  <a:pt x="13345" y="6176"/>
                </a:cubicBezTo>
              </a:path>
              <a:path w="2407" h="572">
                <a:moveTo>
                  <a:pt x="13618" y="5978"/>
                </a:moveTo>
                <a:cubicBezTo>
                  <a:pt x="13659" y="6159"/>
                  <a:pt x="13692" y="6314"/>
                  <a:pt x="13692" y="6499"/>
                </a:cubicBezTo>
              </a:path>
              <a:path w="2407" h="572">
                <a:moveTo>
                  <a:pt x="13940" y="6300"/>
                </a:moveTo>
                <a:cubicBezTo>
                  <a:pt x="14046" y="6277"/>
                  <a:pt x="14176" y="6335"/>
                  <a:pt x="14188" y="6201"/>
                </a:cubicBezTo>
                <a:cubicBezTo>
                  <a:pt x="14195" y="6124"/>
                  <a:pt x="14122" y="6039"/>
                  <a:pt x="14039" y="6052"/>
                </a:cubicBezTo>
                <a:cubicBezTo>
                  <a:pt x="13980" y="6061"/>
                  <a:pt x="13876" y="6168"/>
                  <a:pt x="13866" y="6226"/>
                </a:cubicBezTo>
                <a:cubicBezTo>
                  <a:pt x="13854" y="6293"/>
                  <a:pt x="13837" y="6387"/>
                  <a:pt x="13866" y="6449"/>
                </a:cubicBezTo>
                <a:cubicBezTo>
                  <a:pt x="13900" y="6522"/>
                  <a:pt x="14100" y="6534"/>
                  <a:pt x="14163" y="6524"/>
                </a:cubicBezTo>
                <a:cubicBezTo>
                  <a:pt x="14204" y="6504"/>
                  <a:pt x="14210" y="6495"/>
                  <a:pt x="14238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18080" y="5732640"/>
            <a:ext cx="339840" cy="26640"/>
          </a:xfrm>
          <a:custGeom>
            <a:avLst/>
            <a:gdLst/>
            <a:ahLst/>
            <a:rect l="l" t="t" r="r" b="b"/>
            <a:pathLst>
              <a:path w="944" h="75">
                <a:moveTo>
                  <a:pt x="15329" y="15925"/>
                </a:moveTo>
                <a:cubicBezTo>
                  <a:pt x="15382" y="15987"/>
                  <a:pt x="15459" y="15992"/>
                  <a:pt x="15553" y="15974"/>
                </a:cubicBezTo>
                <a:cubicBezTo>
                  <a:pt x="15647" y="15956"/>
                  <a:pt x="15728" y="15949"/>
                  <a:pt x="15825" y="15949"/>
                </a:cubicBezTo>
                <a:cubicBezTo>
                  <a:pt x="15930" y="15949"/>
                  <a:pt x="15935" y="15993"/>
                  <a:pt x="16024" y="15999"/>
                </a:cubicBezTo>
                <a:cubicBezTo>
                  <a:pt x="16090" y="16003"/>
                  <a:pt x="16144" y="15960"/>
                  <a:pt x="16197" y="15949"/>
                </a:cubicBezTo>
                <a:cubicBezTo>
                  <a:pt x="16239" y="15949"/>
                  <a:pt x="16247" y="15949"/>
                  <a:pt x="16272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2800" y="5411880"/>
            <a:ext cx="455400" cy="642960"/>
          </a:xfrm>
          <a:custGeom>
            <a:avLst/>
            <a:gdLst/>
            <a:ahLst/>
            <a:rect l="l" t="t" r="r" b="b"/>
            <a:pathLst>
              <a:path w="1266" h="1787">
                <a:moveTo>
                  <a:pt x="18876" y="15106"/>
                </a:moveTo>
                <a:cubicBezTo>
                  <a:pt x="18986" y="15045"/>
                  <a:pt x="19025" y="15020"/>
                  <a:pt x="19149" y="15056"/>
                </a:cubicBezTo>
                <a:cubicBezTo>
                  <a:pt x="19116" y="15234"/>
                  <a:pt x="19072" y="15263"/>
                  <a:pt x="18901" y="15329"/>
                </a:cubicBezTo>
                <a:cubicBezTo>
                  <a:pt x="19091" y="15339"/>
                  <a:pt x="19166" y="15341"/>
                  <a:pt x="19224" y="15528"/>
                </a:cubicBezTo>
                <a:cubicBezTo>
                  <a:pt x="19052" y="15623"/>
                  <a:pt x="18972" y="15642"/>
                  <a:pt x="18777" y="15577"/>
                </a:cubicBezTo>
              </a:path>
              <a:path w="1266" h="1787">
                <a:moveTo>
                  <a:pt x="18231" y="15949"/>
                </a:moveTo>
                <a:cubicBezTo>
                  <a:pt x="18552" y="15912"/>
                  <a:pt x="18877" y="15924"/>
                  <a:pt x="19199" y="15900"/>
                </a:cubicBezTo>
                <a:cubicBezTo>
                  <a:pt x="19355" y="15877"/>
                  <a:pt x="19396" y="15869"/>
                  <a:pt x="19496" y="15875"/>
                </a:cubicBezTo>
              </a:path>
              <a:path w="1266" h="1787">
                <a:moveTo>
                  <a:pt x="18579" y="16321"/>
                </a:moveTo>
                <a:cubicBezTo>
                  <a:pt x="18542" y="16469"/>
                  <a:pt x="18565" y="16593"/>
                  <a:pt x="18579" y="16743"/>
                </a:cubicBezTo>
                <a:cubicBezTo>
                  <a:pt x="18579" y="16768"/>
                  <a:pt x="18579" y="16793"/>
                  <a:pt x="18579" y="16818"/>
                </a:cubicBezTo>
              </a:path>
              <a:path w="1266" h="1787">
                <a:moveTo>
                  <a:pt x="19100" y="16247"/>
                </a:moveTo>
                <a:cubicBezTo>
                  <a:pt x="19021" y="16365"/>
                  <a:pt x="18980" y="16426"/>
                  <a:pt x="18976" y="16570"/>
                </a:cubicBezTo>
                <a:cubicBezTo>
                  <a:pt x="18971" y="16740"/>
                  <a:pt x="19206" y="16768"/>
                  <a:pt x="19348" y="16718"/>
                </a:cubicBezTo>
                <a:cubicBezTo>
                  <a:pt x="19436" y="16687"/>
                  <a:pt x="19435" y="16539"/>
                  <a:pt x="19422" y="16470"/>
                </a:cubicBezTo>
                <a:cubicBezTo>
                  <a:pt x="19401" y="16358"/>
                  <a:pt x="19374" y="16288"/>
                  <a:pt x="19273" y="16247"/>
                </a:cubicBezTo>
                <a:cubicBezTo>
                  <a:pt x="19230" y="16230"/>
                  <a:pt x="19117" y="16153"/>
                  <a:pt x="19075" y="16222"/>
                </a:cubicBezTo>
                <a:cubicBezTo>
                  <a:pt x="19075" y="16239"/>
                  <a:pt x="19075" y="16255"/>
                  <a:pt x="19075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13040" y="5545080"/>
            <a:ext cx="179280" cy="233280"/>
          </a:xfrm>
          <a:custGeom>
            <a:avLst/>
            <a:gdLst/>
            <a:ahLst/>
            <a:rect l="l" t="t" r="r" b="b"/>
            <a:pathLst>
              <a:path w="498" h="646">
                <a:moveTo>
                  <a:pt x="8310" y="15404"/>
                </a:moveTo>
                <a:cubicBezTo>
                  <a:pt x="8272" y="15407"/>
                  <a:pt x="7920" y="15397"/>
                  <a:pt x="7913" y="15404"/>
                </a:cubicBezTo>
                <a:cubicBezTo>
                  <a:pt x="7826" y="15490"/>
                  <a:pt x="7837" y="15663"/>
                  <a:pt x="7813" y="15776"/>
                </a:cubicBezTo>
                <a:cubicBezTo>
                  <a:pt x="7903" y="15758"/>
                  <a:pt x="8097" y="15637"/>
                  <a:pt x="8186" y="15726"/>
                </a:cubicBezTo>
                <a:cubicBezTo>
                  <a:pt x="8378" y="15918"/>
                  <a:pt x="8085" y="16055"/>
                  <a:pt x="7938" y="16049"/>
                </a:cubicBezTo>
                <a:cubicBezTo>
                  <a:pt x="7896" y="16041"/>
                  <a:pt x="7855" y="16032"/>
                  <a:pt x="7813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27200" y="5823000"/>
            <a:ext cx="660600" cy="61920"/>
          </a:xfrm>
          <a:custGeom>
            <a:avLst/>
            <a:gdLst/>
            <a:ahLst/>
            <a:rect l="l" t="t" r="r" b="b"/>
            <a:pathLst>
              <a:path w="1836" h="174">
                <a:moveTo>
                  <a:pt x="7020" y="16346"/>
                </a:moveTo>
                <a:cubicBezTo>
                  <a:pt x="7485" y="16290"/>
                  <a:pt x="7934" y="16177"/>
                  <a:pt x="8409" y="16173"/>
                </a:cubicBezTo>
                <a:cubicBezTo>
                  <a:pt x="8673" y="16191"/>
                  <a:pt x="8706" y="16199"/>
                  <a:pt x="8855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70120" y="6010200"/>
            <a:ext cx="1800" cy="223920"/>
          </a:xfrm>
          <a:custGeom>
            <a:avLst/>
            <a:gdLst/>
            <a:ahLst/>
            <a:rect l="l" t="t" r="r" b="b"/>
            <a:pathLst>
              <a:path w="1" h="621">
                <a:moveTo>
                  <a:pt x="7417" y="16743"/>
                </a:moveTo>
                <a:cubicBezTo>
                  <a:pt x="7417" y="16660"/>
                  <a:pt x="7417" y="17100"/>
                  <a:pt x="7417" y="17190"/>
                </a:cubicBezTo>
                <a:cubicBezTo>
                  <a:pt x="7417" y="17231"/>
                  <a:pt x="7417" y="17273"/>
                  <a:pt x="7417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6680" y="6018120"/>
            <a:ext cx="179280" cy="16992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7913" y="16743"/>
                </a:moveTo>
                <a:cubicBezTo>
                  <a:pt x="7806" y="16832"/>
                  <a:pt x="7659" y="16955"/>
                  <a:pt x="7739" y="17115"/>
                </a:cubicBezTo>
                <a:cubicBezTo>
                  <a:pt x="7846" y="17331"/>
                  <a:pt x="8165" y="17123"/>
                  <a:pt x="8210" y="16966"/>
                </a:cubicBezTo>
                <a:cubicBezTo>
                  <a:pt x="8268" y="16764"/>
                  <a:pt x="7977" y="16749"/>
                  <a:pt x="7863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27240" y="5973840"/>
            <a:ext cx="160560" cy="214200"/>
          </a:xfrm>
          <a:custGeom>
            <a:avLst/>
            <a:gdLst/>
            <a:ahLst/>
            <a:rect l="l" t="t" r="r" b="b"/>
            <a:pathLst>
              <a:path w="447" h="597">
                <a:moveTo>
                  <a:pt x="8582" y="16594"/>
                </a:moveTo>
                <a:cubicBezTo>
                  <a:pt x="8479" y="16755"/>
                  <a:pt x="8384" y="16891"/>
                  <a:pt x="8434" y="17090"/>
                </a:cubicBezTo>
                <a:cubicBezTo>
                  <a:pt x="8450" y="17123"/>
                  <a:pt x="8467" y="17157"/>
                  <a:pt x="8483" y="17190"/>
                </a:cubicBezTo>
                <a:cubicBezTo>
                  <a:pt x="8685" y="17174"/>
                  <a:pt x="8825" y="17061"/>
                  <a:pt x="8855" y="16842"/>
                </a:cubicBezTo>
                <a:cubicBezTo>
                  <a:pt x="8884" y="16629"/>
                  <a:pt x="8704" y="16628"/>
                  <a:pt x="8558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raction to a decim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so it can then be written as a percent)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First, check to see if the </a:t>
            </a: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denominator is a factor of 100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, if it is multiply the numerator and denominator so that the new fraction is “per hundred” </a:t>
            </a:r>
            <a:r>
              <a:rPr b="1" lang="en-US" sz="2700" spc="-1" strike="noStrike">
                <a:solidFill>
                  <a:srgbClr val="00cc66"/>
                </a:solidFill>
                <a:latin typeface="Arial"/>
              </a:rPr>
              <a:t>(what are all of the factors of 100?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If that doesn’t work, you’ll need to </a:t>
            </a: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divide the numerator by the denominator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, annexing zeros if need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2035080"/>
            <a:ext cx="1428840" cy="696960"/>
          </a:xfrm>
          <a:custGeom>
            <a:avLst/>
            <a:gdLst/>
            <a:ahLst/>
            <a:rect l="l" t="t" r="r" b="b"/>
            <a:pathLst>
              <a:path w="3969" h="1936">
                <a:moveTo>
                  <a:pt x="868" y="6152"/>
                </a:moveTo>
                <a:cubicBezTo>
                  <a:pt x="904" y="6132"/>
                  <a:pt x="1050" y="6016"/>
                  <a:pt x="1091" y="6052"/>
                </a:cubicBezTo>
                <a:cubicBezTo>
                  <a:pt x="1127" y="6084"/>
                  <a:pt x="1213" y="6250"/>
                  <a:pt x="1166" y="6300"/>
                </a:cubicBezTo>
                <a:cubicBezTo>
                  <a:pt x="1094" y="6348"/>
                  <a:pt x="1073" y="6363"/>
                  <a:pt x="1017" y="6375"/>
                </a:cubicBezTo>
                <a:cubicBezTo>
                  <a:pt x="1040" y="6328"/>
                  <a:pt x="1141" y="6305"/>
                  <a:pt x="1215" y="6400"/>
                </a:cubicBezTo>
                <a:cubicBezTo>
                  <a:pt x="1289" y="6496"/>
                  <a:pt x="1326" y="6631"/>
                  <a:pt x="1215" y="6722"/>
                </a:cubicBezTo>
                <a:cubicBezTo>
                  <a:pt x="1115" y="6804"/>
                  <a:pt x="977" y="6783"/>
                  <a:pt x="868" y="6747"/>
                </a:cubicBezTo>
              </a:path>
              <a:path w="3969" h="1936">
                <a:moveTo>
                  <a:pt x="422" y="6896"/>
                </a:moveTo>
                <a:cubicBezTo>
                  <a:pt x="598" y="6865"/>
                  <a:pt x="765" y="6887"/>
                  <a:pt x="943" y="6871"/>
                </a:cubicBezTo>
                <a:cubicBezTo>
                  <a:pt x="1119" y="6855"/>
                  <a:pt x="1285" y="6846"/>
                  <a:pt x="1463" y="6846"/>
                </a:cubicBezTo>
                <a:cubicBezTo>
                  <a:pt x="1471" y="6846"/>
                  <a:pt x="1480" y="6846"/>
                  <a:pt x="1488" y="6846"/>
                </a:cubicBezTo>
              </a:path>
              <a:path w="3969" h="1936">
                <a:moveTo>
                  <a:pt x="670" y="7069"/>
                </a:moveTo>
                <a:cubicBezTo>
                  <a:pt x="670" y="7213"/>
                  <a:pt x="685" y="7349"/>
                  <a:pt x="695" y="7491"/>
                </a:cubicBezTo>
              </a:path>
              <a:path w="3969" h="1936">
                <a:moveTo>
                  <a:pt x="1166" y="7119"/>
                </a:moveTo>
                <a:cubicBezTo>
                  <a:pt x="1103" y="7081"/>
                  <a:pt x="1053" y="7091"/>
                  <a:pt x="992" y="7144"/>
                </a:cubicBezTo>
                <a:cubicBezTo>
                  <a:pt x="927" y="7201"/>
                  <a:pt x="889" y="7272"/>
                  <a:pt x="918" y="7342"/>
                </a:cubicBezTo>
                <a:cubicBezTo>
                  <a:pt x="943" y="7403"/>
                  <a:pt x="1001" y="7437"/>
                  <a:pt x="1067" y="7441"/>
                </a:cubicBezTo>
                <a:cubicBezTo>
                  <a:pt x="1123" y="7445"/>
                  <a:pt x="1218" y="7428"/>
                  <a:pt x="1265" y="7392"/>
                </a:cubicBezTo>
                <a:cubicBezTo>
                  <a:pt x="1299" y="7366"/>
                  <a:pt x="1378" y="7295"/>
                  <a:pt x="1364" y="7243"/>
                </a:cubicBezTo>
                <a:cubicBezTo>
                  <a:pt x="1348" y="7182"/>
                  <a:pt x="1250" y="7155"/>
                  <a:pt x="1191" y="7144"/>
                </a:cubicBezTo>
                <a:cubicBezTo>
                  <a:pt x="1141" y="7144"/>
                  <a:pt x="1124" y="7144"/>
                  <a:pt x="1091" y="7144"/>
                </a:cubicBezTo>
              </a:path>
              <a:path w="3969" h="1936">
                <a:moveTo>
                  <a:pt x="1885" y="6796"/>
                </a:moveTo>
                <a:cubicBezTo>
                  <a:pt x="1885" y="6761"/>
                  <a:pt x="1880" y="6744"/>
                  <a:pt x="1860" y="6722"/>
                </a:cubicBezTo>
                <a:cubicBezTo>
                  <a:pt x="1898" y="6848"/>
                  <a:pt x="1937" y="6932"/>
                  <a:pt x="2009" y="7045"/>
                </a:cubicBezTo>
              </a:path>
              <a:path w="3969" h="1936">
                <a:moveTo>
                  <a:pt x="2108" y="6772"/>
                </a:moveTo>
                <a:cubicBezTo>
                  <a:pt x="2033" y="6864"/>
                  <a:pt x="1958" y="6954"/>
                  <a:pt x="1885" y="7045"/>
                </a:cubicBezTo>
              </a:path>
              <a:path w="3969" h="1936">
                <a:moveTo>
                  <a:pt x="2257" y="6970"/>
                </a:moveTo>
                <a:cubicBezTo>
                  <a:pt x="2263" y="7063"/>
                  <a:pt x="2275" y="7150"/>
                  <a:pt x="2282" y="7243"/>
                </a:cubicBezTo>
              </a:path>
              <a:path w="3969" h="1936">
                <a:moveTo>
                  <a:pt x="2505" y="6921"/>
                </a:moveTo>
                <a:cubicBezTo>
                  <a:pt x="2455" y="7063"/>
                  <a:pt x="2447" y="7082"/>
                  <a:pt x="2505" y="7218"/>
                </a:cubicBezTo>
                <a:cubicBezTo>
                  <a:pt x="2590" y="7206"/>
                  <a:pt x="2818" y="7183"/>
                  <a:pt x="2729" y="7045"/>
                </a:cubicBezTo>
                <a:cubicBezTo>
                  <a:pt x="2666" y="6982"/>
                  <a:pt x="2631" y="6962"/>
                  <a:pt x="2555" y="6970"/>
                </a:cubicBezTo>
              </a:path>
              <a:path w="3969" h="1936">
                <a:moveTo>
                  <a:pt x="2232" y="6796"/>
                </a:moveTo>
                <a:cubicBezTo>
                  <a:pt x="2373" y="6764"/>
                  <a:pt x="2513" y="6729"/>
                  <a:pt x="2654" y="6697"/>
                </a:cubicBezTo>
              </a:path>
              <a:path w="3969" h="1936">
                <a:moveTo>
                  <a:pt x="2257" y="6350"/>
                </a:moveTo>
                <a:cubicBezTo>
                  <a:pt x="2276" y="6453"/>
                  <a:pt x="2282" y="6544"/>
                  <a:pt x="2282" y="6648"/>
                </a:cubicBezTo>
              </a:path>
              <a:path w="3969" h="1936">
                <a:moveTo>
                  <a:pt x="2480" y="6276"/>
                </a:moveTo>
                <a:cubicBezTo>
                  <a:pt x="2452" y="6352"/>
                  <a:pt x="2363" y="6553"/>
                  <a:pt x="2530" y="6573"/>
                </a:cubicBezTo>
                <a:cubicBezTo>
                  <a:pt x="2657" y="6588"/>
                  <a:pt x="2718" y="6407"/>
                  <a:pt x="2654" y="6325"/>
                </a:cubicBezTo>
                <a:cubicBezTo>
                  <a:pt x="2609" y="6281"/>
                  <a:pt x="2599" y="6265"/>
                  <a:pt x="2555" y="6276"/>
                </a:cubicBezTo>
              </a:path>
              <a:path w="3969" h="1936">
                <a:moveTo>
                  <a:pt x="2084" y="6077"/>
                </a:moveTo>
                <a:cubicBezTo>
                  <a:pt x="2061" y="6138"/>
                  <a:pt x="2037" y="6189"/>
                  <a:pt x="2034" y="6251"/>
                </a:cubicBezTo>
                <a:cubicBezTo>
                  <a:pt x="2027" y="6411"/>
                  <a:pt x="2035" y="6570"/>
                  <a:pt x="2059" y="6722"/>
                </a:cubicBezTo>
                <a:cubicBezTo>
                  <a:pt x="2068" y="6781"/>
                  <a:pt x="2076" y="6839"/>
                  <a:pt x="2084" y="6896"/>
                </a:cubicBezTo>
                <a:cubicBezTo>
                  <a:pt x="2093" y="6962"/>
                  <a:pt x="2110" y="7007"/>
                  <a:pt x="2133" y="7069"/>
                </a:cubicBezTo>
                <a:cubicBezTo>
                  <a:pt x="2156" y="7131"/>
                  <a:pt x="2189" y="7201"/>
                  <a:pt x="2208" y="7268"/>
                </a:cubicBezTo>
                <a:cubicBezTo>
                  <a:pt x="2227" y="7334"/>
                  <a:pt x="2232" y="7396"/>
                  <a:pt x="2232" y="7466"/>
                </a:cubicBezTo>
                <a:cubicBezTo>
                  <a:pt x="2232" y="7520"/>
                  <a:pt x="2227" y="7560"/>
                  <a:pt x="2282" y="7590"/>
                </a:cubicBezTo>
                <a:cubicBezTo>
                  <a:pt x="2338" y="7621"/>
                  <a:pt x="2479" y="7540"/>
                  <a:pt x="2530" y="7516"/>
                </a:cubicBezTo>
                <a:cubicBezTo>
                  <a:pt x="2571" y="7496"/>
                  <a:pt x="2642" y="7473"/>
                  <a:pt x="2679" y="7466"/>
                </a:cubicBezTo>
                <a:cubicBezTo>
                  <a:pt x="2738" y="7455"/>
                  <a:pt x="2802" y="7427"/>
                  <a:pt x="2853" y="7417"/>
                </a:cubicBezTo>
                <a:cubicBezTo>
                  <a:pt x="2894" y="7417"/>
                  <a:pt x="2902" y="7417"/>
                  <a:pt x="2927" y="7417"/>
                </a:cubicBezTo>
                <a:cubicBezTo>
                  <a:pt x="2927" y="7331"/>
                  <a:pt x="2915" y="7272"/>
                  <a:pt x="2902" y="7193"/>
                </a:cubicBezTo>
                <a:cubicBezTo>
                  <a:pt x="2887" y="7102"/>
                  <a:pt x="2856" y="7011"/>
                  <a:pt x="2828" y="6921"/>
                </a:cubicBezTo>
                <a:cubicBezTo>
                  <a:pt x="2811" y="6866"/>
                  <a:pt x="2784" y="6788"/>
                  <a:pt x="2778" y="6722"/>
                </a:cubicBezTo>
                <a:cubicBezTo>
                  <a:pt x="2771" y="6652"/>
                  <a:pt x="2757" y="6591"/>
                  <a:pt x="2753" y="6524"/>
                </a:cubicBezTo>
                <a:cubicBezTo>
                  <a:pt x="2749" y="6446"/>
                  <a:pt x="2738" y="6366"/>
                  <a:pt x="2729" y="6300"/>
                </a:cubicBezTo>
                <a:cubicBezTo>
                  <a:pt x="2720" y="6232"/>
                  <a:pt x="2715" y="6167"/>
                  <a:pt x="2704" y="6102"/>
                </a:cubicBezTo>
                <a:cubicBezTo>
                  <a:pt x="2693" y="6036"/>
                  <a:pt x="2694" y="5989"/>
                  <a:pt x="2679" y="5928"/>
                </a:cubicBezTo>
                <a:cubicBezTo>
                  <a:pt x="2668" y="5883"/>
                  <a:pt x="2617" y="5825"/>
                  <a:pt x="2604" y="5779"/>
                </a:cubicBezTo>
                <a:cubicBezTo>
                  <a:pt x="2581" y="5700"/>
                  <a:pt x="2581" y="5702"/>
                  <a:pt x="2505" y="5655"/>
                </a:cubicBezTo>
                <a:cubicBezTo>
                  <a:pt x="2442" y="5719"/>
                  <a:pt x="2375" y="5775"/>
                  <a:pt x="2332" y="5854"/>
                </a:cubicBezTo>
                <a:cubicBezTo>
                  <a:pt x="2280" y="5948"/>
                  <a:pt x="2193" y="6028"/>
                  <a:pt x="2133" y="6102"/>
                </a:cubicBezTo>
                <a:cubicBezTo>
                  <a:pt x="2084" y="6163"/>
                  <a:pt x="2059" y="6238"/>
                  <a:pt x="2009" y="6300"/>
                </a:cubicBezTo>
                <a:cubicBezTo>
                  <a:pt x="1944" y="6381"/>
                  <a:pt x="1909" y="6425"/>
                  <a:pt x="1860" y="6524"/>
                </a:cubicBezTo>
                <a:cubicBezTo>
                  <a:pt x="1821" y="6603"/>
                  <a:pt x="1826" y="6581"/>
                  <a:pt x="1811" y="6672"/>
                </a:cubicBezTo>
                <a:cubicBezTo>
                  <a:pt x="1886" y="6626"/>
                  <a:pt x="1957" y="6562"/>
                  <a:pt x="2034" y="6524"/>
                </a:cubicBezTo>
                <a:cubicBezTo>
                  <a:pt x="2042" y="6524"/>
                  <a:pt x="2051" y="6524"/>
                  <a:pt x="2059" y="6524"/>
                </a:cubicBezTo>
              </a:path>
              <a:path w="3969" h="1936">
                <a:moveTo>
                  <a:pt x="3026" y="6672"/>
                </a:moveTo>
                <a:cubicBezTo>
                  <a:pt x="3085" y="6665"/>
                  <a:pt x="3105" y="6654"/>
                  <a:pt x="3150" y="6672"/>
                </a:cubicBezTo>
              </a:path>
              <a:path w="3969" h="1936">
                <a:moveTo>
                  <a:pt x="3076" y="6796"/>
                </a:moveTo>
                <a:cubicBezTo>
                  <a:pt x="3143" y="6796"/>
                  <a:pt x="3172" y="6789"/>
                  <a:pt x="3225" y="6747"/>
                </a:cubicBezTo>
              </a:path>
              <a:path w="3969" h="1936">
                <a:moveTo>
                  <a:pt x="3522" y="6871"/>
                </a:moveTo>
                <a:cubicBezTo>
                  <a:pt x="3497" y="6988"/>
                  <a:pt x="3506" y="7105"/>
                  <a:pt x="3473" y="7218"/>
                </a:cubicBezTo>
              </a:path>
              <a:path w="3969" h="1936">
                <a:moveTo>
                  <a:pt x="3795" y="6871"/>
                </a:moveTo>
                <a:cubicBezTo>
                  <a:pt x="3711" y="6972"/>
                  <a:pt x="3704" y="7040"/>
                  <a:pt x="3696" y="7169"/>
                </a:cubicBezTo>
                <a:cubicBezTo>
                  <a:pt x="3852" y="7177"/>
                  <a:pt x="3969" y="7151"/>
                  <a:pt x="3969" y="6945"/>
                </a:cubicBezTo>
                <a:cubicBezTo>
                  <a:pt x="3969" y="6827"/>
                  <a:pt x="3873" y="6852"/>
                  <a:pt x="3795" y="6846"/>
                </a:cubicBezTo>
              </a:path>
              <a:path w="3969" h="1936">
                <a:moveTo>
                  <a:pt x="4167" y="6796"/>
                </a:moveTo>
                <a:cubicBezTo>
                  <a:pt x="4146" y="6908"/>
                  <a:pt x="4141" y="6959"/>
                  <a:pt x="4167" y="7069"/>
                </a:cubicBezTo>
                <a:cubicBezTo>
                  <a:pt x="4287" y="7069"/>
                  <a:pt x="4401" y="7079"/>
                  <a:pt x="4390" y="6921"/>
                </a:cubicBezTo>
                <a:cubicBezTo>
                  <a:pt x="4381" y="6785"/>
                  <a:pt x="4235" y="6826"/>
                  <a:pt x="4142" y="6821"/>
                </a:cubicBezTo>
              </a:path>
              <a:path w="3969" h="1936">
                <a:moveTo>
                  <a:pt x="3423" y="6722"/>
                </a:moveTo>
                <a:cubicBezTo>
                  <a:pt x="3610" y="6656"/>
                  <a:pt x="3752" y="6672"/>
                  <a:pt x="3944" y="6648"/>
                </a:cubicBezTo>
                <a:cubicBezTo>
                  <a:pt x="4052" y="6635"/>
                  <a:pt x="4158" y="6606"/>
                  <a:pt x="4266" y="6598"/>
                </a:cubicBezTo>
                <a:cubicBezTo>
                  <a:pt x="4299" y="6598"/>
                  <a:pt x="4316" y="6598"/>
                  <a:pt x="4341" y="6598"/>
                </a:cubicBezTo>
              </a:path>
              <a:path w="3969" h="1936">
                <a:moveTo>
                  <a:pt x="3646" y="6201"/>
                </a:moveTo>
                <a:cubicBezTo>
                  <a:pt x="3671" y="6152"/>
                  <a:pt x="3680" y="6135"/>
                  <a:pt x="3721" y="6127"/>
                </a:cubicBezTo>
                <a:cubicBezTo>
                  <a:pt x="3800" y="6226"/>
                  <a:pt x="3776" y="6245"/>
                  <a:pt x="3696" y="6325"/>
                </a:cubicBezTo>
                <a:cubicBezTo>
                  <a:pt x="3773" y="6364"/>
                  <a:pt x="3835" y="6373"/>
                  <a:pt x="3770" y="6474"/>
                </a:cubicBezTo>
                <a:cubicBezTo>
                  <a:pt x="3717" y="6556"/>
                  <a:pt x="3654" y="6559"/>
                  <a:pt x="3572" y="6573"/>
                </a:cubicBezTo>
              </a:path>
              <a:path w="3969" h="1936">
                <a:moveTo>
                  <a:pt x="4018" y="6152"/>
                </a:moveTo>
                <a:cubicBezTo>
                  <a:pt x="3937" y="6185"/>
                  <a:pt x="3905" y="6257"/>
                  <a:pt x="3919" y="6350"/>
                </a:cubicBezTo>
                <a:cubicBezTo>
                  <a:pt x="3931" y="6431"/>
                  <a:pt x="4031" y="6552"/>
                  <a:pt x="4118" y="6474"/>
                </a:cubicBezTo>
                <a:cubicBezTo>
                  <a:pt x="4198" y="6402"/>
                  <a:pt x="4238" y="6221"/>
                  <a:pt x="4142" y="6152"/>
                </a:cubicBezTo>
                <a:cubicBezTo>
                  <a:pt x="4100" y="6122"/>
                  <a:pt x="4041" y="6109"/>
                  <a:pt x="3994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2928960"/>
            <a:ext cx="223920" cy="214200"/>
          </a:xfrm>
          <a:custGeom>
            <a:avLst/>
            <a:gdLst/>
            <a:ahLst/>
            <a:rect l="l" t="t" r="r" b="b"/>
            <a:pathLst>
              <a:path w="621" h="596">
                <a:moveTo>
                  <a:pt x="521" y="8558"/>
                </a:moveTo>
                <a:cubicBezTo>
                  <a:pt x="473" y="8629"/>
                  <a:pt x="458" y="8650"/>
                  <a:pt x="446" y="8706"/>
                </a:cubicBezTo>
                <a:cubicBezTo>
                  <a:pt x="506" y="8706"/>
                  <a:pt x="644" y="8618"/>
                  <a:pt x="546" y="8607"/>
                </a:cubicBezTo>
                <a:cubicBezTo>
                  <a:pt x="473" y="8607"/>
                  <a:pt x="449" y="8606"/>
                  <a:pt x="422" y="8657"/>
                </a:cubicBezTo>
              </a:path>
              <a:path w="621" h="596">
                <a:moveTo>
                  <a:pt x="695" y="8285"/>
                </a:moveTo>
                <a:cubicBezTo>
                  <a:pt x="711" y="8252"/>
                  <a:pt x="828" y="8108"/>
                  <a:pt x="893" y="8136"/>
                </a:cubicBezTo>
                <a:cubicBezTo>
                  <a:pt x="1019" y="8190"/>
                  <a:pt x="883" y="8323"/>
                  <a:pt x="843" y="8359"/>
                </a:cubicBezTo>
                <a:cubicBezTo>
                  <a:pt x="935" y="8336"/>
                  <a:pt x="960" y="8325"/>
                  <a:pt x="1017" y="8359"/>
                </a:cubicBezTo>
                <a:cubicBezTo>
                  <a:pt x="1055" y="8523"/>
                  <a:pt x="1059" y="8581"/>
                  <a:pt x="868" y="8607"/>
                </a:cubicBezTo>
                <a:cubicBezTo>
                  <a:pt x="785" y="8607"/>
                  <a:pt x="769" y="8607"/>
                  <a:pt x="719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040" y="3009960"/>
            <a:ext cx="88920" cy="792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389" y="8384"/>
                </a:moveTo>
                <a:cubicBezTo>
                  <a:pt x="1465" y="8355"/>
                  <a:pt x="1529" y="8359"/>
                  <a:pt x="1612" y="8359"/>
                </a:cubicBezTo>
              </a:path>
              <a:path w="249" h="224">
                <a:moveTo>
                  <a:pt x="1414" y="8582"/>
                </a:moveTo>
                <a:cubicBezTo>
                  <a:pt x="1490" y="8562"/>
                  <a:pt x="1560" y="8542"/>
                  <a:pt x="1637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8880" y="2919240"/>
            <a:ext cx="428400" cy="223920"/>
          </a:xfrm>
          <a:custGeom>
            <a:avLst/>
            <a:gdLst/>
            <a:ahLst/>
            <a:rect l="l" t="t" r="r" b="b"/>
            <a:pathLst>
              <a:path w="1192" h="621">
                <a:moveTo>
                  <a:pt x="2158" y="8632"/>
                </a:moveTo>
                <a:cubicBezTo>
                  <a:pt x="2141" y="8665"/>
                  <a:pt x="2125" y="8698"/>
                  <a:pt x="2108" y="8731"/>
                </a:cubicBezTo>
                <a:cubicBezTo>
                  <a:pt x="2200" y="8705"/>
                  <a:pt x="2344" y="8537"/>
                  <a:pt x="2183" y="8607"/>
                </a:cubicBezTo>
                <a:cubicBezTo>
                  <a:pt x="2175" y="8615"/>
                  <a:pt x="2166" y="8624"/>
                  <a:pt x="2158" y="8632"/>
                </a:cubicBezTo>
              </a:path>
              <a:path w="1192" h="621">
                <a:moveTo>
                  <a:pt x="2332" y="8310"/>
                </a:moveTo>
                <a:cubicBezTo>
                  <a:pt x="2370" y="8253"/>
                  <a:pt x="2497" y="8134"/>
                  <a:pt x="2580" y="8235"/>
                </a:cubicBezTo>
                <a:cubicBezTo>
                  <a:pt x="2663" y="8336"/>
                  <a:pt x="2528" y="8416"/>
                  <a:pt x="2456" y="8434"/>
                </a:cubicBezTo>
                <a:cubicBezTo>
                  <a:pt x="2561" y="8428"/>
                  <a:pt x="2885" y="8355"/>
                  <a:pt x="2803" y="8582"/>
                </a:cubicBezTo>
                <a:cubicBezTo>
                  <a:pt x="2735" y="8768"/>
                  <a:pt x="2519" y="8689"/>
                  <a:pt x="2406" y="8632"/>
                </a:cubicBezTo>
              </a:path>
              <a:path w="1192" h="621">
                <a:moveTo>
                  <a:pt x="3051" y="8111"/>
                </a:moveTo>
                <a:cubicBezTo>
                  <a:pt x="2980" y="8147"/>
                  <a:pt x="2895" y="8196"/>
                  <a:pt x="2877" y="8285"/>
                </a:cubicBezTo>
                <a:cubicBezTo>
                  <a:pt x="2855" y="8396"/>
                  <a:pt x="2888" y="8626"/>
                  <a:pt x="3051" y="8607"/>
                </a:cubicBezTo>
                <a:cubicBezTo>
                  <a:pt x="3218" y="8588"/>
                  <a:pt x="3344" y="8357"/>
                  <a:pt x="3274" y="8210"/>
                </a:cubicBezTo>
                <a:cubicBezTo>
                  <a:pt x="3214" y="8084"/>
                  <a:pt x="3053" y="8121"/>
                  <a:pt x="2952" y="8136"/>
                </a:cubicBezTo>
                <a:cubicBezTo>
                  <a:pt x="2944" y="8136"/>
                  <a:pt x="2935" y="8136"/>
                  <a:pt x="2927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63800" y="342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57" y="9525"/>
                </a:moveTo>
                <a:lnTo>
                  <a:pt x="5457" y="9525"/>
                </a:lnTo>
              </a:path>
              <a:path w="1" h="1">
                <a:moveTo>
                  <a:pt x="5457" y="9525"/>
                </a:moveTo>
                <a:lnTo>
                  <a:pt x="5457" y="95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8920" y="3911760"/>
            <a:ext cx="1876320" cy="874440"/>
          </a:xfrm>
          <a:custGeom>
            <a:avLst/>
            <a:gdLst/>
            <a:ahLst/>
            <a:rect l="l" t="t" r="r" b="b"/>
            <a:pathLst>
              <a:path w="5210" h="2432">
                <a:moveTo>
                  <a:pt x="248" y="11410"/>
                </a:moveTo>
                <a:cubicBezTo>
                  <a:pt x="439" y="11354"/>
                  <a:pt x="598" y="11333"/>
                  <a:pt x="794" y="11311"/>
                </a:cubicBezTo>
                <a:cubicBezTo>
                  <a:pt x="979" y="11291"/>
                  <a:pt x="1139" y="11256"/>
                  <a:pt x="1315" y="11212"/>
                </a:cubicBezTo>
                <a:cubicBezTo>
                  <a:pt x="1584" y="11145"/>
                  <a:pt x="1860" y="11106"/>
                  <a:pt x="2133" y="11063"/>
                </a:cubicBezTo>
                <a:cubicBezTo>
                  <a:pt x="2448" y="11013"/>
                  <a:pt x="2760" y="10957"/>
                  <a:pt x="3076" y="10914"/>
                </a:cubicBezTo>
                <a:cubicBezTo>
                  <a:pt x="3291" y="10885"/>
                  <a:pt x="3482" y="10882"/>
                  <a:pt x="3696" y="10889"/>
                </a:cubicBezTo>
                <a:cubicBezTo>
                  <a:pt x="4224" y="10906"/>
                  <a:pt x="4736" y="11032"/>
                  <a:pt x="5259" y="11088"/>
                </a:cubicBezTo>
                <a:cubicBezTo>
                  <a:pt x="5366" y="11088"/>
                  <a:pt x="5391" y="11088"/>
                  <a:pt x="5457" y="11088"/>
                </a:cubicBezTo>
              </a:path>
              <a:path w="5210" h="2432">
                <a:moveTo>
                  <a:pt x="1290" y="12105"/>
                </a:moveTo>
                <a:cubicBezTo>
                  <a:pt x="1276" y="12022"/>
                  <a:pt x="1182" y="12045"/>
                  <a:pt x="1091" y="12030"/>
                </a:cubicBezTo>
                <a:cubicBezTo>
                  <a:pt x="1011" y="12016"/>
                  <a:pt x="968" y="11986"/>
                  <a:pt x="918" y="12080"/>
                </a:cubicBezTo>
                <a:cubicBezTo>
                  <a:pt x="883" y="12145"/>
                  <a:pt x="882" y="12257"/>
                  <a:pt x="868" y="12328"/>
                </a:cubicBezTo>
                <a:cubicBezTo>
                  <a:pt x="959" y="12320"/>
                  <a:pt x="1048" y="12264"/>
                  <a:pt x="1141" y="12278"/>
                </a:cubicBezTo>
                <a:cubicBezTo>
                  <a:pt x="1228" y="12291"/>
                  <a:pt x="1249" y="12337"/>
                  <a:pt x="1290" y="12402"/>
                </a:cubicBezTo>
                <a:cubicBezTo>
                  <a:pt x="1217" y="12488"/>
                  <a:pt x="1135" y="12497"/>
                  <a:pt x="1017" y="12502"/>
                </a:cubicBezTo>
                <a:cubicBezTo>
                  <a:pt x="976" y="12502"/>
                  <a:pt x="968" y="12502"/>
                  <a:pt x="943" y="12502"/>
                </a:cubicBezTo>
              </a:path>
              <a:path w="5210" h="2432">
                <a:moveTo>
                  <a:pt x="496" y="12675"/>
                </a:moveTo>
                <a:cubicBezTo>
                  <a:pt x="631" y="12675"/>
                  <a:pt x="759" y="12692"/>
                  <a:pt x="893" y="12700"/>
                </a:cubicBezTo>
                <a:cubicBezTo>
                  <a:pt x="1027" y="12708"/>
                  <a:pt x="1154" y="12725"/>
                  <a:pt x="1290" y="12725"/>
                </a:cubicBezTo>
                <a:cubicBezTo>
                  <a:pt x="1306" y="12725"/>
                  <a:pt x="1323" y="12725"/>
                  <a:pt x="1339" y="12725"/>
                </a:cubicBezTo>
              </a:path>
              <a:path w="5210" h="2432">
                <a:moveTo>
                  <a:pt x="868" y="12824"/>
                </a:moveTo>
                <a:cubicBezTo>
                  <a:pt x="799" y="12865"/>
                  <a:pt x="772" y="12927"/>
                  <a:pt x="744" y="12998"/>
                </a:cubicBezTo>
                <a:cubicBezTo>
                  <a:pt x="708" y="13089"/>
                  <a:pt x="681" y="13106"/>
                  <a:pt x="695" y="13196"/>
                </a:cubicBezTo>
                <a:cubicBezTo>
                  <a:pt x="709" y="13289"/>
                  <a:pt x="844" y="13292"/>
                  <a:pt x="918" y="13295"/>
                </a:cubicBezTo>
                <a:cubicBezTo>
                  <a:pt x="998" y="13298"/>
                  <a:pt x="1069" y="13303"/>
                  <a:pt x="1141" y="13271"/>
                </a:cubicBezTo>
                <a:cubicBezTo>
                  <a:pt x="1202" y="13244"/>
                  <a:pt x="1290" y="13177"/>
                  <a:pt x="1265" y="13097"/>
                </a:cubicBezTo>
                <a:cubicBezTo>
                  <a:pt x="1248" y="13043"/>
                  <a:pt x="1134" y="13024"/>
                  <a:pt x="1091" y="13022"/>
                </a:cubicBezTo>
                <a:cubicBezTo>
                  <a:pt x="986" y="13017"/>
                  <a:pt x="999" y="13041"/>
                  <a:pt x="967" y="13122"/>
                </a:cubicBezTo>
                <a:cubicBezTo>
                  <a:pt x="942" y="13187"/>
                  <a:pt x="958" y="13177"/>
                  <a:pt x="967" y="13246"/>
                </a:cubicBezTo>
              </a:path>
              <a:path w="5210" h="2432">
                <a:moveTo>
                  <a:pt x="1811" y="12675"/>
                </a:moveTo>
                <a:cubicBezTo>
                  <a:pt x="1910" y="12650"/>
                  <a:pt x="1943" y="12642"/>
                  <a:pt x="2009" y="12626"/>
                </a:cubicBezTo>
              </a:path>
              <a:path w="5210" h="2432">
                <a:moveTo>
                  <a:pt x="1786" y="12923"/>
                </a:moveTo>
                <a:cubicBezTo>
                  <a:pt x="1878" y="12900"/>
                  <a:pt x="1968" y="12877"/>
                  <a:pt x="2059" y="12849"/>
                </a:cubicBezTo>
              </a:path>
              <a:path w="5210" h="2432">
                <a:moveTo>
                  <a:pt x="2332" y="12874"/>
                </a:moveTo>
                <a:lnTo>
                  <a:pt x="2332" y="12874"/>
                </a:lnTo>
              </a:path>
              <a:path w="5210" h="2432">
                <a:moveTo>
                  <a:pt x="2753" y="12353"/>
                </a:moveTo>
                <a:cubicBezTo>
                  <a:pt x="2652" y="12370"/>
                  <a:pt x="2594" y="12404"/>
                  <a:pt x="2530" y="12477"/>
                </a:cubicBezTo>
                <a:cubicBezTo>
                  <a:pt x="2579" y="12657"/>
                  <a:pt x="2721" y="12597"/>
                  <a:pt x="2853" y="12725"/>
                </a:cubicBezTo>
                <a:cubicBezTo>
                  <a:pt x="2964" y="12832"/>
                  <a:pt x="2874" y="12883"/>
                  <a:pt x="2803" y="12948"/>
                </a:cubicBezTo>
                <a:cubicBezTo>
                  <a:pt x="2700" y="12871"/>
                  <a:pt x="2668" y="12761"/>
                  <a:pt x="2704" y="12626"/>
                </a:cubicBezTo>
                <a:cubicBezTo>
                  <a:pt x="2723" y="12556"/>
                  <a:pt x="2772" y="12471"/>
                  <a:pt x="2803" y="12402"/>
                </a:cubicBezTo>
              </a:path>
              <a:path w="5210" h="2432">
                <a:moveTo>
                  <a:pt x="2927" y="12328"/>
                </a:moveTo>
                <a:cubicBezTo>
                  <a:pt x="3014" y="12262"/>
                  <a:pt x="3113" y="12271"/>
                  <a:pt x="3076" y="12427"/>
                </a:cubicBezTo>
                <a:cubicBezTo>
                  <a:pt x="3059" y="12460"/>
                  <a:pt x="3043" y="12493"/>
                  <a:pt x="3026" y="12526"/>
                </a:cubicBezTo>
                <a:cubicBezTo>
                  <a:pt x="3112" y="12487"/>
                  <a:pt x="3283" y="12430"/>
                  <a:pt x="3299" y="12601"/>
                </a:cubicBezTo>
                <a:cubicBezTo>
                  <a:pt x="3317" y="12787"/>
                  <a:pt x="3150" y="12768"/>
                  <a:pt x="3026" y="12774"/>
                </a:cubicBezTo>
              </a:path>
              <a:path w="5210" h="2432">
                <a:moveTo>
                  <a:pt x="2853" y="12129"/>
                </a:moveTo>
                <a:cubicBezTo>
                  <a:pt x="2921" y="12084"/>
                  <a:pt x="3175" y="12080"/>
                  <a:pt x="2952" y="12080"/>
                </a:cubicBezTo>
                <a:cubicBezTo>
                  <a:pt x="2935" y="12080"/>
                  <a:pt x="2919" y="12080"/>
                  <a:pt x="2902" y="12080"/>
                </a:cubicBezTo>
                <a:cubicBezTo>
                  <a:pt x="2995" y="12092"/>
                  <a:pt x="2884" y="12080"/>
                  <a:pt x="2977" y="12080"/>
                </a:cubicBezTo>
                <a:cubicBezTo>
                  <a:pt x="3002" y="12080"/>
                  <a:pt x="3026" y="12080"/>
                  <a:pt x="3051" y="12080"/>
                </a:cubicBezTo>
              </a:path>
              <a:path w="5210" h="2432">
                <a:moveTo>
                  <a:pt x="2480" y="12973"/>
                </a:moveTo>
                <a:cubicBezTo>
                  <a:pt x="2428" y="12950"/>
                  <a:pt x="2334" y="13005"/>
                  <a:pt x="2332" y="12948"/>
                </a:cubicBezTo>
                <a:cubicBezTo>
                  <a:pt x="2340" y="12940"/>
                  <a:pt x="2348" y="12931"/>
                  <a:pt x="2356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6840" y="4749840"/>
            <a:ext cx="1303200" cy="1841400"/>
          </a:xfrm>
          <a:custGeom>
            <a:avLst/>
            <a:gdLst/>
            <a:ahLst/>
            <a:rect l="l" t="t" r="r" b="b"/>
            <a:pathLst>
              <a:path w="3622" h="5111">
                <a:moveTo>
                  <a:pt x="4638" y="14139"/>
                </a:moveTo>
                <a:cubicBezTo>
                  <a:pt x="4468" y="14317"/>
                  <a:pt x="4306" y="14501"/>
                  <a:pt x="4142" y="14684"/>
                </a:cubicBezTo>
                <a:cubicBezTo>
                  <a:pt x="4065" y="14770"/>
                  <a:pt x="4134" y="14857"/>
                  <a:pt x="4217" y="14932"/>
                </a:cubicBezTo>
                <a:cubicBezTo>
                  <a:pt x="4280" y="14989"/>
                  <a:pt x="4411" y="15115"/>
                  <a:pt x="4490" y="15131"/>
                </a:cubicBezTo>
                <a:cubicBezTo>
                  <a:pt x="4543" y="15131"/>
                  <a:pt x="4538" y="15105"/>
                  <a:pt x="4465" y="15032"/>
                </a:cubicBezTo>
              </a:path>
              <a:path w="3622" h="5111">
                <a:moveTo>
                  <a:pt x="4465" y="15032"/>
                </a:moveTo>
                <a:lnTo>
                  <a:pt x="4465" y="15032"/>
                </a:lnTo>
              </a:path>
              <a:path w="3622" h="5111">
                <a:moveTo>
                  <a:pt x="2456" y="14560"/>
                </a:moveTo>
                <a:cubicBezTo>
                  <a:pt x="2378" y="14568"/>
                  <a:pt x="2225" y="14557"/>
                  <a:pt x="2183" y="14635"/>
                </a:cubicBezTo>
                <a:cubicBezTo>
                  <a:pt x="2155" y="14687"/>
                  <a:pt x="2140" y="14775"/>
                  <a:pt x="2133" y="14833"/>
                </a:cubicBezTo>
                <a:cubicBezTo>
                  <a:pt x="2240" y="14852"/>
                  <a:pt x="2237" y="14825"/>
                  <a:pt x="2332" y="14808"/>
                </a:cubicBezTo>
                <a:cubicBezTo>
                  <a:pt x="2390" y="14798"/>
                  <a:pt x="2474" y="14835"/>
                  <a:pt x="2505" y="14883"/>
                </a:cubicBezTo>
                <a:cubicBezTo>
                  <a:pt x="2541" y="14938"/>
                  <a:pt x="2630" y="15102"/>
                  <a:pt x="2530" y="15156"/>
                </a:cubicBezTo>
                <a:cubicBezTo>
                  <a:pt x="2392" y="15230"/>
                  <a:pt x="2269" y="15185"/>
                  <a:pt x="2133" y="15156"/>
                </a:cubicBezTo>
                <a:cubicBezTo>
                  <a:pt x="2125" y="15156"/>
                  <a:pt x="2116" y="15156"/>
                  <a:pt x="2108" y="15156"/>
                </a:cubicBezTo>
              </a:path>
              <a:path w="3622" h="5111">
                <a:moveTo>
                  <a:pt x="1736" y="15453"/>
                </a:moveTo>
                <a:cubicBezTo>
                  <a:pt x="1755" y="15340"/>
                  <a:pt x="1778" y="15221"/>
                  <a:pt x="1786" y="15106"/>
                </a:cubicBezTo>
                <a:cubicBezTo>
                  <a:pt x="1797" y="14953"/>
                  <a:pt x="1775" y="14809"/>
                  <a:pt x="1761" y="14660"/>
                </a:cubicBezTo>
                <a:cubicBezTo>
                  <a:pt x="1753" y="14580"/>
                  <a:pt x="1782" y="14536"/>
                  <a:pt x="1786" y="14461"/>
                </a:cubicBezTo>
                <a:cubicBezTo>
                  <a:pt x="1793" y="14337"/>
                  <a:pt x="1790" y="14360"/>
                  <a:pt x="1910" y="14337"/>
                </a:cubicBezTo>
                <a:cubicBezTo>
                  <a:pt x="2024" y="14315"/>
                  <a:pt x="2143" y="14300"/>
                  <a:pt x="2257" y="14288"/>
                </a:cubicBezTo>
                <a:cubicBezTo>
                  <a:pt x="2441" y="14269"/>
                  <a:pt x="2621" y="14308"/>
                  <a:pt x="2803" y="14263"/>
                </a:cubicBezTo>
                <a:cubicBezTo>
                  <a:pt x="2898" y="14240"/>
                  <a:pt x="2978" y="14238"/>
                  <a:pt x="3076" y="14238"/>
                </a:cubicBezTo>
              </a:path>
              <a:path w="3622" h="5111">
                <a:moveTo>
                  <a:pt x="1191" y="14461"/>
                </a:moveTo>
                <a:cubicBezTo>
                  <a:pt x="1153" y="14556"/>
                  <a:pt x="1130" y="14658"/>
                  <a:pt x="1116" y="14759"/>
                </a:cubicBezTo>
                <a:cubicBezTo>
                  <a:pt x="1102" y="14858"/>
                  <a:pt x="1077" y="14939"/>
                  <a:pt x="1042" y="15032"/>
                </a:cubicBezTo>
                <a:cubicBezTo>
                  <a:pt x="1029" y="15065"/>
                  <a:pt x="986" y="15218"/>
                  <a:pt x="1017" y="15255"/>
                </a:cubicBezTo>
                <a:cubicBezTo>
                  <a:pt x="1057" y="15303"/>
                  <a:pt x="1177" y="15359"/>
                  <a:pt x="1240" y="15329"/>
                </a:cubicBezTo>
                <a:cubicBezTo>
                  <a:pt x="1343" y="15281"/>
                  <a:pt x="1348" y="15222"/>
                  <a:pt x="1414" y="15156"/>
                </a:cubicBezTo>
                <a:cubicBezTo>
                  <a:pt x="1453" y="15117"/>
                  <a:pt x="1547" y="15073"/>
                  <a:pt x="1538" y="15007"/>
                </a:cubicBezTo>
                <a:cubicBezTo>
                  <a:pt x="1528" y="14932"/>
                  <a:pt x="1446" y="14921"/>
                  <a:pt x="1389" y="14908"/>
                </a:cubicBezTo>
                <a:cubicBezTo>
                  <a:pt x="1323" y="14893"/>
                  <a:pt x="1271" y="14929"/>
                  <a:pt x="1215" y="14957"/>
                </a:cubicBezTo>
                <a:cubicBezTo>
                  <a:pt x="1132" y="14999"/>
                  <a:pt x="1141" y="15047"/>
                  <a:pt x="1141" y="15131"/>
                </a:cubicBezTo>
                <a:cubicBezTo>
                  <a:pt x="1141" y="15198"/>
                  <a:pt x="1158" y="15240"/>
                  <a:pt x="1166" y="15304"/>
                </a:cubicBezTo>
              </a:path>
              <a:path w="3622" h="5111">
                <a:moveTo>
                  <a:pt x="4638" y="13196"/>
                </a:moveTo>
                <a:lnTo>
                  <a:pt x="4638" y="13196"/>
                </a:lnTo>
              </a:path>
              <a:path w="3622" h="5111">
                <a:moveTo>
                  <a:pt x="2977" y="14957"/>
                </a:moveTo>
                <a:cubicBezTo>
                  <a:pt x="2952" y="15007"/>
                  <a:pt x="2927" y="15056"/>
                  <a:pt x="2902" y="15106"/>
                </a:cubicBezTo>
                <a:cubicBezTo>
                  <a:pt x="2947" y="15061"/>
                  <a:pt x="2964" y="15052"/>
                  <a:pt x="2952" y="15007"/>
                </a:cubicBezTo>
              </a:path>
              <a:path w="3622" h="5111">
                <a:moveTo>
                  <a:pt x="2753" y="14139"/>
                </a:moveTo>
                <a:cubicBezTo>
                  <a:pt x="2680" y="14212"/>
                  <a:pt x="2795" y="14077"/>
                  <a:pt x="2803" y="14064"/>
                </a:cubicBezTo>
                <a:cubicBezTo>
                  <a:pt x="2639" y="14105"/>
                  <a:pt x="2778" y="14185"/>
                  <a:pt x="2778" y="14064"/>
                </a:cubicBezTo>
                <a:cubicBezTo>
                  <a:pt x="2777" y="13901"/>
                  <a:pt x="2657" y="14342"/>
                  <a:pt x="2753" y="14114"/>
                </a:cubicBezTo>
                <a:cubicBezTo>
                  <a:pt x="2774" y="14063"/>
                  <a:pt x="2680" y="14085"/>
                  <a:pt x="2704" y="14213"/>
                </a:cubicBezTo>
              </a:path>
              <a:path w="3622" h="5111">
                <a:moveTo>
                  <a:pt x="3225" y="14635"/>
                </a:moveTo>
                <a:cubicBezTo>
                  <a:pt x="3103" y="14634"/>
                  <a:pt x="3083" y="14751"/>
                  <a:pt x="3076" y="14883"/>
                </a:cubicBezTo>
                <a:cubicBezTo>
                  <a:pt x="3069" y="15006"/>
                  <a:pt x="3192" y="15184"/>
                  <a:pt x="3324" y="15056"/>
                </a:cubicBezTo>
                <a:cubicBezTo>
                  <a:pt x="3414" y="14969"/>
                  <a:pt x="3518" y="14738"/>
                  <a:pt x="3398" y="14635"/>
                </a:cubicBezTo>
                <a:cubicBezTo>
                  <a:pt x="3324" y="14610"/>
                  <a:pt x="3299" y="14601"/>
                  <a:pt x="3249" y="14585"/>
                </a:cubicBezTo>
              </a:path>
              <a:path w="3622" h="5111">
                <a:moveTo>
                  <a:pt x="2952" y="15032"/>
                </a:moveTo>
                <a:cubicBezTo>
                  <a:pt x="2915" y="15002"/>
                  <a:pt x="2841" y="14939"/>
                  <a:pt x="2803" y="15007"/>
                </a:cubicBezTo>
                <a:cubicBezTo>
                  <a:pt x="2795" y="15032"/>
                  <a:pt x="2786" y="15056"/>
                  <a:pt x="2778" y="15081"/>
                </a:cubicBezTo>
                <a:cubicBezTo>
                  <a:pt x="2875" y="15198"/>
                  <a:pt x="2938" y="15049"/>
                  <a:pt x="2927" y="14932"/>
                </a:cubicBezTo>
                <a:cubicBezTo>
                  <a:pt x="2914" y="14803"/>
                  <a:pt x="2783" y="15043"/>
                  <a:pt x="2778" y="15056"/>
                </a:cubicBezTo>
                <a:cubicBezTo>
                  <a:pt x="2844" y="15056"/>
                  <a:pt x="2869" y="15065"/>
                  <a:pt x="2853" y="15007"/>
                </a:cubicBezTo>
              </a:path>
              <a:path w="3622" h="5111">
                <a:moveTo>
                  <a:pt x="2902" y="14337"/>
                </a:moveTo>
                <a:cubicBezTo>
                  <a:pt x="2965" y="14329"/>
                  <a:pt x="3018" y="14315"/>
                  <a:pt x="3076" y="14288"/>
                </a:cubicBezTo>
                <a:cubicBezTo>
                  <a:pt x="3160" y="14248"/>
                  <a:pt x="3256" y="14263"/>
                  <a:pt x="3349" y="14263"/>
                </a:cubicBezTo>
                <a:cubicBezTo>
                  <a:pt x="3478" y="14263"/>
                  <a:pt x="3599" y="14262"/>
                  <a:pt x="3721" y="14238"/>
                </a:cubicBezTo>
                <a:cubicBezTo>
                  <a:pt x="3759" y="14230"/>
                  <a:pt x="3807" y="14238"/>
                  <a:pt x="3845" y="14238"/>
                </a:cubicBezTo>
              </a:path>
              <a:path w="3622" h="5111">
                <a:moveTo>
                  <a:pt x="3249" y="13618"/>
                </a:moveTo>
                <a:cubicBezTo>
                  <a:pt x="3219" y="13525"/>
                  <a:pt x="3065" y="13675"/>
                  <a:pt x="3026" y="13717"/>
                </a:cubicBezTo>
                <a:cubicBezTo>
                  <a:pt x="2956" y="13810"/>
                  <a:pt x="2930" y="13836"/>
                  <a:pt x="2977" y="13915"/>
                </a:cubicBezTo>
                <a:cubicBezTo>
                  <a:pt x="3056" y="13929"/>
                  <a:pt x="3463" y="13940"/>
                  <a:pt x="3423" y="14089"/>
                </a:cubicBezTo>
                <a:cubicBezTo>
                  <a:pt x="3389" y="14217"/>
                  <a:pt x="3256" y="14193"/>
                  <a:pt x="3175" y="14188"/>
                </a:cubicBezTo>
                <a:cubicBezTo>
                  <a:pt x="3184" y="14024"/>
                  <a:pt x="3298" y="13792"/>
                  <a:pt x="3274" y="13643"/>
                </a:cubicBezTo>
                <a:cubicBezTo>
                  <a:pt x="3258" y="13626"/>
                  <a:pt x="3241" y="13610"/>
                  <a:pt x="3225" y="13593"/>
                </a:cubicBezTo>
              </a:path>
              <a:path w="3622" h="5111">
                <a:moveTo>
                  <a:pt x="2208" y="15404"/>
                </a:moveTo>
                <a:lnTo>
                  <a:pt x="2208" y="15404"/>
                </a:lnTo>
              </a:path>
              <a:path w="3622" h="5111">
                <a:moveTo>
                  <a:pt x="2431" y="15404"/>
                </a:moveTo>
                <a:cubicBezTo>
                  <a:pt x="2408" y="15614"/>
                  <a:pt x="2411" y="15819"/>
                  <a:pt x="2356" y="16024"/>
                </a:cubicBezTo>
              </a:path>
              <a:path w="3622" h="5111">
                <a:moveTo>
                  <a:pt x="3101" y="15379"/>
                </a:moveTo>
                <a:cubicBezTo>
                  <a:pt x="3013" y="15379"/>
                  <a:pt x="2879" y="15355"/>
                  <a:pt x="2828" y="15453"/>
                </a:cubicBezTo>
                <a:cubicBezTo>
                  <a:pt x="2828" y="15470"/>
                  <a:pt x="2828" y="15486"/>
                  <a:pt x="2828" y="15503"/>
                </a:cubicBezTo>
                <a:cubicBezTo>
                  <a:pt x="2934" y="15572"/>
                  <a:pt x="3210" y="15660"/>
                  <a:pt x="3026" y="15801"/>
                </a:cubicBezTo>
                <a:cubicBezTo>
                  <a:pt x="2993" y="15809"/>
                  <a:pt x="2960" y="15817"/>
                  <a:pt x="2927" y="15825"/>
                </a:cubicBezTo>
                <a:cubicBezTo>
                  <a:pt x="2868" y="15674"/>
                  <a:pt x="2917" y="15601"/>
                  <a:pt x="3001" y="15453"/>
                </a:cubicBezTo>
              </a:path>
              <a:path w="3622" h="5111">
                <a:moveTo>
                  <a:pt x="2282" y="15429"/>
                </a:moveTo>
                <a:cubicBezTo>
                  <a:pt x="2170" y="15425"/>
                  <a:pt x="2238" y="15544"/>
                  <a:pt x="2208" y="15652"/>
                </a:cubicBezTo>
                <a:cubicBezTo>
                  <a:pt x="2269" y="15671"/>
                  <a:pt x="2313" y="15677"/>
                  <a:pt x="2381" y="15677"/>
                </a:cubicBezTo>
              </a:path>
              <a:path w="3622" h="5111">
                <a:moveTo>
                  <a:pt x="1935" y="16123"/>
                </a:moveTo>
                <a:cubicBezTo>
                  <a:pt x="2194" y="16014"/>
                  <a:pt x="2476" y="15990"/>
                  <a:pt x="2753" y="15949"/>
                </a:cubicBezTo>
                <a:cubicBezTo>
                  <a:pt x="2960" y="15918"/>
                  <a:pt x="3164" y="15889"/>
                  <a:pt x="3373" y="15875"/>
                </a:cubicBezTo>
              </a:path>
              <a:path w="3622" h="5111">
                <a:moveTo>
                  <a:pt x="2853" y="16173"/>
                </a:moveTo>
                <a:cubicBezTo>
                  <a:pt x="2983" y="16225"/>
                  <a:pt x="2928" y="16343"/>
                  <a:pt x="2877" y="16446"/>
                </a:cubicBezTo>
                <a:cubicBezTo>
                  <a:pt x="2820" y="16560"/>
                  <a:pt x="2742" y="16631"/>
                  <a:pt x="2654" y="16718"/>
                </a:cubicBezTo>
                <a:cubicBezTo>
                  <a:pt x="2804" y="16652"/>
                  <a:pt x="2911" y="16619"/>
                  <a:pt x="3076" y="16619"/>
                </a:cubicBezTo>
                <a:cubicBezTo>
                  <a:pt x="3084" y="16619"/>
                  <a:pt x="3093" y="16619"/>
                  <a:pt x="3101" y="16619"/>
                </a:cubicBezTo>
              </a:path>
              <a:path w="3622" h="5111">
                <a:moveTo>
                  <a:pt x="2729" y="16222"/>
                </a:moveTo>
                <a:cubicBezTo>
                  <a:pt x="2737" y="16230"/>
                  <a:pt x="2745" y="16239"/>
                  <a:pt x="2753" y="16247"/>
                </a:cubicBezTo>
                <a:cubicBezTo>
                  <a:pt x="2667" y="16258"/>
                  <a:pt x="2584" y="16300"/>
                  <a:pt x="2555" y="16396"/>
                </a:cubicBezTo>
                <a:cubicBezTo>
                  <a:pt x="2555" y="16421"/>
                  <a:pt x="2555" y="16445"/>
                  <a:pt x="2555" y="16470"/>
                </a:cubicBezTo>
              </a:path>
              <a:path w="3622" h="5111">
                <a:moveTo>
                  <a:pt x="3696" y="14709"/>
                </a:moveTo>
                <a:cubicBezTo>
                  <a:pt x="3592" y="14769"/>
                  <a:pt x="3529" y="14862"/>
                  <a:pt x="3497" y="14982"/>
                </a:cubicBezTo>
                <a:cubicBezTo>
                  <a:pt x="3497" y="15007"/>
                  <a:pt x="3497" y="15031"/>
                  <a:pt x="3497" y="15056"/>
                </a:cubicBezTo>
                <a:cubicBezTo>
                  <a:pt x="3611" y="15138"/>
                  <a:pt x="3708" y="15039"/>
                  <a:pt x="3696" y="14883"/>
                </a:cubicBezTo>
                <a:cubicBezTo>
                  <a:pt x="3692" y="14829"/>
                  <a:pt x="3632" y="14812"/>
                  <a:pt x="3597" y="14784"/>
                </a:cubicBezTo>
              </a:path>
              <a:path w="3622" h="5111">
                <a:moveTo>
                  <a:pt x="3597" y="15255"/>
                </a:moveTo>
                <a:cubicBezTo>
                  <a:pt x="3588" y="15452"/>
                  <a:pt x="3576" y="15659"/>
                  <a:pt x="3522" y="15850"/>
                </a:cubicBezTo>
                <a:cubicBezTo>
                  <a:pt x="3514" y="15867"/>
                  <a:pt x="3505" y="15883"/>
                  <a:pt x="3497" y="15900"/>
                </a:cubicBezTo>
              </a:path>
              <a:path w="3622" h="5111">
                <a:moveTo>
                  <a:pt x="3349" y="16098"/>
                </a:moveTo>
                <a:cubicBezTo>
                  <a:pt x="3270" y="16247"/>
                  <a:pt x="3231" y="16350"/>
                  <a:pt x="3225" y="16520"/>
                </a:cubicBezTo>
                <a:cubicBezTo>
                  <a:pt x="3225" y="16537"/>
                  <a:pt x="3225" y="16553"/>
                  <a:pt x="3225" y="16570"/>
                </a:cubicBezTo>
                <a:cubicBezTo>
                  <a:pt x="3370" y="16545"/>
                  <a:pt x="3469" y="16467"/>
                  <a:pt x="3473" y="16297"/>
                </a:cubicBezTo>
                <a:cubicBezTo>
                  <a:pt x="3476" y="16175"/>
                  <a:pt x="3451" y="16123"/>
                  <a:pt x="3349" y="16123"/>
                </a:cubicBezTo>
              </a:path>
              <a:path w="3622" h="5111">
                <a:moveTo>
                  <a:pt x="3522" y="13717"/>
                </a:moveTo>
                <a:cubicBezTo>
                  <a:pt x="3547" y="13683"/>
                  <a:pt x="3620" y="13647"/>
                  <a:pt x="3671" y="13618"/>
                </a:cubicBezTo>
                <a:cubicBezTo>
                  <a:pt x="3707" y="13812"/>
                  <a:pt x="3727" y="13840"/>
                  <a:pt x="3547" y="13940"/>
                </a:cubicBezTo>
                <a:cubicBezTo>
                  <a:pt x="3651" y="13922"/>
                  <a:pt x="3843" y="13975"/>
                  <a:pt x="3696" y="14114"/>
                </a:cubicBezTo>
                <a:cubicBezTo>
                  <a:pt x="3637" y="14169"/>
                  <a:pt x="3535" y="14151"/>
                  <a:pt x="3473" y="14139"/>
                </a:cubicBezTo>
              </a:path>
              <a:path w="3622" h="5111">
                <a:moveTo>
                  <a:pt x="2778" y="16917"/>
                </a:moveTo>
                <a:cubicBezTo>
                  <a:pt x="2801" y="17047"/>
                  <a:pt x="2797" y="17135"/>
                  <a:pt x="2778" y="17264"/>
                </a:cubicBezTo>
              </a:path>
              <a:path w="3622" h="5111">
                <a:moveTo>
                  <a:pt x="3225" y="16917"/>
                </a:moveTo>
                <a:cubicBezTo>
                  <a:pt x="3036" y="17075"/>
                  <a:pt x="3143" y="17021"/>
                  <a:pt x="3249" y="17190"/>
                </a:cubicBezTo>
                <a:cubicBezTo>
                  <a:pt x="3275" y="17267"/>
                  <a:pt x="3282" y="17295"/>
                  <a:pt x="3225" y="17338"/>
                </a:cubicBezTo>
                <a:cubicBezTo>
                  <a:pt x="3208" y="17330"/>
                  <a:pt x="3192" y="17322"/>
                  <a:pt x="3175" y="17314"/>
                </a:cubicBezTo>
                <a:cubicBezTo>
                  <a:pt x="3124" y="17129"/>
                  <a:pt x="3218" y="17085"/>
                  <a:pt x="3274" y="16917"/>
                </a:cubicBezTo>
                <a:cubicBezTo>
                  <a:pt x="3274" y="16900"/>
                  <a:pt x="3274" y="16884"/>
                  <a:pt x="3274" y="16867"/>
                </a:cubicBezTo>
              </a:path>
              <a:path w="3622" h="5111">
                <a:moveTo>
                  <a:pt x="2406" y="17537"/>
                </a:moveTo>
                <a:cubicBezTo>
                  <a:pt x="2640" y="17568"/>
                  <a:pt x="2866" y="17572"/>
                  <a:pt x="3101" y="17537"/>
                </a:cubicBezTo>
                <a:cubicBezTo>
                  <a:pt x="3192" y="17519"/>
                  <a:pt x="3199" y="17510"/>
                  <a:pt x="3249" y="17512"/>
                </a:cubicBezTo>
              </a:path>
              <a:path w="3622" h="5111">
                <a:moveTo>
                  <a:pt x="3249" y="17859"/>
                </a:moveTo>
                <a:cubicBezTo>
                  <a:pt x="3328" y="17854"/>
                  <a:pt x="3396" y="17843"/>
                  <a:pt x="3473" y="17835"/>
                </a:cubicBezTo>
                <a:cubicBezTo>
                  <a:pt x="3544" y="17999"/>
                  <a:pt x="3489" y="18070"/>
                  <a:pt x="3373" y="18207"/>
                </a:cubicBezTo>
                <a:cubicBezTo>
                  <a:pt x="3340" y="18240"/>
                  <a:pt x="3307" y="18273"/>
                  <a:pt x="3274" y="18306"/>
                </a:cubicBezTo>
                <a:cubicBezTo>
                  <a:pt x="3409" y="18298"/>
                  <a:pt x="3537" y="18273"/>
                  <a:pt x="3671" y="18256"/>
                </a:cubicBezTo>
              </a:path>
              <a:path w="3622" h="5111">
                <a:moveTo>
                  <a:pt x="4068" y="14883"/>
                </a:moveTo>
                <a:cubicBezTo>
                  <a:pt x="4026" y="14808"/>
                  <a:pt x="4016" y="14786"/>
                  <a:pt x="3944" y="14759"/>
                </a:cubicBezTo>
                <a:cubicBezTo>
                  <a:pt x="3776" y="14882"/>
                  <a:pt x="3800" y="15008"/>
                  <a:pt x="3845" y="15205"/>
                </a:cubicBezTo>
                <a:cubicBezTo>
                  <a:pt x="3959" y="15205"/>
                  <a:pt x="4164" y="15166"/>
                  <a:pt x="4068" y="14982"/>
                </a:cubicBezTo>
                <a:cubicBezTo>
                  <a:pt x="4051" y="14965"/>
                  <a:pt x="4035" y="14949"/>
                  <a:pt x="4018" y="14932"/>
                </a:cubicBezTo>
              </a:path>
              <a:path w="3622" h="5111">
                <a:moveTo>
                  <a:pt x="3969" y="15453"/>
                </a:moveTo>
                <a:cubicBezTo>
                  <a:pt x="3969" y="15366"/>
                  <a:pt x="3949" y="15920"/>
                  <a:pt x="3944" y="15974"/>
                </a:cubicBezTo>
                <a:cubicBezTo>
                  <a:pt x="3924" y="16187"/>
                  <a:pt x="3861" y="16382"/>
                  <a:pt x="3845" y="16594"/>
                </a:cubicBezTo>
                <a:cubicBezTo>
                  <a:pt x="3836" y="16718"/>
                  <a:pt x="3846" y="16844"/>
                  <a:pt x="3820" y="16966"/>
                </a:cubicBezTo>
                <a:cubicBezTo>
                  <a:pt x="3797" y="17074"/>
                  <a:pt x="3774" y="17099"/>
                  <a:pt x="3770" y="17214"/>
                </a:cubicBezTo>
                <a:cubicBezTo>
                  <a:pt x="3767" y="17289"/>
                  <a:pt x="3765" y="17339"/>
                  <a:pt x="3746" y="17413"/>
                </a:cubicBezTo>
              </a:path>
              <a:path w="3622" h="5111">
                <a:moveTo>
                  <a:pt x="3845" y="17785"/>
                </a:moveTo>
                <a:cubicBezTo>
                  <a:pt x="3726" y="17799"/>
                  <a:pt x="3681" y="17981"/>
                  <a:pt x="3696" y="18132"/>
                </a:cubicBezTo>
                <a:cubicBezTo>
                  <a:pt x="3704" y="18149"/>
                  <a:pt x="3713" y="18165"/>
                  <a:pt x="3721" y="18182"/>
                </a:cubicBezTo>
                <a:cubicBezTo>
                  <a:pt x="3862" y="18149"/>
                  <a:pt x="3990" y="18082"/>
                  <a:pt x="3994" y="17909"/>
                </a:cubicBezTo>
                <a:cubicBezTo>
                  <a:pt x="3997" y="17764"/>
                  <a:pt x="3950" y="17774"/>
                  <a:pt x="3845" y="17735"/>
                </a:cubicBezTo>
              </a:path>
              <a:path w="3622" h="5111">
                <a:moveTo>
                  <a:pt x="3969" y="13692"/>
                </a:moveTo>
                <a:cubicBezTo>
                  <a:pt x="4044" y="13650"/>
                  <a:pt x="4084" y="13632"/>
                  <a:pt x="4167" y="13618"/>
                </a:cubicBezTo>
                <a:cubicBezTo>
                  <a:pt x="4152" y="13796"/>
                  <a:pt x="4135" y="13870"/>
                  <a:pt x="3994" y="13965"/>
                </a:cubicBezTo>
                <a:cubicBezTo>
                  <a:pt x="4095" y="13939"/>
                  <a:pt x="4260" y="13914"/>
                  <a:pt x="4242" y="14089"/>
                </a:cubicBezTo>
                <a:cubicBezTo>
                  <a:pt x="4224" y="14258"/>
                  <a:pt x="4119" y="14264"/>
                  <a:pt x="3994" y="14288"/>
                </a:cubicBezTo>
              </a:path>
              <a:path w="3622" h="5111">
                <a:moveTo>
                  <a:pt x="3994" y="13370"/>
                </a:moveTo>
                <a:cubicBezTo>
                  <a:pt x="4050" y="13381"/>
                  <a:pt x="4473" y="13424"/>
                  <a:pt x="4217" y="13444"/>
                </a:cubicBezTo>
                <a:cubicBezTo>
                  <a:pt x="4111" y="13452"/>
                  <a:pt x="4000" y="13444"/>
                  <a:pt x="3894" y="13444"/>
                </a:cubicBezTo>
                <a:cubicBezTo>
                  <a:pt x="3982" y="13450"/>
                  <a:pt x="4418" y="13409"/>
                  <a:pt x="4118" y="13444"/>
                </a:cubicBezTo>
                <a:cubicBezTo>
                  <a:pt x="4077" y="13452"/>
                  <a:pt x="4035" y="13461"/>
                  <a:pt x="3994" y="13469"/>
                </a:cubicBezTo>
                <a:cubicBezTo>
                  <a:pt x="4087" y="13469"/>
                  <a:pt x="4359" y="13406"/>
                  <a:pt x="4093" y="13444"/>
                </a:cubicBezTo>
                <a:cubicBezTo>
                  <a:pt x="3858" y="13478"/>
                  <a:pt x="4242" y="13465"/>
                  <a:pt x="4217" y="13444"/>
                </a:cubicBezTo>
                <a:cubicBezTo>
                  <a:pt x="4119" y="13360"/>
                  <a:pt x="3919" y="13343"/>
                  <a:pt x="4142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88000" y="1268280"/>
            <a:ext cx="839880" cy="509760"/>
          </a:xfrm>
          <a:custGeom>
            <a:avLst/>
            <a:gdLst/>
            <a:ahLst/>
            <a:rect l="l" t="t" r="r" b="b"/>
            <a:pathLst>
              <a:path w="2332" h="1415">
                <a:moveTo>
                  <a:pt x="17115" y="3994"/>
                </a:moveTo>
                <a:cubicBezTo>
                  <a:pt x="17166" y="3943"/>
                  <a:pt x="17364" y="3829"/>
                  <a:pt x="17388" y="3994"/>
                </a:cubicBezTo>
                <a:cubicBezTo>
                  <a:pt x="17362" y="4122"/>
                  <a:pt x="17351" y="4167"/>
                  <a:pt x="17264" y="4217"/>
                </a:cubicBezTo>
                <a:cubicBezTo>
                  <a:pt x="17256" y="4233"/>
                  <a:pt x="17247" y="4250"/>
                  <a:pt x="17239" y="4266"/>
                </a:cubicBezTo>
                <a:cubicBezTo>
                  <a:pt x="17339" y="4225"/>
                  <a:pt x="17498" y="4245"/>
                  <a:pt x="17462" y="4415"/>
                </a:cubicBezTo>
                <a:cubicBezTo>
                  <a:pt x="17405" y="4681"/>
                  <a:pt x="17134" y="4688"/>
                  <a:pt x="16966" y="4589"/>
                </a:cubicBezTo>
              </a:path>
              <a:path w="2332" h="1415">
                <a:moveTo>
                  <a:pt x="16818" y="4936"/>
                </a:moveTo>
                <a:cubicBezTo>
                  <a:pt x="16808" y="4648"/>
                  <a:pt x="16762" y="4377"/>
                  <a:pt x="16718" y="4093"/>
                </a:cubicBezTo>
                <a:cubicBezTo>
                  <a:pt x="16698" y="3968"/>
                  <a:pt x="16698" y="3941"/>
                  <a:pt x="16669" y="3870"/>
                </a:cubicBezTo>
                <a:cubicBezTo>
                  <a:pt x="16900" y="3796"/>
                  <a:pt x="17149" y="3726"/>
                  <a:pt x="17388" y="3671"/>
                </a:cubicBezTo>
                <a:cubicBezTo>
                  <a:pt x="17630" y="3615"/>
                  <a:pt x="17889" y="3549"/>
                  <a:pt x="18132" y="3522"/>
                </a:cubicBezTo>
              </a:path>
              <a:path w="2332" h="1415">
                <a:moveTo>
                  <a:pt x="15900" y="4192"/>
                </a:moveTo>
                <a:cubicBezTo>
                  <a:pt x="15828" y="4372"/>
                  <a:pt x="15832" y="4624"/>
                  <a:pt x="15801" y="4837"/>
                </a:cubicBezTo>
              </a:path>
              <a:path w="2332" h="1415">
                <a:moveTo>
                  <a:pt x="16148" y="4242"/>
                </a:moveTo>
                <a:cubicBezTo>
                  <a:pt x="16112" y="4376"/>
                  <a:pt x="16023" y="4623"/>
                  <a:pt x="16148" y="4738"/>
                </a:cubicBezTo>
                <a:cubicBezTo>
                  <a:pt x="16181" y="4746"/>
                  <a:pt x="16214" y="4754"/>
                  <a:pt x="16247" y="4762"/>
                </a:cubicBezTo>
                <a:cubicBezTo>
                  <a:pt x="16399" y="4600"/>
                  <a:pt x="16458" y="4447"/>
                  <a:pt x="16297" y="4242"/>
                </a:cubicBezTo>
                <a:cubicBezTo>
                  <a:pt x="16233" y="4200"/>
                  <a:pt x="16222" y="4183"/>
                  <a:pt x="16173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54840" y="911160"/>
            <a:ext cx="581040" cy="990720"/>
          </a:xfrm>
          <a:custGeom>
            <a:avLst/>
            <a:gdLst/>
            <a:ahLst/>
            <a:rect l="l" t="t" r="r" b="b"/>
            <a:pathLst>
              <a:path w="1613" h="2754">
                <a:moveTo>
                  <a:pt x="17611" y="4663"/>
                </a:moveTo>
                <a:cubicBezTo>
                  <a:pt x="17603" y="4663"/>
                  <a:pt x="17595" y="4663"/>
                  <a:pt x="17587" y="4663"/>
                </a:cubicBezTo>
              </a:path>
              <a:path w="1613" h="2754">
                <a:moveTo>
                  <a:pt x="17909" y="3994"/>
                </a:moveTo>
                <a:cubicBezTo>
                  <a:pt x="17779" y="4108"/>
                  <a:pt x="17720" y="4281"/>
                  <a:pt x="17760" y="4465"/>
                </a:cubicBezTo>
                <a:cubicBezTo>
                  <a:pt x="17777" y="4490"/>
                  <a:pt x="17793" y="4514"/>
                  <a:pt x="17810" y="4539"/>
                </a:cubicBezTo>
                <a:cubicBezTo>
                  <a:pt x="18001" y="4497"/>
                  <a:pt x="18212" y="4412"/>
                  <a:pt x="18132" y="4167"/>
                </a:cubicBezTo>
                <a:cubicBezTo>
                  <a:pt x="18057" y="4067"/>
                  <a:pt x="18032" y="4034"/>
                  <a:pt x="17934" y="4043"/>
                </a:cubicBezTo>
              </a:path>
              <a:path w="1613" h="2754">
                <a:moveTo>
                  <a:pt x="17438" y="3497"/>
                </a:moveTo>
                <a:cubicBezTo>
                  <a:pt x="17503" y="3484"/>
                  <a:pt x="17499" y="3497"/>
                  <a:pt x="17487" y="3448"/>
                </a:cubicBezTo>
                <a:cubicBezTo>
                  <a:pt x="17342" y="3473"/>
                  <a:pt x="17497" y="3528"/>
                  <a:pt x="17487" y="3497"/>
                </a:cubicBezTo>
                <a:cubicBezTo>
                  <a:pt x="17471" y="3489"/>
                  <a:pt x="17454" y="3481"/>
                  <a:pt x="17438" y="3473"/>
                </a:cubicBezTo>
              </a:path>
              <a:path w="1613" h="2754">
                <a:moveTo>
                  <a:pt x="17611" y="3076"/>
                </a:moveTo>
                <a:cubicBezTo>
                  <a:pt x="17617" y="3065"/>
                  <a:pt x="17735" y="2873"/>
                  <a:pt x="17760" y="2952"/>
                </a:cubicBezTo>
                <a:cubicBezTo>
                  <a:pt x="17760" y="3035"/>
                  <a:pt x="17758" y="3069"/>
                  <a:pt x="17735" y="3125"/>
                </a:cubicBezTo>
                <a:cubicBezTo>
                  <a:pt x="17719" y="3142"/>
                  <a:pt x="17702" y="3158"/>
                  <a:pt x="17686" y="3175"/>
                </a:cubicBezTo>
                <a:cubicBezTo>
                  <a:pt x="17755" y="3127"/>
                  <a:pt x="17991" y="3032"/>
                  <a:pt x="17909" y="3249"/>
                </a:cubicBezTo>
                <a:cubicBezTo>
                  <a:pt x="17858" y="3384"/>
                  <a:pt x="17775" y="3366"/>
                  <a:pt x="17661" y="3373"/>
                </a:cubicBezTo>
              </a:path>
              <a:path w="1613" h="2754">
                <a:moveTo>
                  <a:pt x="17289" y="4787"/>
                </a:moveTo>
                <a:cubicBezTo>
                  <a:pt x="17312" y="4771"/>
                  <a:pt x="17611" y="4585"/>
                  <a:pt x="17587" y="4738"/>
                </a:cubicBezTo>
                <a:cubicBezTo>
                  <a:pt x="17538" y="4835"/>
                  <a:pt x="17522" y="4867"/>
                  <a:pt x="17462" y="4911"/>
                </a:cubicBezTo>
                <a:cubicBezTo>
                  <a:pt x="17540" y="4860"/>
                  <a:pt x="17568" y="4844"/>
                  <a:pt x="17636" y="4862"/>
                </a:cubicBezTo>
                <a:cubicBezTo>
                  <a:pt x="17620" y="4921"/>
                  <a:pt x="17356" y="5180"/>
                  <a:pt x="17363" y="5035"/>
                </a:cubicBezTo>
                <a:cubicBezTo>
                  <a:pt x="17380" y="5002"/>
                  <a:pt x="17396" y="4969"/>
                  <a:pt x="17413" y="4936"/>
                </a:cubicBezTo>
              </a:path>
              <a:path w="1613" h="2754">
                <a:moveTo>
                  <a:pt x="17959" y="4564"/>
                </a:moveTo>
                <a:cubicBezTo>
                  <a:pt x="17959" y="4655"/>
                  <a:pt x="17959" y="4746"/>
                  <a:pt x="17959" y="4837"/>
                </a:cubicBezTo>
                <a:cubicBezTo>
                  <a:pt x="18048" y="4851"/>
                  <a:pt x="18294" y="4841"/>
                  <a:pt x="18207" y="4663"/>
                </a:cubicBezTo>
                <a:cubicBezTo>
                  <a:pt x="18116" y="4573"/>
                  <a:pt x="18095" y="4543"/>
                  <a:pt x="18008" y="4539"/>
                </a:cubicBezTo>
              </a:path>
              <a:path w="1613" h="2754">
                <a:moveTo>
                  <a:pt x="17239" y="5283"/>
                </a:moveTo>
                <a:cubicBezTo>
                  <a:pt x="17528" y="5148"/>
                  <a:pt x="17832" y="5053"/>
                  <a:pt x="18132" y="4936"/>
                </a:cubicBezTo>
                <a:cubicBezTo>
                  <a:pt x="18232" y="4896"/>
                  <a:pt x="18250" y="4892"/>
                  <a:pt x="18306" y="4862"/>
                </a:cubicBezTo>
              </a:path>
              <a:path w="1613" h="2754">
                <a:moveTo>
                  <a:pt x="18306" y="5035"/>
                </a:moveTo>
                <a:cubicBezTo>
                  <a:pt x="18266" y="5116"/>
                  <a:pt x="18203" y="5164"/>
                  <a:pt x="18182" y="5259"/>
                </a:cubicBezTo>
                <a:cubicBezTo>
                  <a:pt x="18265" y="5265"/>
                  <a:pt x="18398" y="5272"/>
                  <a:pt x="18380" y="5135"/>
                </a:cubicBezTo>
                <a:cubicBezTo>
                  <a:pt x="18375" y="5098"/>
                  <a:pt x="18307" y="5090"/>
                  <a:pt x="18281" y="5085"/>
                </a:cubicBezTo>
              </a:path>
              <a:path w="1613" h="2754">
                <a:moveTo>
                  <a:pt x="16892" y="3646"/>
                </a:moveTo>
                <a:cubicBezTo>
                  <a:pt x="17121" y="3657"/>
                  <a:pt x="17357" y="3724"/>
                  <a:pt x="17587" y="3696"/>
                </a:cubicBezTo>
                <a:cubicBezTo>
                  <a:pt x="17791" y="3671"/>
                  <a:pt x="18108" y="3549"/>
                  <a:pt x="18256" y="3398"/>
                </a:cubicBezTo>
                <a:cubicBezTo>
                  <a:pt x="18393" y="3258"/>
                  <a:pt x="18484" y="3046"/>
                  <a:pt x="18405" y="2853"/>
                </a:cubicBezTo>
                <a:cubicBezTo>
                  <a:pt x="18326" y="2659"/>
                  <a:pt x="18135" y="2557"/>
                  <a:pt x="17934" y="2530"/>
                </a:cubicBezTo>
                <a:cubicBezTo>
                  <a:pt x="17649" y="2491"/>
                  <a:pt x="17315" y="2594"/>
                  <a:pt x="17115" y="2803"/>
                </a:cubicBezTo>
                <a:cubicBezTo>
                  <a:pt x="16955" y="2970"/>
                  <a:pt x="16720" y="3386"/>
                  <a:pt x="16867" y="3621"/>
                </a:cubicBezTo>
                <a:cubicBezTo>
                  <a:pt x="17011" y="3742"/>
                  <a:pt x="17055" y="3783"/>
                  <a:pt x="17190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Examples of writing fractions as a decim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  Write      as a dec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:  Write      as a dec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Notice with the second one that we must divide since 8 is not a factor of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200400" y="3809880"/>
          <a:ext cx="2970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97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731960" y="1731960"/>
            <a:ext cx="1716120" cy="1492200"/>
          </a:xfrm>
          <a:custGeom>
            <a:avLst/>
            <a:gdLst/>
            <a:ahLst/>
            <a:rect l="l" t="t" r="r" b="b"/>
            <a:pathLst>
              <a:path w="4764" h="4143">
                <a:moveTo>
                  <a:pt x="8855" y="4936"/>
                </a:moveTo>
                <a:cubicBezTo>
                  <a:pt x="8918" y="4898"/>
                  <a:pt x="9116" y="4736"/>
                  <a:pt x="9203" y="4812"/>
                </a:cubicBezTo>
                <a:cubicBezTo>
                  <a:pt x="9285" y="4884"/>
                  <a:pt x="9101" y="5057"/>
                  <a:pt x="9079" y="5085"/>
                </a:cubicBezTo>
                <a:cubicBezTo>
                  <a:pt x="9062" y="5093"/>
                  <a:pt x="9046" y="5102"/>
                  <a:pt x="9029" y="5110"/>
                </a:cubicBezTo>
                <a:cubicBezTo>
                  <a:pt x="9126" y="5087"/>
                  <a:pt x="9277" y="5047"/>
                  <a:pt x="9277" y="5209"/>
                </a:cubicBezTo>
                <a:cubicBezTo>
                  <a:pt x="9277" y="5374"/>
                  <a:pt x="9040" y="5376"/>
                  <a:pt x="8930" y="5383"/>
                </a:cubicBezTo>
              </a:path>
              <a:path w="4764" h="4143">
                <a:moveTo>
                  <a:pt x="8781" y="5705"/>
                </a:moveTo>
                <a:cubicBezTo>
                  <a:pt x="9004" y="5685"/>
                  <a:pt x="9231" y="5634"/>
                  <a:pt x="9451" y="5581"/>
                </a:cubicBezTo>
                <a:cubicBezTo>
                  <a:pt x="9516" y="5559"/>
                  <a:pt x="9531" y="5551"/>
                  <a:pt x="9575" y="5556"/>
                </a:cubicBezTo>
              </a:path>
              <a:path w="4764" h="4143">
                <a:moveTo>
                  <a:pt x="9401" y="5879"/>
                </a:moveTo>
                <a:cubicBezTo>
                  <a:pt x="9311" y="5887"/>
                  <a:pt x="9100" y="5868"/>
                  <a:pt x="9029" y="5928"/>
                </a:cubicBezTo>
                <a:cubicBezTo>
                  <a:pt x="8947" y="5998"/>
                  <a:pt x="8960" y="6108"/>
                  <a:pt x="8954" y="6201"/>
                </a:cubicBezTo>
                <a:cubicBezTo>
                  <a:pt x="9065" y="6164"/>
                  <a:pt x="9140" y="6124"/>
                  <a:pt x="9252" y="6152"/>
                </a:cubicBezTo>
                <a:cubicBezTo>
                  <a:pt x="9349" y="6176"/>
                  <a:pt x="9439" y="6297"/>
                  <a:pt x="9376" y="6400"/>
                </a:cubicBezTo>
                <a:cubicBezTo>
                  <a:pt x="9309" y="6510"/>
                  <a:pt x="9058" y="6496"/>
                  <a:pt x="8954" y="6499"/>
                </a:cubicBezTo>
                <a:cubicBezTo>
                  <a:pt x="8938" y="6499"/>
                  <a:pt x="8921" y="6499"/>
                  <a:pt x="8905" y="6499"/>
                </a:cubicBezTo>
              </a:path>
              <a:path w="4764" h="4143">
                <a:moveTo>
                  <a:pt x="6821" y="6548"/>
                </a:moveTo>
                <a:cubicBezTo>
                  <a:pt x="6805" y="6532"/>
                  <a:pt x="6788" y="6515"/>
                  <a:pt x="6772" y="6499"/>
                </a:cubicBezTo>
              </a:path>
              <a:path w="4764" h="4143">
                <a:moveTo>
                  <a:pt x="6524" y="6276"/>
                </a:moveTo>
                <a:cubicBezTo>
                  <a:pt x="6784" y="6153"/>
                  <a:pt x="7104" y="6111"/>
                  <a:pt x="7392" y="6077"/>
                </a:cubicBezTo>
                <a:cubicBezTo>
                  <a:pt x="7703" y="6040"/>
                  <a:pt x="8022" y="6023"/>
                  <a:pt x="8334" y="6003"/>
                </a:cubicBezTo>
              </a:path>
              <a:path w="4764" h="4143">
                <a:moveTo>
                  <a:pt x="5234" y="8161"/>
                </a:moveTo>
                <a:cubicBezTo>
                  <a:pt x="5171" y="8172"/>
                  <a:pt x="4930" y="8183"/>
                  <a:pt x="4911" y="8235"/>
                </a:cubicBezTo>
                <a:cubicBezTo>
                  <a:pt x="4872" y="8343"/>
                  <a:pt x="4851" y="8452"/>
                  <a:pt x="4812" y="8558"/>
                </a:cubicBezTo>
                <a:cubicBezTo>
                  <a:pt x="5046" y="8464"/>
                  <a:pt x="5123" y="8441"/>
                  <a:pt x="5358" y="8533"/>
                </a:cubicBezTo>
                <a:cubicBezTo>
                  <a:pt x="5251" y="8830"/>
                  <a:pt x="5179" y="8911"/>
                  <a:pt x="4862" y="8855"/>
                </a:cubicBezTo>
              </a:path>
              <a:path w="4764" h="4143">
                <a:moveTo>
                  <a:pt x="5606" y="8954"/>
                </a:moveTo>
                <a:cubicBezTo>
                  <a:pt x="5804" y="8781"/>
                  <a:pt x="5693" y="8485"/>
                  <a:pt x="5631" y="8260"/>
                </a:cubicBezTo>
                <a:cubicBezTo>
                  <a:pt x="5569" y="8095"/>
                  <a:pt x="5568" y="8054"/>
                  <a:pt x="5482" y="7987"/>
                </a:cubicBezTo>
                <a:cubicBezTo>
                  <a:pt x="5926" y="7853"/>
                  <a:pt x="6368" y="7720"/>
                  <a:pt x="6821" y="7615"/>
                </a:cubicBezTo>
                <a:cubicBezTo>
                  <a:pt x="7003" y="7578"/>
                  <a:pt x="7018" y="7562"/>
                  <a:pt x="7119" y="7565"/>
                </a:cubicBezTo>
              </a:path>
              <a:path w="4764" h="4143">
                <a:moveTo>
                  <a:pt x="6003" y="8359"/>
                </a:moveTo>
                <a:cubicBezTo>
                  <a:pt x="6044" y="8256"/>
                  <a:pt x="6212" y="8190"/>
                  <a:pt x="6325" y="8235"/>
                </a:cubicBezTo>
                <a:cubicBezTo>
                  <a:pt x="6342" y="8260"/>
                  <a:pt x="6358" y="8285"/>
                  <a:pt x="6375" y="8310"/>
                </a:cubicBezTo>
                <a:cubicBezTo>
                  <a:pt x="6274" y="8439"/>
                  <a:pt x="6224" y="8480"/>
                  <a:pt x="6077" y="8558"/>
                </a:cubicBezTo>
                <a:cubicBezTo>
                  <a:pt x="6187" y="8525"/>
                  <a:pt x="6485" y="8545"/>
                  <a:pt x="6276" y="8731"/>
                </a:cubicBezTo>
                <a:cubicBezTo>
                  <a:pt x="6138" y="8853"/>
                  <a:pt x="5987" y="8803"/>
                  <a:pt x="5829" y="8781"/>
                </a:cubicBezTo>
              </a:path>
              <a:path w="4764" h="4143">
                <a:moveTo>
                  <a:pt x="6672" y="8632"/>
                </a:moveTo>
                <a:cubicBezTo>
                  <a:pt x="6653" y="8673"/>
                  <a:pt x="6645" y="8679"/>
                  <a:pt x="6648" y="8706"/>
                </a:cubicBezTo>
              </a:path>
              <a:path w="4764" h="4143">
                <a:moveTo>
                  <a:pt x="6474" y="7565"/>
                </a:moveTo>
                <a:cubicBezTo>
                  <a:pt x="6411" y="7528"/>
                  <a:pt x="6433" y="7563"/>
                  <a:pt x="6449" y="7466"/>
                </a:cubicBezTo>
              </a:path>
              <a:path w="4764" h="4143">
                <a:moveTo>
                  <a:pt x="6896" y="8037"/>
                </a:moveTo>
                <a:cubicBezTo>
                  <a:pt x="6769" y="8329"/>
                  <a:pt x="6709" y="8459"/>
                  <a:pt x="6945" y="8682"/>
                </a:cubicBezTo>
                <a:cubicBezTo>
                  <a:pt x="7146" y="8554"/>
                  <a:pt x="7374" y="8279"/>
                  <a:pt x="7069" y="8062"/>
                </a:cubicBezTo>
                <a:cubicBezTo>
                  <a:pt x="7020" y="8054"/>
                  <a:pt x="6970" y="8045"/>
                  <a:pt x="6921" y="8037"/>
                </a:cubicBezTo>
              </a:path>
              <a:path w="4764" h="4143">
                <a:moveTo>
                  <a:pt x="6945" y="7516"/>
                </a:moveTo>
                <a:cubicBezTo>
                  <a:pt x="7164" y="7583"/>
                  <a:pt x="7341" y="7536"/>
                  <a:pt x="7565" y="7516"/>
                </a:cubicBezTo>
                <a:cubicBezTo>
                  <a:pt x="7590" y="7516"/>
                  <a:pt x="7615" y="7516"/>
                  <a:pt x="7640" y="7516"/>
                </a:cubicBezTo>
              </a:path>
              <a:path w="4764" h="4143">
                <a:moveTo>
                  <a:pt x="6970" y="7069"/>
                </a:moveTo>
                <a:cubicBezTo>
                  <a:pt x="6872" y="7103"/>
                  <a:pt x="6831" y="7254"/>
                  <a:pt x="6821" y="7392"/>
                </a:cubicBezTo>
                <a:cubicBezTo>
                  <a:pt x="6809" y="7553"/>
                  <a:pt x="6973" y="7517"/>
                  <a:pt x="7069" y="7491"/>
                </a:cubicBezTo>
                <a:cubicBezTo>
                  <a:pt x="7155" y="7468"/>
                  <a:pt x="7230" y="7408"/>
                  <a:pt x="7243" y="7317"/>
                </a:cubicBezTo>
                <a:cubicBezTo>
                  <a:pt x="7243" y="7292"/>
                  <a:pt x="7243" y="7268"/>
                  <a:pt x="7243" y="7243"/>
                </a:cubicBezTo>
                <a:cubicBezTo>
                  <a:pt x="7126" y="7253"/>
                  <a:pt x="7025" y="7271"/>
                  <a:pt x="6970" y="7392"/>
                </a:cubicBezTo>
                <a:cubicBezTo>
                  <a:pt x="6935" y="7470"/>
                  <a:pt x="6934" y="7507"/>
                  <a:pt x="6970" y="7565"/>
                </a:cubicBezTo>
              </a:path>
              <a:path w="4764" h="4143">
                <a:moveTo>
                  <a:pt x="6945" y="6970"/>
                </a:moveTo>
                <a:cubicBezTo>
                  <a:pt x="6945" y="6945"/>
                  <a:pt x="6945" y="6937"/>
                  <a:pt x="6945" y="6921"/>
                </a:cubicBezTo>
                <a:cubicBezTo>
                  <a:pt x="6898" y="7027"/>
                  <a:pt x="6858" y="7132"/>
                  <a:pt x="6821" y="7243"/>
                </a:cubicBezTo>
              </a:path>
              <a:path w="4764" h="4143">
                <a:moveTo>
                  <a:pt x="6499" y="7491"/>
                </a:moveTo>
                <a:cubicBezTo>
                  <a:pt x="6446" y="7569"/>
                  <a:pt x="6429" y="7598"/>
                  <a:pt x="6424" y="7665"/>
                </a:cubicBezTo>
                <a:cubicBezTo>
                  <a:pt x="6483" y="7595"/>
                  <a:pt x="6563" y="7417"/>
                  <a:pt x="6474" y="7441"/>
                </a:cubicBezTo>
                <a:cubicBezTo>
                  <a:pt x="6328" y="7480"/>
                  <a:pt x="6347" y="7774"/>
                  <a:pt x="6449" y="7640"/>
                </a:cubicBezTo>
                <a:cubicBezTo>
                  <a:pt x="6472" y="7550"/>
                  <a:pt x="6480" y="7526"/>
                  <a:pt x="6474" y="7466"/>
                </a:cubicBezTo>
                <a:cubicBezTo>
                  <a:pt x="6409" y="7544"/>
                  <a:pt x="6391" y="7544"/>
                  <a:pt x="6375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14800" y="3911760"/>
            <a:ext cx="277560" cy="554040"/>
          </a:xfrm>
          <a:custGeom>
            <a:avLst/>
            <a:gdLst/>
            <a:ahLst/>
            <a:rect l="l" t="t" r="r" b="b"/>
            <a:pathLst>
              <a:path w="770" h="1539">
                <a:moveTo>
                  <a:pt x="9426" y="10939"/>
                </a:moveTo>
                <a:cubicBezTo>
                  <a:pt x="9418" y="10939"/>
                  <a:pt x="9409" y="10939"/>
                  <a:pt x="9401" y="10939"/>
                </a:cubicBezTo>
              </a:path>
              <a:path w="770" h="1539">
                <a:moveTo>
                  <a:pt x="9327" y="10939"/>
                </a:moveTo>
                <a:cubicBezTo>
                  <a:pt x="9392" y="10895"/>
                  <a:pt x="9406" y="10884"/>
                  <a:pt x="9451" y="10864"/>
                </a:cubicBezTo>
                <a:cubicBezTo>
                  <a:pt x="9334" y="10876"/>
                  <a:pt x="9223" y="10889"/>
                  <a:pt x="9103" y="10889"/>
                </a:cubicBezTo>
                <a:cubicBezTo>
                  <a:pt x="9034" y="10889"/>
                  <a:pt x="9037" y="11157"/>
                  <a:pt x="9029" y="11212"/>
                </a:cubicBezTo>
                <a:cubicBezTo>
                  <a:pt x="9037" y="11220"/>
                  <a:pt x="9046" y="11229"/>
                  <a:pt x="9054" y="11237"/>
                </a:cubicBezTo>
                <a:cubicBezTo>
                  <a:pt x="9153" y="11171"/>
                  <a:pt x="9312" y="11032"/>
                  <a:pt x="9426" y="11162"/>
                </a:cubicBezTo>
                <a:cubicBezTo>
                  <a:pt x="9544" y="11296"/>
                  <a:pt x="9393" y="11473"/>
                  <a:pt x="9252" y="11485"/>
                </a:cubicBezTo>
                <a:cubicBezTo>
                  <a:pt x="9145" y="11467"/>
                  <a:pt x="9137" y="11459"/>
                  <a:pt x="9079" y="11460"/>
                </a:cubicBezTo>
              </a:path>
              <a:path w="770" h="1539">
                <a:moveTo>
                  <a:pt x="8930" y="11683"/>
                </a:moveTo>
                <a:cubicBezTo>
                  <a:pt x="9166" y="11666"/>
                  <a:pt x="9413" y="11604"/>
                  <a:pt x="9649" y="11609"/>
                </a:cubicBezTo>
                <a:cubicBezTo>
                  <a:pt x="9666" y="11617"/>
                  <a:pt x="9682" y="11625"/>
                  <a:pt x="9699" y="11633"/>
                </a:cubicBezTo>
              </a:path>
              <a:path w="770" h="1539">
                <a:moveTo>
                  <a:pt x="9376" y="11931"/>
                </a:moveTo>
                <a:cubicBezTo>
                  <a:pt x="9339" y="11800"/>
                  <a:pt x="9179" y="11871"/>
                  <a:pt x="9054" y="11956"/>
                </a:cubicBezTo>
                <a:cubicBezTo>
                  <a:pt x="9037" y="11972"/>
                  <a:pt x="9021" y="11989"/>
                  <a:pt x="9004" y="12005"/>
                </a:cubicBezTo>
                <a:cubicBezTo>
                  <a:pt x="9066" y="12169"/>
                  <a:pt x="9287" y="12120"/>
                  <a:pt x="9401" y="12254"/>
                </a:cubicBezTo>
                <a:cubicBezTo>
                  <a:pt x="9401" y="12312"/>
                  <a:pt x="9401" y="12320"/>
                  <a:pt x="9401" y="12353"/>
                </a:cubicBezTo>
                <a:cubicBezTo>
                  <a:pt x="9241" y="12393"/>
                  <a:pt x="9129" y="12374"/>
                  <a:pt x="9227" y="12179"/>
                </a:cubicBezTo>
                <a:cubicBezTo>
                  <a:pt x="9291" y="12051"/>
                  <a:pt x="9375" y="11950"/>
                  <a:pt x="945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01920" y="4795920"/>
            <a:ext cx="1805040" cy="1463760"/>
          </a:xfrm>
          <a:custGeom>
            <a:avLst/>
            <a:gdLst/>
            <a:ahLst/>
            <a:rect l="l" t="t" r="r" b="b"/>
            <a:pathLst>
              <a:path w="5012" h="4069">
                <a:moveTo>
                  <a:pt x="8632" y="14114"/>
                </a:moveTo>
                <a:cubicBezTo>
                  <a:pt x="8523" y="14144"/>
                  <a:pt x="8402" y="14157"/>
                  <a:pt x="8285" y="14163"/>
                </a:cubicBezTo>
                <a:cubicBezTo>
                  <a:pt x="8177" y="14169"/>
                  <a:pt x="8174" y="14361"/>
                  <a:pt x="8161" y="14436"/>
                </a:cubicBezTo>
                <a:cubicBezTo>
                  <a:pt x="8161" y="14444"/>
                  <a:pt x="8161" y="14453"/>
                  <a:pt x="8161" y="14461"/>
                </a:cubicBezTo>
                <a:cubicBezTo>
                  <a:pt x="8276" y="14446"/>
                  <a:pt x="8356" y="14358"/>
                  <a:pt x="8483" y="14387"/>
                </a:cubicBezTo>
                <a:cubicBezTo>
                  <a:pt x="8663" y="14429"/>
                  <a:pt x="8608" y="14647"/>
                  <a:pt x="8508" y="14734"/>
                </a:cubicBezTo>
                <a:cubicBezTo>
                  <a:pt x="8386" y="14840"/>
                  <a:pt x="8263" y="14771"/>
                  <a:pt x="8136" y="14734"/>
                </a:cubicBezTo>
              </a:path>
              <a:path w="5012" h="4069">
                <a:moveTo>
                  <a:pt x="7739" y="14982"/>
                </a:moveTo>
                <a:cubicBezTo>
                  <a:pt x="7716" y="14816"/>
                  <a:pt x="7727" y="14654"/>
                  <a:pt x="7714" y="14486"/>
                </a:cubicBezTo>
                <a:cubicBezTo>
                  <a:pt x="7711" y="14451"/>
                  <a:pt x="7650" y="14143"/>
                  <a:pt x="7665" y="14114"/>
                </a:cubicBezTo>
                <a:cubicBezTo>
                  <a:pt x="7707" y="14029"/>
                  <a:pt x="8036" y="14043"/>
                  <a:pt x="8111" y="14039"/>
                </a:cubicBezTo>
                <a:cubicBezTo>
                  <a:pt x="8361" y="14026"/>
                  <a:pt x="8607" y="14007"/>
                  <a:pt x="8855" y="13965"/>
                </a:cubicBezTo>
                <a:cubicBezTo>
                  <a:pt x="9021" y="13937"/>
                  <a:pt x="9182" y="13940"/>
                  <a:pt x="9351" y="13940"/>
                </a:cubicBezTo>
                <a:cubicBezTo>
                  <a:pt x="9392" y="13940"/>
                  <a:pt x="9434" y="13940"/>
                  <a:pt x="9475" y="13940"/>
                </a:cubicBezTo>
              </a:path>
              <a:path w="5012" h="4069">
                <a:moveTo>
                  <a:pt x="7045" y="14238"/>
                </a:moveTo>
                <a:cubicBezTo>
                  <a:pt x="6874" y="14298"/>
                  <a:pt x="6779" y="14358"/>
                  <a:pt x="6672" y="14511"/>
                </a:cubicBezTo>
                <a:cubicBezTo>
                  <a:pt x="6778" y="14583"/>
                  <a:pt x="7134" y="14659"/>
                  <a:pt x="7045" y="14858"/>
                </a:cubicBezTo>
                <a:cubicBezTo>
                  <a:pt x="6957" y="14923"/>
                  <a:pt x="6939" y="14943"/>
                  <a:pt x="6871" y="14957"/>
                </a:cubicBezTo>
                <a:cubicBezTo>
                  <a:pt x="6807" y="14746"/>
                  <a:pt x="6967" y="14605"/>
                  <a:pt x="7045" y="14412"/>
                </a:cubicBezTo>
                <a:cubicBezTo>
                  <a:pt x="7053" y="14379"/>
                  <a:pt x="7061" y="14345"/>
                  <a:pt x="7069" y="14312"/>
                </a:cubicBezTo>
              </a:path>
              <a:path w="5012" h="4069">
                <a:moveTo>
                  <a:pt x="8806" y="14734"/>
                </a:moveTo>
                <a:cubicBezTo>
                  <a:pt x="8926" y="14710"/>
                  <a:pt x="8874" y="14643"/>
                  <a:pt x="8731" y="14684"/>
                </a:cubicBezTo>
              </a:path>
              <a:path w="5012" h="4069">
                <a:moveTo>
                  <a:pt x="8830" y="13742"/>
                </a:moveTo>
                <a:cubicBezTo>
                  <a:pt x="8830" y="13750"/>
                  <a:pt x="8830" y="13759"/>
                  <a:pt x="8830" y="13767"/>
                </a:cubicBezTo>
                <a:cubicBezTo>
                  <a:pt x="8911" y="13806"/>
                  <a:pt x="8850" y="13694"/>
                  <a:pt x="8830" y="13791"/>
                </a:cubicBezTo>
                <a:cubicBezTo>
                  <a:pt x="8802" y="13932"/>
                  <a:pt x="8983" y="13691"/>
                  <a:pt x="8855" y="13767"/>
                </a:cubicBezTo>
                <a:cubicBezTo>
                  <a:pt x="8847" y="13783"/>
                  <a:pt x="8838" y="13800"/>
                  <a:pt x="8830" y="13816"/>
                </a:cubicBezTo>
              </a:path>
              <a:path w="5012" h="4069">
                <a:moveTo>
                  <a:pt x="9351" y="14188"/>
                </a:moveTo>
                <a:cubicBezTo>
                  <a:pt x="9210" y="14156"/>
                  <a:pt x="9141" y="14252"/>
                  <a:pt x="9079" y="14387"/>
                </a:cubicBezTo>
                <a:cubicBezTo>
                  <a:pt x="9034" y="14521"/>
                  <a:pt x="9010" y="14557"/>
                  <a:pt x="9079" y="14635"/>
                </a:cubicBezTo>
                <a:cubicBezTo>
                  <a:pt x="9259" y="14659"/>
                  <a:pt x="9580" y="14603"/>
                  <a:pt x="9550" y="14312"/>
                </a:cubicBezTo>
                <a:cubicBezTo>
                  <a:pt x="9537" y="14186"/>
                  <a:pt x="9300" y="14195"/>
                  <a:pt x="9227" y="14188"/>
                </a:cubicBezTo>
              </a:path>
              <a:path w="5012" h="4069">
                <a:moveTo>
                  <a:pt x="9277" y="13965"/>
                </a:moveTo>
                <a:cubicBezTo>
                  <a:pt x="9361" y="13937"/>
                  <a:pt x="9434" y="13940"/>
                  <a:pt x="9525" y="13940"/>
                </a:cubicBezTo>
                <a:cubicBezTo>
                  <a:pt x="9686" y="13940"/>
                  <a:pt x="9838" y="13931"/>
                  <a:pt x="9996" y="13915"/>
                </a:cubicBezTo>
                <a:cubicBezTo>
                  <a:pt x="10110" y="13904"/>
                  <a:pt x="10230" y="13907"/>
                  <a:pt x="10344" y="13891"/>
                </a:cubicBezTo>
                <a:cubicBezTo>
                  <a:pt x="10542" y="13863"/>
                  <a:pt x="10736" y="13844"/>
                  <a:pt x="10939" y="13841"/>
                </a:cubicBezTo>
                <a:cubicBezTo>
                  <a:pt x="11158" y="13838"/>
                  <a:pt x="11368" y="13858"/>
                  <a:pt x="11584" y="13866"/>
                </a:cubicBezTo>
                <a:cubicBezTo>
                  <a:pt x="11642" y="13866"/>
                  <a:pt x="11650" y="13866"/>
                  <a:pt x="11683" y="13866"/>
                </a:cubicBezTo>
              </a:path>
              <a:path w="5012" h="4069">
                <a:moveTo>
                  <a:pt x="9203" y="13395"/>
                </a:moveTo>
                <a:cubicBezTo>
                  <a:pt x="9203" y="13518"/>
                  <a:pt x="9161" y="13599"/>
                  <a:pt x="9128" y="13717"/>
                </a:cubicBezTo>
                <a:cubicBezTo>
                  <a:pt x="9106" y="13825"/>
                  <a:pt x="9093" y="13851"/>
                  <a:pt x="9128" y="13915"/>
                </a:cubicBezTo>
                <a:cubicBezTo>
                  <a:pt x="9336" y="13985"/>
                  <a:pt x="9386" y="13925"/>
                  <a:pt x="9500" y="13742"/>
                </a:cubicBezTo>
                <a:cubicBezTo>
                  <a:pt x="9333" y="13742"/>
                  <a:pt x="9296" y="13757"/>
                  <a:pt x="9277" y="13940"/>
                </a:cubicBezTo>
              </a:path>
              <a:path w="5012" h="4069">
                <a:moveTo>
                  <a:pt x="8260" y="14908"/>
                </a:moveTo>
                <a:cubicBezTo>
                  <a:pt x="8254" y="14966"/>
                  <a:pt x="8246" y="15189"/>
                  <a:pt x="8210" y="15081"/>
                </a:cubicBezTo>
                <a:cubicBezTo>
                  <a:pt x="8300" y="15051"/>
                  <a:pt x="8410" y="15113"/>
                  <a:pt x="8483" y="15081"/>
                </a:cubicBezTo>
                <a:cubicBezTo>
                  <a:pt x="8585" y="15036"/>
                  <a:pt x="8522" y="14907"/>
                  <a:pt x="8508" y="14833"/>
                </a:cubicBezTo>
                <a:cubicBezTo>
                  <a:pt x="8480" y="14998"/>
                  <a:pt x="8470" y="15064"/>
                  <a:pt x="8458" y="15180"/>
                </a:cubicBezTo>
              </a:path>
              <a:path w="5012" h="4069">
                <a:moveTo>
                  <a:pt x="8979" y="14833"/>
                </a:moveTo>
                <a:cubicBezTo>
                  <a:pt x="8847" y="14956"/>
                  <a:pt x="8802" y="14983"/>
                  <a:pt x="8954" y="15106"/>
                </a:cubicBezTo>
                <a:cubicBezTo>
                  <a:pt x="8987" y="15131"/>
                  <a:pt x="9021" y="15155"/>
                  <a:pt x="9054" y="15180"/>
                </a:cubicBezTo>
                <a:cubicBezTo>
                  <a:pt x="8868" y="15231"/>
                  <a:pt x="8824" y="15186"/>
                  <a:pt x="8954" y="15007"/>
                </a:cubicBezTo>
                <a:cubicBezTo>
                  <a:pt x="8979" y="14982"/>
                  <a:pt x="9004" y="14957"/>
                  <a:pt x="9029" y="14932"/>
                </a:cubicBezTo>
              </a:path>
              <a:path w="5012" h="4069">
                <a:moveTo>
                  <a:pt x="8210" y="15528"/>
                </a:moveTo>
                <a:cubicBezTo>
                  <a:pt x="8552" y="15428"/>
                  <a:pt x="8898" y="15329"/>
                  <a:pt x="9252" y="15280"/>
                </a:cubicBezTo>
                <a:cubicBezTo>
                  <a:pt x="9269" y="15280"/>
                  <a:pt x="9285" y="15280"/>
                  <a:pt x="9302" y="15280"/>
                </a:cubicBezTo>
              </a:path>
              <a:path w="5012" h="4069">
                <a:moveTo>
                  <a:pt x="8954" y="15478"/>
                </a:moveTo>
                <a:cubicBezTo>
                  <a:pt x="9290" y="15406"/>
                  <a:pt x="9237" y="15490"/>
                  <a:pt x="9004" y="15677"/>
                </a:cubicBezTo>
                <a:cubicBezTo>
                  <a:pt x="8702" y="15920"/>
                  <a:pt x="9221" y="15716"/>
                  <a:pt x="9327" y="15677"/>
                </a:cubicBezTo>
              </a:path>
              <a:path w="5012" h="4069">
                <a:moveTo>
                  <a:pt x="9773" y="14188"/>
                </a:moveTo>
                <a:cubicBezTo>
                  <a:pt x="9685" y="14350"/>
                  <a:pt x="9654" y="14428"/>
                  <a:pt x="9674" y="14610"/>
                </a:cubicBezTo>
                <a:cubicBezTo>
                  <a:pt x="9863" y="14583"/>
                  <a:pt x="10110" y="14519"/>
                  <a:pt x="9922" y="14288"/>
                </a:cubicBezTo>
                <a:cubicBezTo>
                  <a:pt x="9889" y="14263"/>
                  <a:pt x="9856" y="14238"/>
                  <a:pt x="9823" y="14213"/>
                </a:cubicBezTo>
              </a:path>
              <a:path w="5012" h="4069">
                <a:moveTo>
                  <a:pt x="9748" y="14635"/>
                </a:moveTo>
                <a:cubicBezTo>
                  <a:pt x="9713" y="14875"/>
                  <a:pt x="9662" y="15112"/>
                  <a:pt x="9649" y="15354"/>
                </a:cubicBezTo>
              </a:path>
              <a:path w="5012" h="4069">
                <a:moveTo>
                  <a:pt x="9649" y="15329"/>
                </a:moveTo>
                <a:cubicBezTo>
                  <a:pt x="9560" y="15418"/>
                  <a:pt x="9456" y="15515"/>
                  <a:pt x="9451" y="15652"/>
                </a:cubicBezTo>
                <a:cubicBezTo>
                  <a:pt x="9459" y="15677"/>
                  <a:pt x="9467" y="15701"/>
                  <a:pt x="9475" y="15726"/>
                </a:cubicBezTo>
                <a:cubicBezTo>
                  <a:pt x="9666" y="15703"/>
                  <a:pt x="9799" y="15613"/>
                  <a:pt x="9773" y="15379"/>
                </a:cubicBezTo>
                <a:cubicBezTo>
                  <a:pt x="9716" y="15322"/>
                  <a:pt x="9690" y="15306"/>
                  <a:pt x="9624" y="15329"/>
                </a:cubicBezTo>
              </a:path>
              <a:path w="5012" h="4069">
                <a:moveTo>
                  <a:pt x="9773" y="13419"/>
                </a:moveTo>
                <a:cubicBezTo>
                  <a:pt x="9898" y="13367"/>
                  <a:pt x="9949" y="13336"/>
                  <a:pt x="10071" y="13345"/>
                </a:cubicBezTo>
                <a:cubicBezTo>
                  <a:pt x="10093" y="13618"/>
                  <a:pt x="10087" y="13676"/>
                  <a:pt x="9847" y="13816"/>
                </a:cubicBezTo>
                <a:cubicBezTo>
                  <a:pt x="9784" y="13752"/>
                  <a:pt x="9792" y="13603"/>
                  <a:pt x="9922" y="13568"/>
                </a:cubicBezTo>
                <a:cubicBezTo>
                  <a:pt x="10012" y="13544"/>
                  <a:pt x="10100" y="13667"/>
                  <a:pt x="10145" y="13717"/>
                </a:cubicBezTo>
              </a:path>
              <a:path w="5012" h="4069">
                <a:moveTo>
                  <a:pt x="9079" y="15900"/>
                </a:moveTo>
                <a:cubicBezTo>
                  <a:pt x="9079" y="15892"/>
                  <a:pt x="9079" y="15883"/>
                  <a:pt x="9079" y="15875"/>
                </a:cubicBezTo>
              </a:path>
              <a:path w="5012" h="4069">
                <a:moveTo>
                  <a:pt x="9054" y="15925"/>
                </a:moveTo>
                <a:cubicBezTo>
                  <a:pt x="9054" y="15908"/>
                  <a:pt x="9054" y="15892"/>
                  <a:pt x="9054" y="15875"/>
                </a:cubicBezTo>
                <a:cubicBezTo>
                  <a:pt x="9054" y="15983"/>
                  <a:pt x="9061" y="16120"/>
                  <a:pt x="9029" y="16222"/>
                </a:cubicBezTo>
                <a:cubicBezTo>
                  <a:pt x="9021" y="16230"/>
                  <a:pt x="9012" y="16239"/>
                  <a:pt x="9004" y="16247"/>
                </a:cubicBezTo>
              </a:path>
              <a:path w="5012" h="4069">
                <a:moveTo>
                  <a:pt x="9426" y="16024"/>
                </a:moveTo>
                <a:cubicBezTo>
                  <a:pt x="9449" y="15956"/>
                  <a:pt x="9417" y="16078"/>
                  <a:pt x="9401" y="16148"/>
                </a:cubicBezTo>
                <a:cubicBezTo>
                  <a:pt x="9381" y="16237"/>
                  <a:pt x="9389" y="16299"/>
                  <a:pt x="9475" y="16321"/>
                </a:cubicBezTo>
                <a:cubicBezTo>
                  <a:pt x="9567" y="16345"/>
                  <a:pt x="9672" y="16261"/>
                  <a:pt x="9723" y="16197"/>
                </a:cubicBezTo>
                <a:cubicBezTo>
                  <a:pt x="9748" y="16148"/>
                  <a:pt x="9757" y="16131"/>
                  <a:pt x="9773" y="16098"/>
                </a:cubicBezTo>
                <a:cubicBezTo>
                  <a:pt x="9644" y="16074"/>
                  <a:pt x="9640" y="16104"/>
                  <a:pt x="9575" y="16222"/>
                </a:cubicBezTo>
              </a:path>
              <a:path w="5012" h="4069">
                <a:moveTo>
                  <a:pt x="8607" y="16520"/>
                </a:moveTo>
                <a:cubicBezTo>
                  <a:pt x="8825" y="16520"/>
                  <a:pt x="9013" y="16489"/>
                  <a:pt x="9227" y="16446"/>
                </a:cubicBezTo>
                <a:cubicBezTo>
                  <a:pt x="9424" y="16406"/>
                  <a:pt x="9624" y="16371"/>
                  <a:pt x="9823" y="16346"/>
                </a:cubicBezTo>
              </a:path>
              <a:path w="5012" h="4069">
                <a:moveTo>
                  <a:pt x="8508" y="16049"/>
                </a:moveTo>
                <a:cubicBezTo>
                  <a:pt x="8567" y="16049"/>
                  <a:pt x="8593" y="16046"/>
                  <a:pt x="8632" y="16024"/>
                </a:cubicBezTo>
              </a:path>
              <a:path w="5012" h="4069">
                <a:moveTo>
                  <a:pt x="9550" y="16545"/>
                </a:moveTo>
                <a:cubicBezTo>
                  <a:pt x="9498" y="16616"/>
                  <a:pt x="9473" y="16649"/>
                  <a:pt x="9401" y="16694"/>
                </a:cubicBezTo>
                <a:cubicBezTo>
                  <a:pt x="9477" y="16673"/>
                  <a:pt x="9547" y="16653"/>
                  <a:pt x="9624" y="16644"/>
                </a:cubicBezTo>
              </a:path>
              <a:path w="5012" h="4069">
                <a:moveTo>
                  <a:pt x="9699" y="16446"/>
                </a:moveTo>
                <a:cubicBezTo>
                  <a:pt x="9673" y="16564"/>
                  <a:pt x="9656" y="16673"/>
                  <a:pt x="9649" y="16793"/>
                </a:cubicBezTo>
              </a:path>
              <a:path w="5012" h="4069">
                <a:moveTo>
                  <a:pt x="10269" y="14064"/>
                </a:moveTo>
                <a:cubicBezTo>
                  <a:pt x="10114" y="14081"/>
                  <a:pt x="10055" y="14195"/>
                  <a:pt x="10046" y="14362"/>
                </a:cubicBezTo>
                <a:cubicBezTo>
                  <a:pt x="10031" y="14645"/>
                  <a:pt x="10303" y="14582"/>
                  <a:pt x="10418" y="14412"/>
                </a:cubicBezTo>
                <a:cubicBezTo>
                  <a:pt x="10547" y="14221"/>
                  <a:pt x="10430" y="14121"/>
                  <a:pt x="10269" y="14089"/>
                </a:cubicBezTo>
              </a:path>
              <a:path w="5012" h="4069">
                <a:moveTo>
                  <a:pt x="10269" y="14709"/>
                </a:moveTo>
                <a:cubicBezTo>
                  <a:pt x="10225" y="14950"/>
                  <a:pt x="10199" y="15184"/>
                  <a:pt x="10195" y="15429"/>
                </a:cubicBezTo>
                <a:cubicBezTo>
                  <a:pt x="10192" y="15614"/>
                  <a:pt x="10193" y="15798"/>
                  <a:pt x="10220" y="15974"/>
                </a:cubicBezTo>
                <a:cubicBezTo>
                  <a:pt x="10226" y="16013"/>
                  <a:pt x="10220" y="16058"/>
                  <a:pt x="10220" y="16098"/>
                </a:cubicBezTo>
              </a:path>
              <a:path w="5012" h="4069">
                <a:moveTo>
                  <a:pt x="10120" y="16396"/>
                </a:moveTo>
                <a:cubicBezTo>
                  <a:pt x="10000" y="16442"/>
                  <a:pt x="9876" y="16488"/>
                  <a:pt x="9823" y="16619"/>
                </a:cubicBezTo>
                <a:cubicBezTo>
                  <a:pt x="9823" y="16636"/>
                  <a:pt x="9823" y="16652"/>
                  <a:pt x="9823" y="16669"/>
                </a:cubicBezTo>
                <a:cubicBezTo>
                  <a:pt x="9930" y="16776"/>
                  <a:pt x="10051" y="16754"/>
                  <a:pt x="10170" y="16644"/>
                </a:cubicBezTo>
                <a:cubicBezTo>
                  <a:pt x="10272" y="16550"/>
                  <a:pt x="10260" y="16436"/>
                  <a:pt x="10145" y="16371"/>
                </a:cubicBezTo>
                <a:cubicBezTo>
                  <a:pt x="10093" y="16342"/>
                  <a:pt x="10051" y="16346"/>
                  <a:pt x="9996" y="16346"/>
                </a:cubicBezTo>
              </a:path>
              <a:path w="5012" h="4069">
                <a:moveTo>
                  <a:pt x="10468" y="13320"/>
                </a:moveTo>
                <a:cubicBezTo>
                  <a:pt x="10356" y="13348"/>
                  <a:pt x="10279" y="13309"/>
                  <a:pt x="10244" y="13444"/>
                </a:cubicBezTo>
                <a:cubicBezTo>
                  <a:pt x="10244" y="13469"/>
                  <a:pt x="10244" y="13494"/>
                  <a:pt x="10244" y="13519"/>
                </a:cubicBezTo>
                <a:cubicBezTo>
                  <a:pt x="10264" y="13577"/>
                  <a:pt x="10331" y="13511"/>
                  <a:pt x="10393" y="13519"/>
                </a:cubicBezTo>
                <a:cubicBezTo>
                  <a:pt x="10495" y="13544"/>
                  <a:pt x="10531" y="13553"/>
                  <a:pt x="10592" y="13593"/>
                </a:cubicBezTo>
                <a:cubicBezTo>
                  <a:pt x="10533" y="13782"/>
                  <a:pt x="10459" y="13789"/>
                  <a:pt x="10269" y="13767"/>
                </a:cubicBezTo>
              </a:path>
              <a:path w="5012" h="4069">
                <a:moveTo>
                  <a:pt x="9550" y="16917"/>
                </a:moveTo>
                <a:cubicBezTo>
                  <a:pt x="9526" y="16846"/>
                  <a:pt x="9486" y="17063"/>
                  <a:pt x="9401" y="17140"/>
                </a:cubicBezTo>
                <a:cubicBezTo>
                  <a:pt x="9384" y="17148"/>
                  <a:pt x="9368" y="17157"/>
                  <a:pt x="9351" y="17165"/>
                </a:cubicBezTo>
                <a:cubicBezTo>
                  <a:pt x="9453" y="17004"/>
                  <a:pt x="9452" y="17106"/>
                  <a:pt x="9599" y="17190"/>
                </a:cubicBezTo>
                <a:cubicBezTo>
                  <a:pt x="9683" y="17238"/>
                  <a:pt x="9651" y="16884"/>
                  <a:pt x="9649" y="16867"/>
                </a:cubicBezTo>
                <a:cubicBezTo>
                  <a:pt x="9649" y="16998"/>
                  <a:pt x="9649" y="17113"/>
                  <a:pt x="9624" y="17239"/>
                </a:cubicBezTo>
              </a:path>
              <a:path w="5012" h="4069">
                <a:moveTo>
                  <a:pt x="9971" y="16892"/>
                </a:moveTo>
                <a:cubicBezTo>
                  <a:pt x="9922" y="16997"/>
                  <a:pt x="9888" y="17078"/>
                  <a:pt x="9872" y="17190"/>
                </a:cubicBezTo>
                <a:cubicBezTo>
                  <a:pt x="10025" y="17199"/>
                  <a:pt x="10233" y="17107"/>
                  <a:pt x="10096" y="16892"/>
                </a:cubicBezTo>
                <a:cubicBezTo>
                  <a:pt x="9989" y="16839"/>
                  <a:pt x="9949" y="16825"/>
                  <a:pt x="9872" y="16892"/>
                </a:cubicBezTo>
              </a:path>
              <a:path w="5012" h="4069">
                <a:moveTo>
                  <a:pt x="9302" y="17363"/>
                </a:moveTo>
                <a:cubicBezTo>
                  <a:pt x="9579" y="17382"/>
                  <a:pt x="9909" y="17269"/>
                  <a:pt x="10195" y="17214"/>
                </a:cubicBezTo>
              </a:path>
              <a:path w="5012" h="4069">
                <a:moveTo>
                  <a:pt x="10443" y="17190"/>
                </a:moveTo>
                <a:cubicBezTo>
                  <a:pt x="10321" y="17214"/>
                  <a:pt x="10316" y="17206"/>
                  <a:pt x="10244" y="17314"/>
                </a:cubicBezTo>
                <a:cubicBezTo>
                  <a:pt x="10323" y="17330"/>
                  <a:pt x="10647" y="17362"/>
                  <a:pt x="10567" y="17165"/>
                </a:cubicBezTo>
                <a:cubicBezTo>
                  <a:pt x="10478" y="17135"/>
                  <a:pt x="10438" y="17127"/>
                  <a:pt x="10368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9160" y="2608200"/>
            <a:ext cx="1036800" cy="544680"/>
          </a:xfrm>
          <a:custGeom>
            <a:avLst/>
            <a:gdLst/>
            <a:ahLst/>
            <a:rect l="l" t="t" r="r" b="b"/>
            <a:pathLst>
              <a:path w="2878" h="1514">
                <a:moveTo>
                  <a:pt x="12204" y="7268"/>
                </a:moveTo>
                <a:cubicBezTo>
                  <a:pt x="12331" y="7256"/>
                  <a:pt x="12610" y="7257"/>
                  <a:pt x="12402" y="7466"/>
                </a:cubicBezTo>
                <a:cubicBezTo>
                  <a:pt x="12361" y="7491"/>
                  <a:pt x="12319" y="7516"/>
                  <a:pt x="12278" y="7541"/>
                </a:cubicBezTo>
                <a:cubicBezTo>
                  <a:pt x="12103" y="7519"/>
                  <a:pt x="12382" y="7506"/>
                  <a:pt x="12452" y="7590"/>
                </a:cubicBezTo>
                <a:cubicBezTo>
                  <a:pt x="12617" y="7789"/>
                  <a:pt x="12215" y="7852"/>
                  <a:pt x="12129" y="7863"/>
                </a:cubicBezTo>
              </a:path>
              <a:path w="2878" h="1514">
                <a:moveTo>
                  <a:pt x="11832" y="8186"/>
                </a:moveTo>
                <a:cubicBezTo>
                  <a:pt x="12057" y="8136"/>
                  <a:pt x="12274" y="8094"/>
                  <a:pt x="12502" y="8062"/>
                </a:cubicBezTo>
              </a:path>
              <a:path w="2878" h="1514">
                <a:moveTo>
                  <a:pt x="12278" y="8310"/>
                </a:moveTo>
                <a:cubicBezTo>
                  <a:pt x="12183" y="8310"/>
                  <a:pt x="12098" y="8329"/>
                  <a:pt x="12005" y="8334"/>
                </a:cubicBezTo>
                <a:cubicBezTo>
                  <a:pt x="11920" y="8338"/>
                  <a:pt x="11931" y="8451"/>
                  <a:pt x="11906" y="8533"/>
                </a:cubicBezTo>
                <a:cubicBezTo>
                  <a:pt x="12119" y="8476"/>
                  <a:pt x="12265" y="8484"/>
                  <a:pt x="12477" y="8533"/>
                </a:cubicBezTo>
                <a:cubicBezTo>
                  <a:pt x="12397" y="8705"/>
                  <a:pt x="12325" y="8691"/>
                  <a:pt x="12129" y="8756"/>
                </a:cubicBezTo>
              </a:path>
              <a:path w="2878" h="1514">
                <a:moveTo>
                  <a:pt x="12923" y="7938"/>
                </a:moveTo>
                <a:cubicBezTo>
                  <a:pt x="13046" y="8011"/>
                  <a:pt x="13086" y="8035"/>
                  <a:pt x="13146" y="8111"/>
                </a:cubicBezTo>
              </a:path>
              <a:path w="2878" h="1514">
                <a:moveTo>
                  <a:pt x="13097" y="7913"/>
                </a:moveTo>
                <a:cubicBezTo>
                  <a:pt x="13064" y="7971"/>
                  <a:pt x="13031" y="8028"/>
                  <a:pt x="12998" y="8086"/>
                </a:cubicBezTo>
              </a:path>
              <a:path w="2878" h="1514">
                <a:moveTo>
                  <a:pt x="13568" y="8409"/>
                </a:moveTo>
                <a:cubicBezTo>
                  <a:pt x="13664" y="8409"/>
                  <a:pt x="13694" y="8407"/>
                  <a:pt x="13742" y="8458"/>
                </a:cubicBezTo>
                <a:cubicBezTo>
                  <a:pt x="13686" y="8612"/>
                  <a:pt x="13594" y="8623"/>
                  <a:pt x="13469" y="8533"/>
                </a:cubicBezTo>
                <a:cubicBezTo>
                  <a:pt x="13549" y="8436"/>
                  <a:pt x="13685" y="8496"/>
                  <a:pt x="13816" y="8558"/>
                </a:cubicBezTo>
              </a:path>
              <a:path w="2878" h="1514">
                <a:moveTo>
                  <a:pt x="14163" y="8260"/>
                </a:moveTo>
                <a:cubicBezTo>
                  <a:pt x="14076" y="8369"/>
                  <a:pt x="14047" y="8392"/>
                  <a:pt x="14039" y="8483"/>
                </a:cubicBezTo>
                <a:cubicBezTo>
                  <a:pt x="14223" y="8484"/>
                  <a:pt x="14312" y="8421"/>
                  <a:pt x="14288" y="8260"/>
                </a:cubicBezTo>
              </a:path>
              <a:path w="2878" h="1514">
                <a:moveTo>
                  <a:pt x="13593" y="8062"/>
                </a:moveTo>
                <a:cubicBezTo>
                  <a:pt x="13843" y="8012"/>
                  <a:pt x="13927" y="7994"/>
                  <a:pt x="14089" y="7938"/>
                </a:cubicBezTo>
              </a:path>
              <a:path w="2878" h="1514">
                <a:moveTo>
                  <a:pt x="13618" y="7615"/>
                </a:moveTo>
                <a:cubicBezTo>
                  <a:pt x="13651" y="7640"/>
                  <a:pt x="13684" y="7664"/>
                  <a:pt x="13717" y="7689"/>
                </a:cubicBezTo>
                <a:cubicBezTo>
                  <a:pt x="13618" y="7838"/>
                  <a:pt x="13554" y="7904"/>
                  <a:pt x="13370" y="7888"/>
                </a:cubicBezTo>
                <a:cubicBezTo>
                  <a:pt x="13496" y="7812"/>
                  <a:pt x="13539" y="7787"/>
                  <a:pt x="13643" y="7838"/>
                </a:cubicBezTo>
              </a:path>
              <a:path w="2878" h="1514">
                <a:moveTo>
                  <a:pt x="13816" y="7565"/>
                </a:moveTo>
                <a:cubicBezTo>
                  <a:pt x="13791" y="7670"/>
                  <a:pt x="13746" y="8047"/>
                  <a:pt x="13990" y="7838"/>
                </a:cubicBezTo>
                <a:cubicBezTo>
                  <a:pt x="14144" y="7706"/>
                  <a:pt x="13944" y="7636"/>
                  <a:pt x="13866" y="7590"/>
                </a:cubicBezTo>
              </a:path>
              <a:path w="2878" h="1514">
                <a:moveTo>
                  <a:pt x="14486" y="8062"/>
                </a:moveTo>
                <a:cubicBezTo>
                  <a:pt x="14582" y="8029"/>
                  <a:pt x="14631" y="8021"/>
                  <a:pt x="14709" y="8037"/>
                </a:cubicBezTo>
              </a:path>
              <a:path w="2878" h="1514">
                <a:moveTo>
                  <a:pt x="14511" y="8285"/>
                </a:moveTo>
                <a:cubicBezTo>
                  <a:pt x="14569" y="8277"/>
                  <a:pt x="14626" y="8268"/>
                  <a:pt x="14684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64080" y="2598840"/>
            <a:ext cx="839880" cy="455400"/>
          </a:xfrm>
          <a:custGeom>
            <a:avLst/>
            <a:gdLst/>
            <a:ahLst/>
            <a:rect l="l" t="t" r="r" b="b"/>
            <a:pathLst>
              <a:path w="2333" h="1266">
                <a:moveTo>
                  <a:pt x="15429" y="8086"/>
                </a:moveTo>
                <a:cubicBezTo>
                  <a:pt x="15380" y="8258"/>
                  <a:pt x="15363" y="8313"/>
                  <a:pt x="15379" y="8434"/>
                </a:cubicBezTo>
              </a:path>
              <a:path w="2333" h="1266">
                <a:moveTo>
                  <a:pt x="15801" y="8161"/>
                </a:moveTo>
                <a:cubicBezTo>
                  <a:pt x="15630" y="8287"/>
                  <a:pt x="15575" y="8294"/>
                  <a:pt x="15553" y="8483"/>
                </a:cubicBezTo>
                <a:cubicBezTo>
                  <a:pt x="15644" y="8474"/>
                  <a:pt x="16314" y="8393"/>
                  <a:pt x="15999" y="8161"/>
                </a:cubicBezTo>
                <a:cubicBezTo>
                  <a:pt x="15949" y="8153"/>
                  <a:pt x="15900" y="8144"/>
                  <a:pt x="15850" y="8136"/>
                </a:cubicBezTo>
              </a:path>
              <a:path w="2333" h="1266">
                <a:moveTo>
                  <a:pt x="16247" y="8111"/>
                </a:moveTo>
                <a:cubicBezTo>
                  <a:pt x="16179" y="8247"/>
                  <a:pt x="16155" y="8283"/>
                  <a:pt x="16173" y="8384"/>
                </a:cubicBezTo>
                <a:cubicBezTo>
                  <a:pt x="16405" y="8500"/>
                  <a:pt x="16462" y="8423"/>
                  <a:pt x="16545" y="8186"/>
                </a:cubicBezTo>
              </a:path>
              <a:path w="2333" h="1266">
                <a:moveTo>
                  <a:pt x="15180" y="7938"/>
                </a:moveTo>
                <a:cubicBezTo>
                  <a:pt x="15553" y="7938"/>
                  <a:pt x="15902" y="7902"/>
                  <a:pt x="16272" y="7863"/>
                </a:cubicBezTo>
                <a:cubicBezTo>
                  <a:pt x="16288" y="7863"/>
                  <a:pt x="16305" y="7863"/>
                  <a:pt x="16321" y="7863"/>
                </a:cubicBezTo>
              </a:path>
              <a:path w="2333" h="1266">
                <a:moveTo>
                  <a:pt x="15503" y="7243"/>
                </a:moveTo>
                <a:cubicBezTo>
                  <a:pt x="15339" y="7407"/>
                  <a:pt x="15301" y="7531"/>
                  <a:pt x="15280" y="7764"/>
                </a:cubicBezTo>
                <a:cubicBezTo>
                  <a:pt x="15492" y="7775"/>
                  <a:pt x="15560" y="7733"/>
                  <a:pt x="15701" y="7565"/>
                </a:cubicBezTo>
                <a:cubicBezTo>
                  <a:pt x="15499" y="7457"/>
                  <a:pt x="15478" y="7513"/>
                  <a:pt x="15404" y="7714"/>
                </a:cubicBezTo>
              </a:path>
              <a:path w="2333" h="1266">
                <a:moveTo>
                  <a:pt x="16024" y="7218"/>
                </a:moveTo>
                <a:cubicBezTo>
                  <a:pt x="15793" y="7328"/>
                  <a:pt x="15741" y="7437"/>
                  <a:pt x="15776" y="7689"/>
                </a:cubicBezTo>
                <a:cubicBezTo>
                  <a:pt x="15916" y="7667"/>
                  <a:pt x="16406" y="7531"/>
                  <a:pt x="16197" y="7268"/>
                </a:cubicBezTo>
                <a:cubicBezTo>
                  <a:pt x="16148" y="7251"/>
                  <a:pt x="16098" y="7235"/>
                  <a:pt x="16049" y="7218"/>
                </a:cubicBezTo>
              </a:path>
              <a:path w="2333" h="1266">
                <a:moveTo>
                  <a:pt x="16966" y="7789"/>
                </a:moveTo>
                <a:lnTo>
                  <a:pt x="16966" y="7789"/>
                </a:lnTo>
              </a:path>
              <a:path w="2333" h="1266">
                <a:moveTo>
                  <a:pt x="16743" y="7987"/>
                </a:moveTo>
                <a:cubicBezTo>
                  <a:pt x="16893" y="7987"/>
                  <a:pt x="16943" y="7987"/>
                  <a:pt x="17041" y="7962"/>
                </a:cubicBezTo>
              </a:path>
              <a:path w="2333" h="1266">
                <a:moveTo>
                  <a:pt x="16247" y="8086"/>
                </a:moveTo>
                <a:cubicBezTo>
                  <a:pt x="16356" y="8119"/>
                  <a:pt x="16429" y="8102"/>
                  <a:pt x="16495" y="8210"/>
                </a:cubicBezTo>
                <a:cubicBezTo>
                  <a:pt x="16522" y="8264"/>
                  <a:pt x="16527" y="8285"/>
                  <a:pt x="16470" y="8310"/>
                </a:cubicBezTo>
              </a:path>
              <a:path w="2333" h="1266">
                <a:moveTo>
                  <a:pt x="16669" y="7863"/>
                </a:moveTo>
                <a:cubicBezTo>
                  <a:pt x="16803" y="7851"/>
                  <a:pt x="16931" y="7821"/>
                  <a:pt x="17066" y="7813"/>
                </a:cubicBezTo>
              </a:path>
              <a:path w="2333" h="1266">
                <a:moveTo>
                  <a:pt x="17512" y="7838"/>
                </a:moveTo>
                <a:cubicBezTo>
                  <a:pt x="17512" y="7863"/>
                  <a:pt x="17512" y="7888"/>
                  <a:pt x="17512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3880" y="2633760"/>
            <a:ext cx="339840" cy="215640"/>
          </a:xfrm>
          <a:custGeom>
            <a:avLst/>
            <a:gdLst/>
            <a:ahLst/>
            <a:rect l="l" t="t" r="r" b="b"/>
            <a:pathLst>
              <a:path w="944" h="597">
                <a:moveTo>
                  <a:pt x="18083" y="7367"/>
                </a:moveTo>
                <a:cubicBezTo>
                  <a:pt x="18026" y="7555"/>
                  <a:pt x="17991" y="7689"/>
                  <a:pt x="17983" y="7888"/>
                </a:cubicBezTo>
                <a:cubicBezTo>
                  <a:pt x="18067" y="7900"/>
                  <a:pt x="18432" y="7885"/>
                  <a:pt x="18355" y="7689"/>
                </a:cubicBezTo>
                <a:cubicBezTo>
                  <a:pt x="18288" y="7520"/>
                  <a:pt x="18141" y="7818"/>
                  <a:pt x="18132" y="7838"/>
                </a:cubicBezTo>
              </a:path>
              <a:path w="944" h="597">
                <a:moveTo>
                  <a:pt x="18728" y="7317"/>
                </a:moveTo>
                <a:cubicBezTo>
                  <a:pt x="18592" y="7362"/>
                  <a:pt x="18478" y="7525"/>
                  <a:pt x="18529" y="7689"/>
                </a:cubicBezTo>
                <a:cubicBezTo>
                  <a:pt x="18554" y="7714"/>
                  <a:pt x="18579" y="7739"/>
                  <a:pt x="18604" y="7764"/>
                </a:cubicBezTo>
                <a:cubicBezTo>
                  <a:pt x="18743" y="7736"/>
                  <a:pt x="19088" y="7591"/>
                  <a:pt x="18852" y="7392"/>
                </a:cubicBezTo>
                <a:cubicBezTo>
                  <a:pt x="18811" y="7384"/>
                  <a:pt x="18769" y="7375"/>
                  <a:pt x="18728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0880" y="4527720"/>
            <a:ext cx="357120" cy="580680"/>
          </a:xfrm>
          <a:custGeom>
            <a:avLst/>
            <a:gdLst/>
            <a:ahLst/>
            <a:rect l="l" t="t" r="r" b="b"/>
            <a:pathLst>
              <a:path w="994" h="1613">
                <a:moveTo>
                  <a:pt x="15577" y="12576"/>
                </a:moveTo>
                <a:cubicBezTo>
                  <a:pt x="15419" y="12576"/>
                  <a:pt x="15223" y="12505"/>
                  <a:pt x="15180" y="12675"/>
                </a:cubicBezTo>
                <a:cubicBezTo>
                  <a:pt x="15157" y="12765"/>
                  <a:pt x="15156" y="12837"/>
                  <a:pt x="15156" y="12923"/>
                </a:cubicBezTo>
                <a:cubicBezTo>
                  <a:pt x="15388" y="12855"/>
                  <a:pt x="15498" y="12829"/>
                  <a:pt x="15701" y="12948"/>
                </a:cubicBezTo>
                <a:cubicBezTo>
                  <a:pt x="15563" y="13142"/>
                  <a:pt x="15568" y="13141"/>
                  <a:pt x="15329" y="13171"/>
                </a:cubicBezTo>
              </a:path>
              <a:path w="994" h="1613">
                <a:moveTo>
                  <a:pt x="14808" y="13469"/>
                </a:moveTo>
                <a:cubicBezTo>
                  <a:pt x="15139" y="13410"/>
                  <a:pt x="15464" y="13361"/>
                  <a:pt x="15801" y="13345"/>
                </a:cubicBezTo>
              </a:path>
              <a:path w="994" h="1613">
                <a:moveTo>
                  <a:pt x="15354" y="13643"/>
                </a:moveTo>
                <a:cubicBezTo>
                  <a:pt x="15220" y="13687"/>
                  <a:pt x="15184" y="13697"/>
                  <a:pt x="15106" y="13742"/>
                </a:cubicBezTo>
                <a:cubicBezTo>
                  <a:pt x="15269" y="13892"/>
                  <a:pt x="15430" y="13933"/>
                  <a:pt x="15503" y="14139"/>
                </a:cubicBezTo>
                <a:cubicBezTo>
                  <a:pt x="15255" y="14197"/>
                  <a:pt x="15202" y="14101"/>
                  <a:pt x="15280" y="13841"/>
                </a:cubicBezTo>
                <a:cubicBezTo>
                  <a:pt x="15343" y="13694"/>
                  <a:pt x="15360" y="13664"/>
                  <a:pt x="15379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92840" y="4589640"/>
            <a:ext cx="1171440" cy="312480"/>
          </a:xfrm>
          <a:custGeom>
            <a:avLst/>
            <a:gdLst/>
            <a:ahLst/>
            <a:rect l="l" t="t" r="r" b="b"/>
            <a:pathLst>
              <a:path w="3251" h="869">
                <a:moveTo>
                  <a:pt x="16371" y="13246"/>
                </a:moveTo>
                <a:cubicBezTo>
                  <a:pt x="16525" y="13194"/>
                  <a:pt x="16581" y="13178"/>
                  <a:pt x="16694" y="13196"/>
                </a:cubicBezTo>
              </a:path>
              <a:path w="3251" h="869">
                <a:moveTo>
                  <a:pt x="16470" y="13444"/>
                </a:moveTo>
                <a:lnTo>
                  <a:pt x="16470" y="13444"/>
                </a:lnTo>
              </a:path>
              <a:path w="3251" h="869">
                <a:moveTo>
                  <a:pt x="17413" y="13469"/>
                </a:moveTo>
                <a:cubicBezTo>
                  <a:pt x="17413" y="13486"/>
                  <a:pt x="17413" y="13502"/>
                  <a:pt x="17413" y="13519"/>
                </a:cubicBezTo>
              </a:path>
              <a:path w="3251" h="869">
                <a:moveTo>
                  <a:pt x="16470" y="13568"/>
                </a:moveTo>
                <a:cubicBezTo>
                  <a:pt x="16462" y="13560"/>
                  <a:pt x="16454" y="13551"/>
                  <a:pt x="16446" y="13543"/>
                </a:cubicBezTo>
                <a:cubicBezTo>
                  <a:pt x="16509" y="13434"/>
                  <a:pt x="16677" y="13449"/>
                  <a:pt x="16818" y="13444"/>
                </a:cubicBezTo>
                <a:cubicBezTo>
                  <a:pt x="16834" y="13444"/>
                  <a:pt x="16851" y="13444"/>
                  <a:pt x="16867" y="13444"/>
                </a:cubicBezTo>
              </a:path>
              <a:path w="3251" h="869">
                <a:moveTo>
                  <a:pt x="18033" y="12923"/>
                </a:moveTo>
                <a:cubicBezTo>
                  <a:pt x="17950" y="13058"/>
                  <a:pt x="17666" y="13394"/>
                  <a:pt x="17884" y="13543"/>
                </a:cubicBezTo>
                <a:cubicBezTo>
                  <a:pt x="18087" y="13682"/>
                  <a:pt x="18284" y="13428"/>
                  <a:pt x="18306" y="13295"/>
                </a:cubicBezTo>
                <a:cubicBezTo>
                  <a:pt x="18146" y="13323"/>
                  <a:pt x="18129" y="13339"/>
                  <a:pt x="18033" y="13469"/>
                </a:cubicBezTo>
              </a:path>
              <a:path w="3251" h="869">
                <a:moveTo>
                  <a:pt x="18529" y="12948"/>
                </a:moveTo>
                <a:cubicBezTo>
                  <a:pt x="18651" y="12863"/>
                  <a:pt x="18806" y="12845"/>
                  <a:pt x="18852" y="13047"/>
                </a:cubicBezTo>
                <a:cubicBezTo>
                  <a:pt x="18884" y="13187"/>
                  <a:pt x="18730" y="13597"/>
                  <a:pt x="18529" y="13395"/>
                </a:cubicBezTo>
                <a:cubicBezTo>
                  <a:pt x="18521" y="13362"/>
                  <a:pt x="18512" y="13328"/>
                  <a:pt x="18504" y="13295"/>
                </a:cubicBezTo>
                <a:cubicBezTo>
                  <a:pt x="18640" y="13247"/>
                  <a:pt x="18744" y="13222"/>
                  <a:pt x="18852" y="13345"/>
                </a:cubicBezTo>
                <a:cubicBezTo>
                  <a:pt x="18860" y="13362"/>
                  <a:pt x="18868" y="13378"/>
                  <a:pt x="18876" y="13395"/>
                </a:cubicBezTo>
              </a:path>
              <a:path w="3251" h="869">
                <a:moveTo>
                  <a:pt x="19372" y="12750"/>
                </a:moveTo>
                <a:cubicBezTo>
                  <a:pt x="19237" y="12760"/>
                  <a:pt x="19171" y="12746"/>
                  <a:pt x="19149" y="12898"/>
                </a:cubicBezTo>
                <a:cubicBezTo>
                  <a:pt x="19149" y="12923"/>
                  <a:pt x="19149" y="12948"/>
                  <a:pt x="19149" y="12973"/>
                </a:cubicBezTo>
                <a:cubicBezTo>
                  <a:pt x="19272" y="12963"/>
                  <a:pt x="19467" y="12922"/>
                  <a:pt x="19571" y="13022"/>
                </a:cubicBezTo>
                <a:cubicBezTo>
                  <a:pt x="19745" y="13189"/>
                  <a:pt x="19474" y="13420"/>
                  <a:pt x="19298" y="13345"/>
                </a:cubicBezTo>
                <a:cubicBezTo>
                  <a:pt x="19273" y="13320"/>
                  <a:pt x="19249" y="13296"/>
                  <a:pt x="19224" y="13271"/>
                </a:cubicBezTo>
              </a:path>
              <a:path w="3251" h="869">
                <a:moveTo>
                  <a:pt x="17363" y="13568"/>
                </a:moveTo>
                <a:cubicBezTo>
                  <a:pt x="17400" y="13680"/>
                  <a:pt x="17452" y="13570"/>
                  <a:pt x="17388" y="13519"/>
                </a:cubicBezTo>
                <a:cubicBezTo>
                  <a:pt x="17308" y="13617"/>
                  <a:pt x="17408" y="13638"/>
                  <a:pt x="17462" y="13568"/>
                </a:cubicBezTo>
                <a:cubicBezTo>
                  <a:pt x="17581" y="13416"/>
                  <a:pt x="17345" y="13541"/>
                  <a:pt x="17338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 as a 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Just write the digits in your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numerator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and the place value of the last digit as your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denominator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276720"/>
          <a:ext cx="172080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76720"/>
                    <a:ext cx="17208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791320" y="3200400"/>
          <a:ext cx="228600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200400"/>
                    <a:ext cx="2286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29000" y="4191120"/>
          <a:ext cx="164448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91120"/>
                    <a:ext cx="16444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840120" y="3295800"/>
            <a:ext cx="955800" cy="436320"/>
          </a:xfrm>
          <a:custGeom>
            <a:avLst/>
            <a:gdLst/>
            <a:ahLst/>
            <a:rect l="l" t="t" r="r" b="b"/>
            <a:pathLst>
              <a:path w="2655" h="1216">
                <a:moveTo>
                  <a:pt x="10815" y="10220"/>
                </a:moveTo>
                <a:cubicBezTo>
                  <a:pt x="10797" y="10132"/>
                  <a:pt x="10802" y="10162"/>
                  <a:pt x="10716" y="10145"/>
                </a:cubicBezTo>
                <a:cubicBezTo>
                  <a:pt x="10668" y="10279"/>
                  <a:pt x="10730" y="10506"/>
                  <a:pt x="10889" y="10294"/>
                </a:cubicBezTo>
                <a:cubicBezTo>
                  <a:pt x="11013" y="10129"/>
                  <a:pt x="10780" y="10119"/>
                  <a:pt x="10691" y="10170"/>
                </a:cubicBezTo>
              </a:path>
              <a:path w="2655" h="1216">
                <a:moveTo>
                  <a:pt x="11534" y="9227"/>
                </a:moveTo>
                <a:cubicBezTo>
                  <a:pt x="11446" y="9493"/>
                  <a:pt x="11298" y="9785"/>
                  <a:pt x="11311" y="10071"/>
                </a:cubicBezTo>
                <a:cubicBezTo>
                  <a:pt x="11328" y="10112"/>
                  <a:pt x="11344" y="10154"/>
                  <a:pt x="11361" y="10195"/>
                </a:cubicBezTo>
                <a:cubicBezTo>
                  <a:pt x="11675" y="10138"/>
                  <a:pt x="11740" y="10019"/>
                  <a:pt x="11832" y="9723"/>
                </a:cubicBezTo>
                <a:cubicBezTo>
                  <a:pt x="11594" y="9807"/>
                  <a:pt x="11559" y="9943"/>
                  <a:pt x="11559" y="10195"/>
                </a:cubicBezTo>
              </a:path>
              <a:path w="2655" h="1216">
                <a:moveTo>
                  <a:pt x="12105" y="9327"/>
                </a:moveTo>
                <a:cubicBezTo>
                  <a:pt x="12347" y="9205"/>
                  <a:pt x="12533" y="9391"/>
                  <a:pt x="12526" y="9674"/>
                </a:cubicBezTo>
                <a:cubicBezTo>
                  <a:pt x="12517" y="10006"/>
                  <a:pt x="12200" y="10007"/>
                  <a:pt x="12030" y="9872"/>
                </a:cubicBezTo>
                <a:cubicBezTo>
                  <a:pt x="12209" y="9702"/>
                  <a:pt x="12386" y="9601"/>
                  <a:pt x="12551" y="9897"/>
                </a:cubicBezTo>
                <a:cubicBezTo>
                  <a:pt x="12559" y="9930"/>
                  <a:pt x="12568" y="9963"/>
                  <a:pt x="12576" y="9996"/>
                </a:cubicBezTo>
              </a:path>
              <a:path w="2655" h="1216">
                <a:moveTo>
                  <a:pt x="13097" y="9178"/>
                </a:moveTo>
                <a:cubicBezTo>
                  <a:pt x="12950" y="9191"/>
                  <a:pt x="12846" y="9132"/>
                  <a:pt x="12799" y="9227"/>
                </a:cubicBezTo>
                <a:cubicBezTo>
                  <a:pt x="12730" y="9366"/>
                  <a:pt x="12709" y="9406"/>
                  <a:pt x="12675" y="9500"/>
                </a:cubicBezTo>
                <a:cubicBezTo>
                  <a:pt x="12702" y="9514"/>
                  <a:pt x="12908" y="9366"/>
                  <a:pt x="13072" y="9401"/>
                </a:cubicBezTo>
                <a:cubicBezTo>
                  <a:pt x="13299" y="9449"/>
                  <a:pt x="13438" y="9731"/>
                  <a:pt x="13196" y="9872"/>
                </a:cubicBezTo>
                <a:cubicBezTo>
                  <a:pt x="13022" y="9922"/>
                  <a:pt x="12965" y="9939"/>
                  <a:pt x="12849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9240" y="3687840"/>
            <a:ext cx="179640" cy="11736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14610" y="10319"/>
                </a:moveTo>
                <a:cubicBezTo>
                  <a:pt x="14778" y="10280"/>
                  <a:pt x="14933" y="10264"/>
                  <a:pt x="15106" y="10244"/>
                </a:cubicBezTo>
              </a:path>
              <a:path w="497" h="324">
                <a:moveTo>
                  <a:pt x="14709" y="10567"/>
                </a:moveTo>
                <a:cubicBezTo>
                  <a:pt x="14885" y="10508"/>
                  <a:pt x="14962" y="10479"/>
                  <a:pt x="15081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29200" y="3187800"/>
            <a:ext cx="669960" cy="357120"/>
          </a:xfrm>
          <a:custGeom>
            <a:avLst/>
            <a:gdLst/>
            <a:ahLst/>
            <a:rect l="l" t="t" r="r" b="b"/>
            <a:pathLst>
              <a:path w="1862" h="993">
                <a:moveTo>
                  <a:pt x="16545" y="9029"/>
                </a:moveTo>
                <a:cubicBezTo>
                  <a:pt x="16524" y="9239"/>
                  <a:pt x="16387" y="9570"/>
                  <a:pt x="16470" y="9773"/>
                </a:cubicBezTo>
                <a:cubicBezTo>
                  <a:pt x="16503" y="9798"/>
                  <a:pt x="16537" y="9822"/>
                  <a:pt x="16570" y="9847"/>
                </a:cubicBezTo>
                <a:cubicBezTo>
                  <a:pt x="16843" y="9736"/>
                  <a:pt x="16962" y="9680"/>
                  <a:pt x="16917" y="9376"/>
                </a:cubicBezTo>
                <a:cubicBezTo>
                  <a:pt x="16696" y="9443"/>
                  <a:pt x="16728" y="9579"/>
                  <a:pt x="16718" y="9798"/>
                </a:cubicBezTo>
              </a:path>
              <a:path w="1862" h="993">
                <a:moveTo>
                  <a:pt x="17264" y="9029"/>
                </a:moveTo>
                <a:cubicBezTo>
                  <a:pt x="17438" y="8997"/>
                  <a:pt x="17613" y="9106"/>
                  <a:pt x="17537" y="9327"/>
                </a:cubicBezTo>
                <a:cubicBezTo>
                  <a:pt x="17461" y="9546"/>
                  <a:pt x="17276" y="9572"/>
                  <a:pt x="17090" y="9624"/>
                </a:cubicBezTo>
                <a:cubicBezTo>
                  <a:pt x="17144" y="9437"/>
                  <a:pt x="17314" y="9292"/>
                  <a:pt x="17537" y="9401"/>
                </a:cubicBezTo>
                <a:cubicBezTo>
                  <a:pt x="17636" y="9449"/>
                  <a:pt x="17611" y="9543"/>
                  <a:pt x="17611" y="9624"/>
                </a:cubicBezTo>
              </a:path>
              <a:path w="1862" h="993">
                <a:moveTo>
                  <a:pt x="17959" y="8855"/>
                </a:moveTo>
                <a:cubicBezTo>
                  <a:pt x="17858" y="8908"/>
                  <a:pt x="17696" y="8921"/>
                  <a:pt x="17711" y="9054"/>
                </a:cubicBezTo>
                <a:cubicBezTo>
                  <a:pt x="17729" y="9145"/>
                  <a:pt x="17737" y="9152"/>
                  <a:pt x="17735" y="9203"/>
                </a:cubicBezTo>
                <a:cubicBezTo>
                  <a:pt x="17891" y="9116"/>
                  <a:pt x="18087" y="8925"/>
                  <a:pt x="18256" y="9103"/>
                </a:cubicBezTo>
                <a:cubicBezTo>
                  <a:pt x="18500" y="9359"/>
                  <a:pt x="18160" y="9491"/>
                  <a:pt x="17983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419640"/>
            <a:ext cx="1170000" cy="590400"/>
          </a:xfrm>
          <a:custGeom>
            <a:avLst/>
            <a:gdLst/>
            <a:ahLst/>
            <a:rect l="l" t="t" r="r" b="b"/>
            <a:pathLst>
              <a:path w="3250" h="1638">
                <a:moveTo>
                  <a:pt x="16024" y="10368"/>
                </a:moveTo>
                <a:cubicBezTo>
                  <a:pt x="16633" y="10143"/>
                  <a:pt x="17239" y="10031"/>
                  <a:pt x="17884" y="9947"/>
                </a:cubicBezTo>
                <a:cubicBezTo>
                  <a:pt x="18256" y="9905"/>
                  <a:pt x="18329" y="9889"/>
                  <a:pt x="18554" y="9897"/>
                </a:cubicBezTo>
              </a:path>
              <a:path w="3250" h="1638">
                <a:moveTo>
                  <a:pt x="16396" y="10418"/>
                </a:moveTo>
                <a:cubicBezTo>
                  <a:pt x="16377" y="10681"/>
                  <a:pt x="16318" y="10892"/>
                  <a:pt x="16222" y="11137"/>
                </a:cubicBezTo>
              </a:path>
              <a:path w="3250" h="1638">
                <a:moveTo>
                  <a:pt x="16768" y="10517"/>
                </a:moveTo>
                <a:cubicBezTo>
                  <a:pt x="16685" y="10684"/>
                  <a:pt x="16661" y="10756"/>
                  <a:pt x="16669" y="10939"/>
                </a:cubicBezTo>
                <a:cubicBezTo>
                  <a:pt x="16839" y="10929"/>
                  <a:pt x="17173" y="10775"/>
                  <a:pt x="17016" y="10517"/>
                </a:cubicBezTo>
                <a:cubicBezTo>
                  <a:pt x="16877" y="10462"/>
                  <a:pt x="16821" y="10450"/>
                  <a:pt x="16718" y="10517"/>
                </a:cubicBezTo>
              </a:path>
              <a:path w="3250" h="1638">
                <a:moveTo>
                  <a:pt x="17363" y="10319"/>
                </a:moveTo>
                <a:cubicBezTo>
                  <a:pt x="17235" y="10525"/>
                  <a:pt x="17181" y="10622"/>
                  <a:pt x="17363" y="10790"/>
                </a:cubicBezTo>
                <a:cubicBezTo>
                  <a:pt x="17481" y="10741"/>
                  <a:pt x="17946" y="10493"/>
                  <a:pt x="17661" y="10319"/>
                </a:cubicBezTo>
                <a:cubicBezTo>
                  <a:pt x="17603" y="10311"/>
                  <a:pt x="17545" y="10302"/>
                  <a:pt x="17487" y="10294"/>
                </a:cubicBezTo>
              </a:path>
              <a:path w="3250" h="1638">
                <a:moveTo>
                  <a:pt x="18033" y="10170"/>
                </a:moveTo>
                <a:cubicBezTo>
                  <a:pt x="17853" y="10366"/>
                  <a:pt x="17840" y="10476"/>
                  <a:pt x="17959" y="10691"/>
                </a:cubicBezTo>
                <a:cubicBezTo>
                  <a:pt x="18113" y="10681"/>
                  <a:pt x="18744" y="10456"/>
                  <a:pt x="18405" y="10170"/>
                </a:cubicBezTo>
                <a:cubicBezTo>
                  <a:pt x="18322" y="10153"/>
                  <a:pt x="18240" y="10137"/>
                  <a:pt x="18157" y="10120"/>
                </a:cubicBezTo>
              </a:path>
              <a:path w="3250" h="1638">
                <a:moveTo>
                  <a:pt x="17934" y="9550"/>
                </a:moveTo>
                <a:cubicBezTo>
                  <a:pt x="17974" y="9570"/>
                  <a:pt x="17980" y="9579"/>
                  <a:pt x="18008" y="9575"/>
                </a:cubicBezTo>
                <a:cubicBezTo>
                  <a:pt x="17982" y="9567"/>
                  <a:pt x="17737" y="9465"/>
                  <a:pt x="17934" y="9500"/>
                </a:cubicBezTo>
                <a:cubicBezTo>
                  <a:pt x="17982" y="9524"/>
                  <a:pt x="17996" y="9533"/>
                  <a:pt x="18033" y="9525"/>
                </a:cubicBezTo>
              </a:path>
              <a:path w="3250" h="1638">
                <a:moveTo>
                  <a:pt x="18976" y="9872"/>
                </a:moveTo>
                <a:cubicBezTo>
                  <a:pt x="19064" y="9840"/>
                  <a:pt x="19155" y="9820"/>
                  <a:pt x="19248" y="9798"/>
                </a:cubicBezTo>
              </a:path>
              <a:path w="3250" h="1638">
                <a:moveTo>
                  <a:pt x="19050" y="10120"/>
                </a:moveTo>
                <a:cubicBezTo>
                  <a:pt x="19130" y="10113"/>
                  <a:pt x="19198" y="10098"/>
                  <a:pt x="19273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72200" y="3295800"/>
            <a:ext cx="473040" cy="3301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19794" y="9376"/>
                </a:moveTo>
                <a:cubicBezTo>
                  <a:pt x="19850" y="9511"/>
                  <a:pt x="19862" y="9623"/>
                  <a:pt x="19869" y="9773"/>
                </a:cubicBezTo>
              </a:path>
              <a:path w="1316" h="919">
                <a:moveTo>
                  <a:pt x="20017" y="9351"/>
                </a:moveTo>
                <a:cubicBezTo>
                  <a:pt x="20180" y="9370"/>
                  <a:pt x="20429" y="9454"/>
                  <a:pt x="20265" y="9674"/>
                </a:cubicBezTo>
                <a:cubicBezTo>
                  <a:pt x="20172" y="9799"/>
                  <a:pt x="20069" y="9708"/>
                  <a:pt x="20017" y="9649"/>
                </a:cubicBezTo>
                <a:cubicBezTo>
                  <a:pt x="20139" y="9476"/>
                  <a:pt x="20222" y="9600"/>
                  <a:pt x="20365" y="9723"/>
                </a:cubicBezTo>
              </a:path>
              <a:path w="1316" h="919">
                <a:moveTo>
                  <a:pt x="20464" y="9302"/>
                </a:moveTo>
                <a:cubicBezTo>
                  <a:pt x="20447" y="9417"/>
                  <a:pt x="20604" y="9418"/>
                  <a:pt x="20712" y="9475"/>
                </a:cubicBezTo>
                <a:cubicBezTo>
                  <a:pt x="20952" y="9602"/>
                  <a:pt x="20683" y="9704"/>
                  <a:pt x="20563" y="9723"/>
                </a:cubicBezTo>
              </a:path>
              <a:path w="1316" h="919">
                <a:moveTo>
                  <a:pt x="20538" y="9227"/>
                </a:moveTo>
                <a:cubicBezTo>
                  <a:pt x="20704" y="9179"/>
                  <a:pt x="20791" y="9162"/>
                  <a:pt x="20960" y="9178"/>
                </a:cubicBezTo>
              </a:path>
              <a:path w="1316" h="919">
                <a:moveTo>
                  <a:pt x="19645" y="10071"/>
                </a:moveTo>
                <a:cubicBezTo>
                  <a:pt x="19844" y="9938"/>
                  <a:pt x="20079" y="9906"/>
                  <a:pt x="20315" y="9872"/>
                </a:cubicBezTo>
                <a:cubicBezTo>
                  <a:pt x="20510" y="9844"/>
                  <a:pt x="20748" y="9766"/>
                  <a:pt x="20935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02680" y="1963800"/>
            <a:ext cx="1170000" cy="1171440"/>
          </a:xfrm>
          <a:custGeom>
            <a:avLst/>
            <a:gdLst/>
            <a:ahLst/>
            <a:rect l="l" t="t" r="r" b="b"/>
            <a:pathLst>
              <a:path w="3250" h="3250">
                <a:moveTo>
                  <a:pt x="21952" y="6573"/>
                </a:moveTo>
                <a:cubicBezTo>
                  <a:pt x="21901" y="6778"/>
                  <a:pt x="21823" y="6937"/>
                  <a:pt x="21952" y="7094"/>
                </a:cubicBezTo>
                <a:cubicBezTo>
                  <a:pt x="22134" y="6994"/>
                  <a:pt x="22160" y="6959"/>
                  <a:pt x="22250" y="6772"/>
                </a:cubicBezTo>
                <a:cubicBezTo>
                  <a:pt x="22114" y="6821"/>
                  <a:pt x="22034" y="6877"/>
                  <a:pt x="22051" y="7020"/>
                </a:cubicBezTo>
              </a:path>
              <a:path w="3250" h="3250">
                <a:moveTo>
                  <a:pt x="22275" y="6598"/>
                </a:moveTo>
                <a:cubicBezTo>
                  <a:pt x="22401" y="6523"/>
                  <a:pt x="22444" y="6499"/>
                  <a:pt x="22547" y="6548"/>
                </a:cubicBezTo>
                <a:cubicBezTo>
                  <a:pt x="22622" y="6716"/>
                  <a:pt x="22631" y="6963"/>
                  <a:pt x="22349" y="6970"/>
                </a:cubicBezTo>
                <a:cubicBezTo>
                  <a:pt x="22316" y="6954"/>
                  <a:pt x="22283" y="6937"/>
                  <a:pt x="22250" y="6921"/>
                </a:cubicBezTo>
                <a:cubicBezTo>
                  <a:pt x="22402" y="6788"/>
                  <a:pt x="22487" y="6779"/>
                  <a:pt x="22696" y="6821"/>
                </a:cubicBezTo>
              </a:path>
              <a:path w="3250" h="3250">
                <a:moveTo>
                  <a:pt x="22994" y="6276"/>
                </a:moveTo>
                <a:cubicBezTo>
                  <a:pt x="22941" y="6307"/>
                  <a:pt x="22785" y="6363"/>
                  <a:pt x="22820" y="6449"/>
                </a:cubicBezTo>
                <a:cubicBezTo>
                  <a:pt x="22874" y="6581"/>
                  <a:pt x="23114" y="6554"/>
                  <a:pt x="23118" y="6672"/>
                </a:cubicBezTo>
                <a:cubicBezTo>
                  <a:pt x="23068" y="6772"/>
                  <a:pt x="23052" y="6805"/>
                  <a:pt x="22969" y="6821"/>
                </a:cubicBezTo>
              </a:path>
              <a:path w="3250" h="3250">
                <a:moveTo>
                  <a:pt x="22870" y="6276"/>
                </a:moveTo>
                <a:cubicBezTo>
                  <a:pt x="22962" y="6253"/>
                  <a:pt x="22987" y="6247"/>
                  <a:pt x="23044" y="6226"/>
                </a:cubicBezTo>
              </a:path>
              <a:path w="3250" h="3250">
                <a:moveTo>
                  <a:pt x="21431" y="7466"/>
                </a:moveTo>
                <a:cubicBezTo>
                  <a:pt x="21431" y="7330"/>
                  <a:pt x="21423" y="7194"/>
                  <a:pt x="21357" y="7069"/>
                </a:cubicBezTo>
                <a:cubicBezTo>
                  <a:pt x="21324" y="7006"/>
                  <a:pt x="21254" y="6946"/>
                  <a:pt x="21208" y="6896"/>
                </a:cubicBezTo>
                <a:cubicBezTo>
                  <a:pt x="21331" y="6762"/>
                  <a:pt x="21473" y="6686"/>
                  <a:pt x="21654" y="6598"/>
                </a:cubicBezTo>
                <a:cubicBezTo>
                  <a:pt x="22130" y="6367"/>
                  <a:pt x="22627" y="6150"/>
                  <a:pt x="23118" y="5953"/>
                </a:cubicBezTo>
                <a:cubicBezTo>
                  <a:pt x="23286" y="5886"/>
                  <a:pt x="23440" y="5827"/>
                  <a:pt x="23614" y="5804"/>
                </a:cubicBezTo>
              </a:path>
              <a:path w="3250" h="3250">
                <a:moveTo>
                  <a:pt x="20861" y="6995"/>
                </a:moveTo>
                <a:cubicBezTo>
                  <a:pt x="20694" y="7029"/>
                  <a:pt x="20665" y="7016"/>
                  <a:pt x="20638" y="7193"/>
                </a:cubicBezTo>
                <a:cubicBezTo>
                  <a:pt x="20804" y="7163"/>
                  <a:pt x="20853" y="7141"/>
                  <a:pt x="21010" y="7218"/>
                </a:cubicBezTo>
                <a:cubicBezTo>
                  <a:pt x="20969" y="7420"/>
                  <a:pt x="20857" y="7456"/>
                  <a:pt x="20638" y="7441"/>
                </a:cubicBezTo>
                <a:cubicBezTo>
                  <a:pt x="20613" y="7433"/>
                  <a:pt x="20588" y="7425"/>
                  <a:pt x="20563" y="7417"/>
                </a:cubicBezTo>
              </a:path>
              <a:path w="3250" h="3250">
                <a:moveTo>
                  <a:pt x="21704" y="6226"/>
                </a:moveTo>
                <a:cubicBezTo>
                  <a:pt x="21675" y="6023"/>
                  <a:pt x="21701" y="6355"/>
                  <a:pt x="21704" y="6375"/>
                </a:cubicBezTo>
              </a:path>
              <a:path w="3250" h="3250">
                <a:moveTo>
                  <a:pt x="22027" y="7218"/>
                </a:moveTo>
                <a:cubicBezTo>
                  <a:pt x="21929" y="7262"/>
                  <a:pt x="21864" y="7260"/>
                  <a:pt x="21828" y="7367"/>
                </a:cubicBezTo>
                <a:cubicBezTo>
                  <a:pt x="21828" y="7375"/>
                  <a:pt x="21828" y="7384"/>
                  <a:pt x="21828" y="7392"/>
                </a:cubicBezTo>
                <a:cubicBezTo>
                  <a:pt x="21955" y="7379"/>
                  <a:pt x="22049" y="7365"/>
                  <a:pt x="22175" y="7392"/>
                </a:cubicBezTo>
                <a:cubicBezTo>
                  <a:pt x="22148" y="7475"/>
                  <a:pt x="22133" y="7506"/>
                  <a:pt x="22076" y="7541"/>
                </a:cubicBezTo>
              </a:path>
              <a:path w="3250" h="3250">
                <a:moveTo>
                  <a:pt x="21654" y="7863"/>
                </a:moveTo>
                <a:cubicBezTo>
                  <a:pt x="21910" y="7738"/>
                  <a:pt x="22167" y="7616"/>
                  <a:pt x="22423" y="7491"/>
                </a:cubicBezTo>
              </a:path>
              <a:path w="3250" h="3250">
                <a:moveTo>
                  <a:pt x="22200" y="7813"/>
                </a:moveTo>
                <a:cubicBezTo>
                  <a:pt x="22207" y="7886"/>
                  <a:pt x="22223" y="7944"/>
                  <a:pt x="22250" y="8012"/>
                </a:cubicBezTo>
              </a:path>
              <a:path w="3250" h="3250">
                <a:moveTo>
                  <a:pt x="22324" y="7144"/>
                </a:moveTo>
                <a:cubicBezTo>
                  <a:pt x="22374" y="7243"/>
                  <a:pt x="22391" y="7276"/>
                  <a:pt x="22423" y="7342"/>
                </a:cubicBezTo>
              </a:path>
              <a:path w="3250" h="3250">
                <a:moveTo>
                  <a:pt x="22597" y="7665"/>
                </a:moveTo>
                <a:cubicBezTo>
                  <a:pt x="22656" y="7599"/>
                  <a:pt x="22838" y="7473"/>
                  <a:pt x="22870" y="7665"/>
                </a:cubicBezTo>
                <a:cubicBezTo>
                  <a:pt x="22900" y="7846"/>
                  <a:pt x="22715" y="7885"/>
                  <a:pt x="22597" y="7863"/>
                </a:cubicBezTo>
                <a:cubicBezTo>
                  <a:pt x="22658" y="7791"/>
                  <a:pt x="22671" y="7797"/>
                  <a:pt x="22771" y="7789"/>
                </a:cubicBezTo>
              </a:path>
              <a:path w="3250" h="3250">
                <a:moveTo>
                  <a:pt x="22027" y="5904"/>
                </a:moveTo>
                <a:cubicBezTo>
                  <a:pt x="22165" y="5738"/>
                  <a:pt x="22238" y="5999"/>
                  <a:pt x="22175" y="6152"/>
                </a:cubicBezTo>
                <a:cubicBezTo>
                  <a:pt x="22109" y="6312"/>
                  <a:pt x="22050" y="6305"/>
                  <a:pt x="21952" y="6251"/>
                </a:cubicBezTo>
                <a:cubicBezTo>
                  <a:pt x="22008" y="6183"/>
                  <a:pt x="22076" y="6201"/>
                  <a:pt x="22200" y="6201"/>
                </a:cubicBezTo>
              </a:path>
              <a:path w="3250" h="3250">
                <a:moveTo>
                  <a:pt x="22448" y="8086"/>
                </a:moveTo>
                <a:cubicBezTo>
                  <a:pt x="22465" y="8186"/>
                  <a:pt x="22495" y="8285"/>
                  <a:pt x="22523" y="8384"/>
                </a:cubicBezTo>
              </a:path>
              <a:path w="3250" h="3250">
                <a:moveTo>
                  <a:pt x="22771" y="7913"/>
                </a:moveTo>
                <a:cubicBezTo>
                  <a:pt x="22771" y="8069"/>
                  <a:pt x="22752" y="8082"/>
                  <a:pt x="22845" y="8186"/>
                </a:cubicBezTo>
                <a:cubicBezTo>
                  <a:pt x="22967" y="8064"/>
                  <a:pt x="22969" y="8008"/>
                  <a:pt x="22820" y="7913"/>
                </a:cubicBezTo>
              </a:path>
              <a:path w="3250" h="3250">
                <a:moveTo>
                  <a:pt x="22622" y="8558"/>
                </a:moveTo>
                <a:cubicBezTo>
                  <a:pt x="22795" y="8442"/>
                  <a:pt x="22870" y="8392"/>
                  <a:pt x="22994" y="8310"/>
                </a:cubicBezTo>
              </a:path>
              <a:path w="3250" h="3250">
                <a:moveTo>
                  <a:pt x="23118" y="8409"/>
                </a:moveTo>
                <a:cubicBezTo>
                  <a:pt x="23200" y="8436"/>
                  <a:pt x="23298" y="8452"/>
                  <a:pt x="23391" y="8483"/>
                </a:cubicBezTo>
                <a:cubicBezTo>
                  <a:pt x="23359" y="8688"/>
                  <a:pt x="23289" y="8692"/>
                  <a:pt x="23093" y="8682"/>
                </a:cubicBezTo>
                <a:cubicBezTo>
                  <a:pt x="23203" y="8558"/>
                  <a:pt x="23280" y="8535"/>
                  <a:pt x="23440" y="8558"/>
                </a:cubicBezTo>
              </a:path>
              <a:path w="3250" h="3250">
                <a:moveTo>
                  <a:pt x="23540" y="8260"/>
                </a:moveTo>
                <a:cubicBezTo>
                  <a:pt x="23621" y="8341"/>
                  <a:pt x="23761" y="8397"/>
                  <a:pt x="23812" y="8483"/>
                </a:cubicBezTo>
              </a:path>
              <a:path w="3250" h="3250">
                <a:moveTo>
                  <a:pt x="23589" y="8161"/>
                </a:moveTo>
                <a:cubicBezTo>
                  <a:pt x="23630" y="8136"/>
                  <a:pt x="23672" y="8111"/>
                  <a:pt x="23713" y="8086"/>
                </a:cubicBezTo>
              </a:path>
              <a:path w="3250" h="3250">
                <a:moveTo>
                  <a:pt x="22473" y="5556"/>
                </a:moveTo>
                <a:cubicBezTo>
                  <a:pt x="22564" y="5715"/>
                  <a:pt x="22480" y="5697"/>
                  <a:pt x="22671" y="5730"/>
                </a:cubicBezTo>
                <a:cubicBezTo>
                  <a:pt x="22911" y="5771"/>
                  <a:pt x="22812" y="5903"/>
                  <a:pt x="22696" y="6028"/>
                </a:cubicBezTo>
              </a:path>
              <a:path w="3250" h="3250">
                <a:moveTo>
                  <a:pt x="22448" y="5531"/>
                </a:moveTo>
                <a:cubicBezTo>
                  <a:pt x="22498" y="5506"/>
                  <a:pt x="22547" y="5482"/>
                  <a:pt x="22597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9200" y="3286080"/>
            <a:ext cx="1152720" cy="544680"/>
          </a:xfrm>
          <a:custGeom>
            <a:avLst/>
            <a:gdLst/>
            <a:ahLst/>
            <a:rect l="l" t="t" r="r" b="b"/>
            <a:pathLst>
              <a:path w="3201" h="1514">
                <a:moveTo>
                  <a:pt x="19968" y="10294"/>
                </a:moveTo>
                <a:cubicBezTo>
                  <a:pt x="19987" y="10351"/>
                  <a:pt x="19968" y="10299"/>
                  <a:pt x="20067" y="10269"/>
                </a:cubicBezTo>
                <a:cubicBezTo>
                  <a:pt x="20138" y="10474"/>
                  <a:pt x="20091" y="10678"/>
                  <a:pt x="19794" y="10641"/>
                </a:cubicBezTo>
                <a:cubicBezTo>
                  <a:pt x="19769" y="10625"/>
                  <a:pt x="19745" y="10608"/>
                  <a:pt x="19720" y="10592"/>
                </a:cubicBezTo>
                <a:cubicBezTo>
                  <a:pt x="19849" y="10373"/>
                  <a:pt x="19958" y="10395"/>
                  <a:pt x="20191" y="10517"/>
                </a:cubicBezTo>
              </a:path>
              <a:path w="3201" h="1514">
                <a:moveTo>
                  <a:pt x="20315" y="10195"/>
                </a:moveTo>
                <a:cubicBezTo>
                  <a:pt x="20230" y="10323"/>
                  <a:pt x="20224" y="10382"/>
                  <a:pt x="20216" y="10542"/>
                </a:cubicBezTo>
                <a:cubicBezTo>
                  <a:pt x="20294" y="10528"/>
                  <a:pt x="20624" y="10449"/>
                  <a:pt x="20489" y="10294"/>
                </a:cubicBezTo>
                <a:cubicBezTo>
                  <a:pt x="20400" y="10250"/>
                  <a:pt x="20380" y="10233"/>
                  <a:pt x="20315" y="10244"/>
                </a:cubicBezTo>
              </a:path>
              <a:path w="3201" h="1514">
                <a:moveTo>
                  <a:pt x="20687" y="10145"/>
                </a:moveTo>
                <a:cubicBezTo>
                  <a:pt x="20634" y="10281"/>
                  <a:pt x="20622" y="10348"/>
                  <a:pt x="20638" y="10492"/>
                </a:cubicBezTo>
                <a:cubicBezTo>
                  <a:pt x="20796" y="10502"/>
                  <a:pt x="21024" y="10454"/>
                  <a:pt x="20960" y="10220"/>
                </a:cubicBezTo>
                <a:cubicBezTo>
                  <a:pt x="20876" y="10107"/>
                  <a:pt x="20835" y="10073"/>
                  <a:pt x="20712" y="10120"/>
                </a:cubicBezTo>
              </a:path>
              <a:path w="3201" h="1514">
                <a:moveTo>
                  <a:pt x="21134" y="9922"/>
                </a:moveTo>
                <a:cubicBezTo>
                  <a:pt x="21225" y="9860"/>
                  <a:pt x="21270" y="9840"/>
                  <a:pt x="21357" y="9847"/>
                </a:cubicBezTo>
              </a:path>
              <a:path w="3201" h="1514">
                <a:moveTo>
                  <a:pt x="21233" y="10096"/>
                </a:moveTo>
                <a:cubicBezTo>
                  <a:pt x="21283" y="10088"/>
                  <a:pt x="21332" y="10079"/>
                  <a:pt x="21382" y="10071"/>
                </a:cubicBezTo>
              </a:path>
              <a:path w="3201" h="1514">
                <a:moveTo>
                  <a:pt x="21977" y="9401"/>
                </a:moveTo>
                <a:cubicBezTo>
                  <a:pt x="21977" y="9393"/>
                  <a:pt x="21977" y="9384"/>
                  <a:pt x="21977" y="9376"/>
                </a:cubicBezTo>
              </a:path>
              <a:path w="3201" h="1514">
                <a:moveTo>
                  <a:pt x="19869" y="10344"/>
                </a:moveTo>
                <a:cubicBezTo>
                  <a:pt x="19902" y="10344"/>
                  <a:pt x="19918" y="10344"/>
                  <a:pt x="19943" y="10344"/>
                </a:cubicBezTo>
              </a:path>
              <a:path w="3201" h="1514">
                <a:moveTo>
                  <a:pt x="20042" y="10269"/>
                </a:moveTo>
                <a:cubicBezTo>
                  <a:pt x="20059" y="10269"/>
                  <a:pt x="20075" y="10269"/>
                  <a:pt x="20092" y="10269"/>
                </a:cubicBezTo>
                <a:cubicBezTo>
                  <a:pt x="20051" y="10215"/>
                  <a:pt x="19994" y="10220"/>
                  <a:pt x="19918" y="10220"/>
                </a:cubicBezTo>
                <a:cubicBezTo>
                  <a:pt x="19863" y="10220"/>
                  <a:pt x="19814" y="10242"/>
                  <a:pt x="19769" y="10269"/>
                </a:cubicBezTo>
                <a:cubicBezTo>
                  <a:pt x="19810" y="10229"/>
                  <a:pt x="19885" y="10132"/>
                  <a:pt x="19943" y="10120"/>
                </a:cubicBezTo>
                <a:cubicBezTo>
                  <a:pt x="20011" y="10120"/>
                  <a:pt x="20030" y="10117"/>
                  <a:pt x="20067" y="10145"/>
                </a:cubicBezTo>
              </a:path>
              <a:path w="3201" h="1514">
                <a:moveTo>
                  <a:pt x="20017" y="10269"/>
                </a:moveTo>
                <a:cubicBezTo>
                  <a:pt x="20099" y="10302"/>
                  <a:pt x="20077" y="10310"/>
                  <a:pt x="20092" y="10393"/>
                </a:cubicBezTo>
              </a:path>
              <a:path w="3201" h="1514">
                <a:moveTo>
                  <a:pt x="21952" y="9401"/>
                </a:moveTo>
                <a:cubicBezTo>
                  <a:pt x="21936" y="9401"/>
                  <a:pt x="21919" y="9401"/>
                  <a:pt x="21903" y="9401"/>
                </a:cubicBezTo>
              </a:path>
              <a:path w="3201" h="1514">
                <a:moveTo>
                  <a:pt x="21927" y="9475"/>
                </a:moveTo>
                <a:cubicBezTo>
                  <a:pt x="21927" y="9399"/>
                  <a:pt x="21938" y="9308"/>
                  <a:pt x="22027" y="9277"/>
                </a:cubicBezTo>
                <a:cubicBezTo>
                  <a:pt x="22052" y="9277"/>
                  <a:pt x="22076" y="9277"/>
                  <a:pt x="22101" y="9277"/>
                </a:cubicBezTo>
                <a:cubicBezTo>
                  <a:pt x="22195" y="9434"/>
                  <a:pt x="22218" y="9582"/>
                  <a:pt x="22027" y="9699"/>
                </a:cubicBezTo>
                <a:cubicBezTo>
                  <a:pt x="21933" y="9757"/>
                  <a:pt x="21881" y="9767"/>
                  <a:pt x="21828" y="9699"/>
                </a:cubicBezTo>
                <a:cubicBezTo>
                  <a:pt x="21848" y="9537"/>
                  <a:pt x="22006" y="9539"/>
                  <a:pt x="22151" y="9550"/>
                </a:cubicBezTo>
                <a:cubicBezTo>
                  <a:pt x="22222" y="9574"/>
                  <a:pt x="22245" y="9581"/>
                  <a:pt x="22275" y="9624"/>
                </a:cubicBezTo>
              </a:path>
              <a:path w="3201" h="1514">
                <a:moveTo>
                  <a:pt x="22622" y="9128"/>
                </a:moveTo>
                <a:cubicBezTo>
                  <a:pt x="22506" y="9182"/>
                  <a:pt x="22415" y="9170"/>
                  <a:pt x="22399" y="9302"/>
                </a:cubicBezTo>
                <a:cubicBezTo>
                  <a:pt x="22399" y="9376"/>
                  <a:pt x="22399" y="9385"/>
                  <a:pt x="22399" y="9426"/>
                </a:cubicBezTo>
                <a:cubicBezTo>
                  <a:pt x="22497" y="9326"/>
                  <a:pt x="22556" y="9303"/>
                  <a:pt x="22696" y="9327"/>
                </a:cubicBezTo>
                <a:cubicBezTo>
                  <a:pt x="22731" y="9498"/>
                  <a:pt x="22648" y="9518"/>
                  <a:pt x="22498" y="9575"/>
                </a:cubicBezTo>
              </a:path>
              <a:path w="3201" h="1514">
                <a:moveTo>
                  <a:pt x="21654" y="9996"/>
                </a:moveTo>
                <a:cubicBezTo>
                  <a:pt x="21633" y="9953"/>
                  <a:pt x="21629" y="9941"/>
                  <a:pt x="21605" y="9922"/>
                </a:cubicBezTo>
                <a:cubicBezTo>
                  <a:pt x="21813" y="9903"/>
                  <a:pt x="22018" y="9850"/>
                  <a:pt x="22225" y="9823"/>
                </a:cubicBezTo>
                <a:cubicBezTo>
                  <a:pt x="22449" y="9794"/>
                  <a:pt x="22670" y="9733"/>
                  <a:pt x="22895" y="9723"/>
                </a:cubicBezTo>
                <a:cubicBezTo>
                  <a:pt x="22903" y="9723"/>
                  <a:pt x="22912" y="9723"/>
                  <a:pt x="22920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83320" y="4116240"/>
            <a:ext cx="303480" cy="179640"/>
          </a:xfrm>
          <a:custGeom>
            <a:avLst/>
            <a:gdLst/>
            <a:ahLst/>
            <a:rect l="l" t="t" r="r" b="b"/>
            <a:pathLst>
              <a:path w="845" h="497">
                <a:moveTo>
                  <a:pt x="20861" y="11509"/>
                </a:moveTo>
                <a:cubicBezTo>
                  <a:pt x="20842" y="11601"/>
                  <a:pt x="20831" y="11680"/>
                  <a:pt x="20786" y="11757"/>
                </a:cubicBezTo>
                <a:cubicBezTo>
                  <a:pt x="20898" y="11721"/>
                  <a:pt x="20974" y="11701"/>
                  <a:pt x="21084" y="11708"/>
                </a:cubicBezTo>
              </a:path>
              <a:path w="845" h="497">
                <a:moveTo>
                  <a:pt x="20985" y="11534"/>
                </a:moveTo>
                <a:cubicBezTo>
                  <a:pt x="20985" y="11741"/>
                  <a:pt x="20983" y="11800"/>
                  <a:pt x="21010" y="11931"/>
                </a:cubicBezTo>
              </a:path>
              <a:path w="845" h="497">
                <a:moveTo>
                  <a:pt x="21382" y="11460"/>
                </a:moveTo>
                <a:cubicBezTo>
                  <a:pt x="21289" y="11644"/>
                  <a:pt x="21283" y="11672"/>
                  <a:pt x="21357" y="11857"/>
                </a:cubicBezTo>
                <a:cubicBezTo>
                  <a:pt x="21633" y="11746"/>
                  <a:pt x="21675" y="11664"/>
                  <a:pt x="21506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58080" y="3170160"/>
            <a:ext cx="741240" cy="598680"/>
          </a:xfrm>
          <a:custGeom>
            <a:avLst/>
            <a:gdLst/>
            <a:ahLst/>
            <a:rect l="l" t="t" r="r" b="b"/>
            <a:pathLst>
              <a:path w="2060" h="1663">
                <a:moveTo>
                  <a:pt x="21878" y="10046"/>
                </a:moveTo>
                <a:cubicBezTo>
                  <a:pt x="21878" y="10162"/>
                  <a:pt x="21883" y="10202"/>
                  <a:pt x="21828" y="10294"/>
                </a:cubicBezTo>
                <a:cubicBezTo>
                  <a:pt x="21867" y="10127"/>
                  <a:pt x="21970" y="10116"/>
                  <a:pt x="22126" y="10220"/>
                </a:cubicBezTo>
                <a:cubicBezTo>
                  <a:pt x="22142" y="10236"/>
                  <a:pt x="22159" y="10253"/>
                  <a:pt x="22175" y="10269"/>
                </a:cubicBezTo>
              </a:path>
              <a:path w="2060" h="1663">
                <a:moveTo>
                  <a:pt x="22151" y="9971"/>
                </a:moveTo>
                <a:cubicBezTo>
                  <a:pt x="22151" y="10065"/>
                  <a:pt x="22117" y="10463"/>
                  <a:pt x="22175" y="10443"/>
                </a:cubicBezTo>
              </a:path>
              <a:path w="2060" h="1663">
                <a:moveTo>
                  <a:pt x="22448" y="9996"/>
                </a:moveTo>
                <a:cubicBezTo>
                  <a:pt x="22418" y="10141"/>
                  <a:pt x="22410" y="10248"/>
                  <a:pt x="22423" y="10393"/>
                </a:cubicBezTo>
                <a:cubicBezTo>
                  <a:pt x="22634" y="10393"/>
                  <a:pt x="22903" y="10287"/>
                  <a:pt x="22696" y="10021"/>
                </a:cubicBezTo>
                <a:cubicBezTo>
                  <a:pt x="22577" y="9950"/>
                  <a:pt x="22542" y="9924"/>
                  <a:pt x="22448" y="9971"/>
                </a:cubicBezTo>
              </a:path>
              <a:path w="2060" h="1663">
                <a:moveTo>
                  <a:pt x="23093" y="9699"/>
                </a:moveTo>
                <a:cubicBezTo>
                  <a:pt x="23178" y="9671"/>
                  <a:pt x="23213" y="9658"/>
                  <a:pt x="23267" y="9624"/>
                </a:cubicBezTo>
              </a:path>
              <a:path w="2060" h="1663">
                <a:moveTo>
                  <a:pt x="22994" y="9996"/>
                </a:moveTo>
                <a:cubicBezTo>
                  <a:pt x="23035" y="9980"/>
                  <a:pt x="23077" y="9963"/>
                  <a:pt x="23118" y="9947"/>
                </a:cubicBezTo>
              </a:path>
              <a:path w="2060" h="1663">
                <a:moveTo>
                  <a:pt x="23391" y="9103"/>
                </a:moveTo>
                <a:cubicBezTo>
                  <a:pt x="23413" y="9060"/>
                  <a:pt x="23417" y="9049"/>
                  <a:pt x="23440" y="9029"/>
                </a:cubicBezTo>
                <a:cubicBezTo>
                  <a:pt x="23440" y="9070"/>
                  <a:pt x="23415" y="9208"/>
                  <a:pt x="23465" y="9203"/>
                </a:cubicBezTo>
                <a:cubicBezTo>
                  <a:pt x="23588" y="9178"/>
                  <a:pt x="23629" y="9170"/>
                  <a:pt x="23713" y="9178"/>
                </a:cubicBezTo>
                <a:cubicBezTo>
                  <a:pt x="23729" y="9278"/>
                  <a:pt x="23715" y="9542"/>
                  <a:pt x="23540" y="9525"/>
                </a:cubicBezTo>
                <a:cubicBezTo>
                  <a:pt x="23499" y="9500"/>
                  <a:pt x="23457" y="9476"/>
                  <a:pt x="23416" y="9451"/>
                </a:cubicBezTo>
              </a:path>
              <a:path w="2060" h="1663">
                <a:moveTo>
                  <a:pt x="23366" y="9054"/>
                </a:moveTo>
                <a:cubicBezTo>
                  <a:pt x="23473" y="8934"/>
                  <a:pt x="23648" y="8846"/>
                  <a:pt x="23812" y="8806"/>
                </a:cubicBezTo>
                <a:cubicBezTo>
                  <a:pt x="23837" y="8806"/>
                  <a:pt x="23862" y="8806"/>
                  <a:pt x="23887" y="8806"/>
                </a:cubicBezTo>
              </a:path>
              <a:path w="2060" h="1663">
                <a:moveTo>
                  <a:pt x="23292" y="9500"/>
                </a:moveTo>
                <a:cubicBezTo>
                  <a:pt x="23476" y="9466"/>
                  <a:pt x="23656" y="9425"/>
                  <a:pt x="23837" y="9376"/>
                </a:cubicBezTo>
              </a:path>
              <a:path w="2060" h="1663">
                <a:moveTo>
                  <a:pt x="23763" y="9674"/>
                </a:moveTo>
                <a:cubicBezTo>
                  <a:pt x="23726" y="9601"/>
                  <a:pt x="23597" y="9611"/>
                  <a:pt x="23515" y="9624"/>
                </a:cubicBezTo>
                <a:cubicBezTo>
                  <a:pt x="23391" y="9644"/>
                  <a:pt x="23331" y="9779"/>
                  <a:pt x="23366" y="9897"/>
                </a:cubicBezTo>
                <a:cubicBezTo>
                  <a:pt x="23416" y="10067"/>
                  <a:pt x="23684" y="10022"/>
                  <a:pt x="23812" y="10071"/>
                </a:cubicBezTo>
                <a:cubicBezTo>
                  <a:pt x="23846" y="10105"/>
                  <a:pt x="23854" y="10126"/>
                  <a:pt x="23837" y="10170"/>
                </a:cubicBezTo>
                <a:cubicBezTo>
                  <a:pt x="23769" y="10222"/>
                  <a:pt x="23519" y="10395"/>
                  <a:pt x="23564" y="10145"/>
                </a:cubicBezTo>
                <a:cubicBezTo>
                  <a:pt x="23588" y="10011"/>
                  <a:pt x="23677" y="9844"/>
                  <a:pt x="23738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12000" y="4268880"/>
            <a:ext cx="1062000" cy="401400"/>
          </a:xfrm>
          <a:custGeom>
            <a:avLst/>
            <a:gdLst/>
            <a:ahLst/>
            <a:rect l="l" t="t" r="r" b="b"/>
            <a:pathLst>
              <a:path w="2953" h="1117">
                <a:moveTo>
                  <a:pt x="20464" y="12229"/>
                </a:moveTo>
                <a:cubicBezTo>
                  <a:pt x="20607" y="12167"/>
                  <a:pt x="20736" y="12279"/>
                  <a:pt x="20712" y="12452"/>
                </a:cubicBezTo>
                <a:cubicBezTo>
                  <a:pt x="20675" y="12720"/>
                  <a:pt x="20481" y="12801"/>
                  <a:pt x="20290" y="12700"/>
                </a:cubicBezTo>
                <a:cubicBezTo>
                  <a:pt x="20360" y="12504"/>
                  <a:pt x="20474" y="12524"/>
                  <a:pt x="20662" y="12626"/>
                </a:cubicBezTo>
                <a:cubicBezTo>
                  <a:pt x="20687" y="12642"/>
                  <a:pt x="20712" y="12659"/>
                  <a:pt x="20737" y="12675"/>
                </a:cubicBezTo>
              </a:path>
              <a:path w="2953" h="1117">
                <a:moveTo>
                  <a:pt x="20985" y="12204"/>
                </a:moveTo>
                <a:cubicBezTo>
                  <a:pt x="20891" y="12372"/>
                  <a:pt x="20891" y="12389"/>
                  <a:pt x="20935" y="12576"/>
                </a:cubicBezTo>
                <a:cubicBezTo>
                  <a:pt x="21044" y="12576"/>
                  <a:pt x="21470" y="12474"/>
                  <a:pt x="21258" y="12254"/>
                </a:cubicBezTo>
                <a:cubicBezTo>
                  <a:pt x="21111" y="12205"/>
                  <a:pt x="21063" y="12188"/>
                  <a:pt x="20960" y="12229"/>
                </a:cubicBezTo>
              </a:path>
              <a:path w="2953" h="1117">
                <a:moveTo>
                  <a:pt x="21382" y="12278"/>
                </a:moveTo>
                <a:cubicBezTo>
                  <a:pt x="21425" y="12438"/>
                  <a:pt x="21496" y="12706"/>
                  <a:pt x="21729" y="12551"/>
                </a:cubicBezTo>
                <a:cubicBezTo>
                  <a:pt x="22083" y="12315"/>
                  <a:pt x="21693" y="12183"/>
                  <a:pt x="21506" y="12154"/>
                </a:cubicBezTo>
              </a:path>
              <a:path w="2953" h="1117">
                <a:moveTo>
                  <a:pt x="20092" y="12923"/>
                </a:moveTo>
                <a:cubicBezTo>
                  <a:pt x="20077" y="12698"/>
                  <a:pt x="20027" y="12489"/>
                  <a:pt x="19943" y="12278"/>
                </a:cubicBezTo>
                <a:cubicBezTo>
                  <a:pt x="19913" y="12202"/>
                  <a:pt x="19891" y="12151"/>
                  <a:pt x="19869" y="12080"/>
                </a:cubicBezTo>
                <a:cubicBezTo>
                  <a:pt x="20135" y="12037"/>
                  <a:pt x="20391" y="12000"/>
                  <a:pt x="20662" y="11981"/>
                </a:cubicBezTo>
                <a:cubicBezTo>
                  <a:pt x="21099" y="11950"/>
                  <a:pt x="21565" y="11849"/>
                  <a:pt x="22002" y="11857"/>
                </a:cubicBezTo>
                <a:cubicBezTo>
                  <a:pt x="22075" y="11881"/>
                  <a:pt x="22099" y="11889"/>
                  <a:pt x="22151" y="11881"/>
                </a:cubicBezTo>
              </a:path>
              <a:path w="2953" h="1117">
                <a:moveTo>
                  <a:pt x="19546" y="12303"/>
                </a:moveTo>
                <a:cubicBezTo>
                  <a:pt x="19449" y="12329"/>
                  <a:pt x="19292" y="12322"/>
                  <a:pt x="19273" y="12427"/>
                </a:cubicBezTo>
                <a:cubicBezTo>
                  <a:pt x="19273" y="12544"/>
                  <a:pt x="19271" y="12578"/>
                  <a:pt x="19298" y="12650"/>
                </a:cubicBezTo>
                <a:cubicBezTo>
                  <a:pt x="19422" y="12609"/>
                  <a:pt x="19538" y="12555"/>
                  <a:pt x="19670" y="12650"/>
                </a:cubicBezTo>
                <a:cubicBezTo>
                  <a:pt x="19891" y="12810"/>
                  <a:pt x="19633" y="12962"/>
                  <a:pt x="19472" y="12973"/>
                </a:cubicBezTo>
                <a:cubicBezTo>
                  <a:pt x="19322" y="12951"/>
                  <a:pt x="19288" y="12949"/>
                  <a:pt x="19199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ny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s a percent, just remember that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percent means per cent or per hundr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3880" y="2057400"/>
          <a:ext cx="4064040" cy="1981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419720" y="3276720"/>
          <a:ext cx="3762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376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419720" y="4724280"/>
          <a:ext cx="404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724280"/>
                    <a:ext cx="404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848040" y="2714760"/>
            <a:ext cx="1527120" cy="536400"/>
          </a:xfrm>
          <a:custGeom>
            <a:avLst/>
            <a:gdLst/>
            <a:ahLst/>
            <a:rect l="l" t="t" r="r" b="b"/>
            <a:pathLst>
              <a:path w="4242" h="1489">
                <a:moveTo>
                  <a:pt x="11485" y="7565"/>
                </a:moveTo>
                <a:cubicBezTo>
                  <a:pt x="11401" y="7565"/>
                  <a:pt x="11288" y="7525"/>
                  <a:pt x="11212" y="7541"/>
                </a:cubicBezTo>
                <a:cubicBezTo>
                  <a:pt x="11121" y="7559"/>
                  <a:pt x="11090" y="7666"/>
                  <a:pt x="11063" y="7739"/>
                </a:cubicBezTo>
                <a:cubicBezTo>
                  <a:pt x="11041" y="7804"/>
                  <a:pt x="11033" y="7819"/>
                  <a:pt x="11038" y="7863"/>
                </a:cubicBezTo>
                <a:cubicBezTo>
                  <a:pt x="11151" y="7840"/>
                  <a:pt x="11277" y="7754"/>
                  <a:pt x="11385" y="7863"/>
                </a:cubicBezTo>
                <a:cubicBezTo>
                  <a:pt x="11534" y="8013"/>
                  <a:pt x="11167" y="8096"/>
                  <a:pt x="11112" y="8111"/>
                </a:cubicBezTo>
              </a:path>
              <a:path w="4242" h="1489">
                <a:moveTo>
                  <a:pt x="11633" y="7565"/>
                </a:moveTo>
                <a:cubicBezTo>
                  <a:pt x="11712" y="7602"/>
                  <a:pt x="11950" y="7727"/>
                  <a:pt x="11832" y="7863"/>
                </a:cubicBezTo>
                <a:cubicBezTo>
                  <a:pt x="11735" y="7975"/>
                  <a:pt x="11606" y="7954"/>
                  <a:pt x="11485" y="7938"/>
                </a:cubicBezTo>
                <a:cubicBezTo>
                  <a:pt x="11657" y="7846"/>
                  <a:pt x="11705" y="7836"/>
                  <a:pt x="11857" y="7962"/>
                </a:cubicBezTo>
              </a:path>
              <a:path w="4242" h="1489">
                <a:moveTo>
                  <a:pt x="10691" y="8334"/>
                </a:moveTo>
                <a:cubicBezTo>
                  <a:pt x="10935" y="8284"/>
                  <a:pt x="11186" y="8250"/>
                  <a:pt x="11435" y="8235"/>
                </a:cubicBezTo>
                <a:cubicBezTo>
                  <a:pt x="11541" y="8229"/>
                  <a:pt x="11651" y="8235"/>
                  <a:pt x="11757" y="8235"/>
                </a:cubicBezTo>
              </a:path>
              <a:path w="4242" h="1489">
                <a:moveTo>
                  <a:pt x="10840" y="8533"/>
                </a:moveTo>
                <a:cubicBezTo>
                  <a:pt x="10780" y="8641"/>
                  <a:pt x="10720" y="8735"/>
                  <a:pt x="10691" y="8855"/>
                </a:cubicBezTo>
              </a:path>
              <a:path w="4242" h="1489">
                <a:moveTo>
                  <a:pt x="11137" y="8558"/>
                </a:moveTo>
                <a:cubicBezTo>
                  <a:pt x="11067" y="8649"/>
                  <a:pt x="11050" y="8666"/>
                  <a:pt x="11038" y="8781"/>
                </a:cubicBezTo>
                <a:cubicBezTo>
                  <a:pt x="11177" y="8763"/>
                  <a:pt x="11370" y="8707"/>
                  <a:pt x="11336" y="8508"/>
                </a:cubicBezTo>
                <a:cubicBezTo>
                  <a:pt x="11330" y="8470"/>
                  <a:pt x="11188" y="8462"/>
                  <a:pt x="11162" y="8458"/>
                </a:cubicBezTo>
              </a:path>
              <a:path w="4242" h="1489">
                <a:moveTo>
                  <a:pt x="11584" y="8434"/>
                </a:moveTo>
                <a:cubicBezTo>
                  <a:pt x="11539" y="8540"/>
                  <a:pt x="11502" y="8622"/>
                  <a:pt x="11485" y="8731"/>
                </a:cubicBezTo>
                <a:cubicBezTo>
                  <a:pt x="11632" y="8754"/>
                  <a:pt x="11782" y="8721"/>
                  <a:pt x="11807" y="8533"/>
                </a:cubicBezTo>
                <a:cubicBezTo>
                  <a:pt x="11824" y="8402"/>
                  <a:pt x="11696" y="8393"/>
                  <a:pt x="11609" y="8359"/>
                </a:cubicBezTo>
              </a:path>
              <a:path w="4242" h="1489">
                <a:moveTo>
                  <a:pt x="12254" y="8161"/>
                </a:moveTo>
                <a:cubicBezTo>
                  <a:pt x="12305" y="8142"/>
                  <a:pt x="12324" y="8136"/>
                  <a:pt x="12378" y="8136"/>
                </a:cubicBezTo>
              </a:path>
              <a:path w="4242" h="1489">
                <a:moveTo>
                  <a:pt x="12179" y="8359"/>
                </a:moveTo>
                <a:cubicBezTo>
                  <a:pt x="12256" y="8346"/>
                  <a:pt x="12322" y="8334"/>
                  <a:pt x="12402" y="8334"/>
                </a:cubicBezTo>
              </a:path>
              <a:path w="4242" h="1489">
                <a:moveTo>
                  <a:pt x="12328" y="8210"/>
                </a:moveTo>
                <a:cubicBezTo>
                  <a:pt x="12361" y="8210"/>
                  <a:pt x="12377" y="8210"/>
                  <a:pt x="12402" y="8210"/>
                </a:cubicBezTo>
              </a:path>
              <a:path w="4242" h="1489">
                <a:moveTo>
                  <a:pt x="12923" y="7689"/>
                </a:moveTo>
                <a:cubicBezTo>
                  <a:pt x="12962" y="7621"/>
                  <a:pt x="12948" y="7626"/>
                  <a:pt x="13022" y="7615"/>
                </a:cubicBezTo>
                <a:cubicBezTo>
                  <a:pt x="13102" y="7761"/>
                  <a:pt x="13079" y="7865"/>
                  <a:pt x="12923" y="7962"/>
                </a:cubicBezTo>
                <a:cubicBezTo>
                  <a:pt x="12856" y="7985"/>
                  <a:pt x="12838" y="7996"/>
                  <a:pt x="12799" y="7962"/>
                </a:cubicBezTo>
                <a:cubicBezTo>
                  <a:pt x="12900" y="7918"/>
                  <a:pt x="12911" y="7923"/>
                  <a:pt x="13022" y="7938"/>
                </a:cubicBezTo>
              </a:path>
              <a:path w="4242" h="1489">
                <a:moveTo>
                  <a:pt x="13221" y="7565"/>
                </a:moveTo>
                <a:cubicBezTo>
                  <a:pt x="13211" y="7665"/>
                  <a:pt x="13149" y="7787"/>
                  <a:pt x="13171" y="7888"/>
                </a:cubicBezTo>
                <a:cubicBezTo>
                  <a:pt x="13193" y="7986"/>
                  <a:pt x="13358" y="7978"/>
                  <a:pt x="13419" y="7938"/>
                </a:cubicBezTo>
                <a:cubicBezTo>
                  <a:pt x="13498" y="7887"/>
                  <a:pt x="13472" y="7830"/>
                  <a:pt x="13444" y="7789"/>
                </a:cubicBezTo>
                <a:cubicBezTo>
                  <a:pt x="13359" y="7821"/>
                  <a:pt x="13358" y="7846"/>
                  <a:pt x="13320" y="7938"/>
                </a:cubicBezTo>
              </a:path>
              <a:path w="4242" h="1489">
                <a:moveTo>
                  <a:pt x="12824" y="8186"/>
                </a:moveTo>
                <a:cubicBezTo>
                  <a:pt x="12972" y="8158"/>
                  <a:pt x="13119" y="8140"/>
                  <a:pt x="13271" y="8136"/>
                </a:cubicBezTo>
                <a:cubicBezTo>
                  <a:pt x="13367" y="8134"/>
                  <a:pt x="13428" y="8134"/>
                  <a:pt x="13519" y="8111"/>
                </a:cubicBezTo>
              </a:path>
              <a:path w="4242" h="1489">
                <a:moveTo>
                  <a:pt x="12973" y="8359"/>
                </a:moveTo>
                <a:cubicBezTo>
                  <a:pt x="12821" y="8321"/>
                  <a:pt x="12785" y="8266"/>
                  <a:pt x="12750" y="8434"/>
                </a:cubicBezTo>
                <a:cubicBezTo>
                  <a:pt x="12750" y="8450"/>
                  <a:pt x="12750" y="8467"/>
                  <a:pt x="12750" y="8483"/>
                </a:cubicBezTo>
                <a:cubicBezTo>
                  <a:pt x="12849" y="8475"/>
                  <a:pt x="12894" y="8428"/>
                  <a:pt x="12948" y="8508"/>
                </a:cubicBezTo>
                <a:cubicBezTo>
                  <a:pt x="12870" y="8586"/>
                  <a:pt x="12825" y="8599"/>
                  <a:pt x="12725" y="8533"/>
                </a:cubicBezTo>
              </a:path>
              <a:path w="4242" h="1489">
                <a:moveTo>
                  <a:pt x="13196" y="8334"/>
                </a:moveTo>
                <a:cubicBezTo>
                  <a:pt x="13159" y="8409"/>
                  <a:pt x="13146" y="8448"/>
                  <a:pt x="13146" y="8533"/>
                </a:cubicBezTo>
                <a:cubicBezTo>
                  <a:pt x="13249" y="8507"/>
                  <a:pt x="13311" y="8492"/>
                  <a:pt x="13395" y="8434"/>
                </a:cubicBezTo>
                <a:cubicBezTo>
                  <a:pt x="13379" y="8352"/>
                  <a:pt x="13358" y="8307"/>
                  <a:pt x="13271" y="8285"/>
                </a:cubicBezTo>
                <a:cubicBezTo>
                  <a:pt x="13219" y="8285"/>
                  <a:pt x="13201" y="8286"/>
                  <a:pt x="13171" y="8310"/>
                </a:cubicBezTo>
              </a:path>
              <a:path w="4242" h="1489">
                <a:moveTo>
                  <a:pt x="13717" y="8111"/>
                </a:moveTo>
                <a:cubicBezTo>
                  <a:pt x="13771" y="8118"/>
                  <a:pt x="13812" y="8129"/>
                  <a:pt x="13866" y="8136"/>
                </a:cubicBezTo>
              </a:path>
              <a:path w="4242" h="1489">
                <a:moveTo>
                  <a:pt x="13717" y="8334"/>
                </a:moveTo>
                <a:cubicBezTo>
                  <a:pt x="13800" y="8334"/>
                  <a:pt x="13862" y="8335"/>
                  <a:pt x="13940" y="8310"/>
                </a:cubicBezTo>
              </a:path>
              <a:path w="4242" h="1489">
                <a:moveTo>
                  <a:pt x="14238" y="7689"/>
                </a:moveTo>
                <a:cubicBezTo>
                  <a:pt x="14238" y="7681"/>
                  <a:pt x="14238" y="7673"/>
                  <a:pt x="14238" y="7665"/>
                </a:cubicBezTo>
              </a:path>
              <a:path w="4242" h="1489">
                <a:moveTo>
                  <a:pt x="14238" y="7764"/>
                </a:moveTo>
                <a:cubicBezTo>
                  <a:pt x="14271" y="7909"/>
                  <a:pt x="14271" y="8008"/>
                  <a:pt x="14263" y="8161"/>
                </a:cubicBezTo>
              </a:path>
              <a:path w="4242" h="1489">
                <a:moveTo>
                  <a:pt x="14511" y="7590"/>
                </a:moveTo>
                <a:cubicBezTo>
                  <a:pt x="14606" y="7576"/>
                  <a:pt x="14758" y="7595"/>
                  <a:pt x="14635" y="7739"/>
                </a:cubicBezTo>
                <a:cubicBezTo>
                  <a:pt x="14602" y="7764"/>
                  <a:pt x="14569" y="7788"/>
                  <a:pt x="14536" y="7813"/>
                </a:cubicBezTo>
                <a:cubicBezTo>
                  <a:pt x="14632" y="7801"/>
                  <a:pt x="14876" y="7803"/>
                  <a:pt x="14734" y="7987"/>
                </a:cubicBezTo>
                <a:cubicBezTo>
                  <a:pt x="14646" y="8101"/>
                  <a:pt x="14574" y="8109"/>
                  <a:pt x="14461" y="8086"/>
                </a:cubicBezTo>
              </a:path>
              <a:path w="4242" h="1489">
                <a:moveTo>
                  <a:pt x="14163" y="8384"/>
                </a:moveTo>
                <a:cubicBezTo>
                  <a:pt x="14370" y="8360"/>
                  <a:pt x="14579" y="8305"/>
                  <a:pt x="14784" y="8260"/>
                </a:cubicBezTo>
                <a:cubicBezTo>
                  <a:pt x="14868" y="8239"/>
                  <a:pt x="14887" y="8223"/>
                  <a:pt x="14932" y="8260"/>
                </a:cubicBezTo>
              </a:path>
              <a:path w="4242" h="1489">
                <a:moveTo>
                  <a:pt x="14139" y="8607"/>
                </a:moveTo>
                <a:cubicBezTo>
                  <a:pt x="14243" y="8561"/>
                  <a:pt x="14367" y="8539"/>
                  <a:pt x="14387" y="8706"/>
                </a:cubicBezTo>
                <a:cubicBezTo>
                  <a:pt x="14406" y="8871"/>
                  <a:pt x="14198" y="9064"/>
                  <a:pt x="14039" y="9029"/>
                </a:cubicBezTo>
                <a:cubicBezTo>
                  <a:pt x="14023" y="9012"/>
                  <a:pt x="14006" y="8996"/>
                  <a:pt x="13990" y="8979"/>
                </a:cubicBezTo>
                <a:cubicBezTo>
                  <a:pt x="14087" y="8869"/>
                  <a:pt x="14188" y="8841"/>
                  <a:pt x="14337" y="8880"/>
                </a:cubicBezTo>
                <a:cubicBezTo>
                  <a:pt x="14411" y="8899"/>
                  <a:pt x="14419" y="8920"/>
                  <a:pt x="14436" y="8979"/>
                </a:cubicBezTo>
              </a:path>
              <a:path w="4242" h="1489">
                <a:moveTo>
                  <a:pt x="14734" y="8533"/>
                </a:moveTo>
                <a:cubicBezTo>
                  <a:pt x="14608" y="8553"/>
                  <a:pt x="14462" y="8500"/>
                  <a:pt x="14486" y="8657"/>
                </a:cubicBezTo>
                <a:cubicBezTo>
                  <a:pt x="14494" y="8682"/>
                  <a:pt x="14503" y="8706"/>
                  <a:pt x="14511" y="8731"/>
                </a:cubicBezTo>
                <a:cubicBezTo>
                  <a:pt x="14616" y="8719"/>
                  <a:pt x="14703" y="8684"/>
                  <a:pt x="14808" y="8731"/>
                </a:cubicBezTo>
                <a:cubicBezTo>
                  <a:pt x="14903" y="8774"/>
                  <a:pt x="14860" y="8902"/>
                  <a:pt x="14784" y="8930"/>
                </a:cubicBezTo>
                <a:cubicBezTo>
                  <a:pt x="14683" y="8967"/>
                  <a:pt x="14649" y="8944"/>
                  <a:pt x="14560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41880" y="3357720"/>
            <a:ext cx="312480" cy="571320"/>
          </a:xfrm>
          <a:custGeom>
            <a:avLst/>
            <a:gdLst/>
            <a:ahLst/>
            <a:rect l="l" t="t" r="r" b="b"/>
            <a:pathLst>
              <a:path w="869" h="1588">
                <a:moveTo>
                  <a:pt x="12105" y="9550"/>
                </a:moveTo>
                <a:cubicBezTo>
                  <a:pt x="12105" y="9642"/>
                  <a:pt x="12066" y="9677"/>
                  <a:pt x="12005" y="9748"/>
                </a:cubicBezTo>
                <a:cubicBezTo>
                  <a:pt x="12120" y="9748"/>
                  <a:pt x="12213" y="9719"/>
                  <a:pt x="12328" y="9748"/>
                </a:cubicBezTo>
                <a:cubicBezTo>
                  <a:pt x="12368" y="9768"/>
                  <a:pt x="12375" y="9777"/>
                  <a:pt x="12402" y="9773"/>
                </a:cubicBezTo>
              </a:path>
              <a:path w="869" h="1588">
                <a:moveTo>
                  <a:pt x="12452" y="9327"/>
                </a:moveTo>
                <a:cubicBezTo>
                  <a:pt x="12409" y="9533"/>
                  <a:pt x="12402" y="9710"/>
                  <a:pt x="12402" y="9922"/>
                </a:cubicBezTo>
                <a:cubicBezTo>
                  <a:pt x="12402" y="9930"/>
                  <a:pt x="12402" y="9939"/>
                  <a:pt x="12402" y="9947"/>
                </a:cubicBezTo>
              </a:path>
              <a:path w="869" h="1588">
                <a:moveTo>
                  <a:pt x="11782" y="10269"/>
                </a:moveTo>
                <a:cubicBezTo>
                  <a:pt x="12075" y="10222"/>
                  <a:pt x="12352" y="10195"/>
                  <a:pt x="12650" y="10195"/>
                </a:cubicBezTo>
              </a:path>
              <a:path w="869" h="1588">
                <a:moveTo>
                  <a:pt x="12452" y="10319"/>
                </a:moveTo>
                <a:cubicBezTo>
                  <a:pt x="12382" y="10340"/>
                  <a:pt x="12196" y="10366"/>
                  <a:pt x="12154" y="10418"/>
                </a:cubicBezTo>
                <a:cubicBezTo>
                  <a:pt x="12092" y="10522"/>
                  <a:pt x="12067" y="10540"/>
                  <a:pt x="12080" y="10616"/>
                </a:cubicBezTo>
                <a:cubicBezTo>
                  <a:pt x="12188" y="10592"/>
                  <a:pt x="12329" y="10493"/>
                  <a:pt x="12452" y="10542"/>
                </a:cubicBezTo>
                <a:cubicBezTo>
                  <a:pt x="12715" y="10647"/>
                  <a:pt x="12441" y="10884"/>
                  <a:pt x="12303" y="10914"/>
                </a:cubicBezTo>
                <a:cubicBezTo>
                  <a:pt x="12135" y="10914"/>
                  <a:pt x="12083" y="10916"/>
                  <a:pt x="11981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16080" y="3848040"/>
            <a:ext cx="71640" cy="46080"/>
          </a:xfrm>
          <a:custGeom>
            <a:avLst/>
            <a:gdLst/>
            <a:ahLst/>
            <a:rect l="l" t="t" r="r" b="b"/>
            <a:pathLst>
              <a:path w="199" h="125">
                <a:moveTo>
                  <a:pt x="6028" y="10740"/>
                </a:moveTo>
                <a:cubicBezTo>
                  <a:pt x="5951" y="10696"/>
                  <a:pt x="5927" y="10722"/>
                  <a:pt x="5879" y="10790"/>
                </a:cubicBezTo>
                <a:cubicBezTo>
                  <a:pt x="5912" y="10801"/>
                  <a:pt x="6125" y="10727"/>
                  <a:pt x="6077" y="10691"/>
                </a:cubicBezTo>
                <a:cubicBezTo>
                  <a:pt x="6061" y="10699"/>
                  <a:pt x="6044" y="10708"/>
                  <a:pt x="6028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95360" y="3670200"/>
            <a:ext cx="160560" cy="2239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6796" y="10220"/>
                </a:moveTo>
                <a:cubicBezTo>
                  <a:pt x="6624" y="10195"/>
                  <a:pt x="6520" y="10242"/>
                  <a:pt x="6375" y="10344"/>
                </a:cubicBezTo>
                <a:cubicBezTo>
                  <a:pt x="6495" y="10434"/>
                  <a:pt x="6938" y="10564"/>
                  <a:pt x="6772" y="10765"/>
                </a:cubicBezTo>
                <a:cubicBezTo>
                  <a:pt x="6731" y="10782"/>
                  <a:pt x="6689" y="10798"/>
                  <a:pt x="6648" y="10815"/>
                </a:cubicBezTo>
                <a:cubicBezTo>
                  <a:pt x="6562" y="10606"/>
                  <a:pt x="6669" y="10541"/>
                  <a:pt x="6722" y="10319"/>
                </a:cubicBezTo>
                <a:cubicBezTo>
                  <a:pt x="6722" y="10302"/>
                  <a:pt x="6722" y="10286"/>
                  <a:pt x="6722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Work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0-18T18:07:12Z</dcterms:modified>
  <cp:revision>49</cp:revision>
  <dc:subject/>
  <dc:title>Unit 1 – Variables and Equations </dc:title>
</cp:coreProperties>
</file>